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798-A351-4F8F-A19A-AEBE3D4F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8EF0-FC2C-4EED-9B70-ECDA431F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CFC3-F41A-4428-B207-886E5DF3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752-AA85-4622-9A4E-D11347F2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3C88-B7F5-45BC-9AF5-C34F4CF2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776-684B-48E8-A615-F462E530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252-3E6A-4D61-836B-45D60534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FA5-E3AC-4964-871A-EB69341D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B5C-8AD9-4532-8FB0-35DB8D6B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B90-E3DD-41C5-B779-6BE1D1CC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13C-A92D-431B-98C4-F43B3E74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0101-A546-4AC7-A8A0-2A80BCB5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E872-6445-476F-8F22-5D40A8139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15840" y="519120"/>
          <a:ext cx="7743960" cy="62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19120"/>
                    <a:ext cx="7743960" cy="62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04880" y="433440"/>
          <a:ext cx="7991280" cy="628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433440"/>
                    <a:ext cx="799128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57200"/>
          <a:ext cx="8177040" cy="66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6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5560" y="557280"/>
          <a:ext cx="821376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57280"/>
                    <a:ext cx="821376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03160" y="557280"/>
          <a:ext cx="7991640" cy="653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557280"/>
                    <a:ext cx="7991640" cy="65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57280" y="743040"/>
          <a:ext cx="829944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743040"/>
                    <a:ext cx="82994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03160" y="557280"/>
          <a:ext cx="800424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557280"/>
                    <a:ext cx="800424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952560" y="754200"/>
          <a:ext cx="7508880" cy="551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754200"/>
                    <a:ext cx="7508880" cy="55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43040" y="568440"/>
          <a:ext cx="8101080" cy="72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68440"/>
                    <a:ext cx="8101080" cy="72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92280" y="717480"/>
          <a:ext cx="8140680" cy="559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17480"/>
                    <a:ext cx="814068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44680" y="506520"/>
          <a:ext cx="8200800" cy="58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06520"/>
                    <a:ext cx="820080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3040" y="519120"/>
          <a:ext cx="79167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19120"/>
                    <a:ext cx="79167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1120" y="619200"/>
          <a:ext cx="822492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619200"/>
                    <a:ext cx="822492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15840" y="519120"/>
          <a:ext cx="782964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19120"/>
                    <a:ext cx="78296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30360" y="506520"/>
          <a:ext cx="8226360" cy="61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06520"/>
                    <a:ext cx="8226360" cy="61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642960"/>
          <a:ext cx="77929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642960"/>
                    <a:ext cx="77929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28720" y="668160"/>
          <a:ext cx="8004240" cy="561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68160"/>
                    <a:ext cx="8004240" cy="56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18:37:05Z</dcterms:created>
  <dc:creator>jalvarez</dc:creator>
  <dc:description/>
  <dc:language>en-US</dc:language>
  <cp:lastModifiedBy>jalvarez</cp:lastModifiedBy>
  <cp:lastPrinted>2005-07-26T21:47:06Z</cp:lastPrinted>
  <dcterms:modified xsi:type="dcterms:W3CDTF">2005-07-27T20:24:26Z</dcterms:modified>
  <cp:revision>6</cp:revision>
  <dc:subject/>
  <dc:title>Sin título de diapositiva</dc:title>
</cp:coreProperties>
</file>