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349-7228-4A19-8A1C-DD446CB0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B5D-2CE5-4BC1-A5F2-28BE79B8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FF4-8D9A-4FDE-80E4-3C04504A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9D0-9B41-43A1-90FE-4B75A00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3DF-5793-485E-BA9B-A795C6CB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965-F526-400F-A21A-DDABEC4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9F8-E2A6-4AA6-831D-BF4EC31C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AFB-1D08-4675-AF51-9FB2516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45A-7AA9-4127-AACC-A50EFF10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CC6-D341-4D9B-89FE-50B5C4F9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E65-D30E-420A-BAD6-24D01B4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943-C19A-4780-9640-8DFE214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738F-0192-4022-A976-6FE1BB569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5840" y="519120"/>
          <a:ext cx="774396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74396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4880" y="433440"/>
          <a:ext cx="799128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33440"/>
                    <a:ext cx="799128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557280"/>
          <a:ext cx="821376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1376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3160" y="557280"/>
          <a:ext cx="799164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799164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57280" y="743040"/>
          <a:ext cx="82994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43040"/>
                    <a:ext cx="82994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557280"/>
          <a:ext cx="80042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80042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754200"/>
          <a:ext cx="7508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508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68440"/>
          <a:ext cx="8101080" cy="72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101080" cy="72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717480"/>
          <a:ext cx="814068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17480"/>
                    <a:ext cx="814068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06520"/>
          <a:ext cx="820080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06520"/>
                    <a:ext cx="82008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5191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619200"/>
          <a:ext cx="82249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249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5840" y="519120"/>
          <a:ext cx="78296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82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06520"/>
          <a:ext cx="822636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822636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9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9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68160"/>
          <a:ext cx="8004240" cy="56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68160"/>
                    <a:ext cx="8004240" cy="56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5-07-26T21:47:06Z</cp:lastPrinted>
  <dcterms:modified xsi:type="dcterms:W3CDTF">2005-07-27T20:24:26Z</dcterms:modified>
  <cp:revision>6</cp:revision>
  <dc:subject/>
  <dc:title>Sin título de diapositiva</dc:title>
</cp:coreProperties>
</file>