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B1A2-4137-47DF-9207-1C942ECED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DC03-B956-4065-A3B1-1974737B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2CC3-83C0-4410-8127-013E08149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150A-E067-4DD9-95B2-90CEF5B5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831C-34F1-4AC1-8E46-BAAC35F3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7988-A7FC-464C-AFF3-7E4296AC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76E8-967E-4CDB-984B-EF5F5223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DDF9-98C3-410E-91A9-5A1DBD28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EDB0-55B5-4FF4-9B4E-3658B938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1143-727E-4BD7-A022-D4C1AAA5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E97B-436F-4AB4-96FF-4D594515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B810-D562-486D-9B21-B322A6D9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6EE9-FD7B-41DD-9903-1E08F5D8A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6600" y="619200"/>
          <a:ext cx="8040600" cy="598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19200"/>
                    <a:ext cx="804060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8280" y="630360"/>
          <a:ext cx="8969400" cy="593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" y="630360"/>
                    <a:ext cx="8969400" cy="59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20840" y="717480"/>
          <a:ext cx="860904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717480"/>
                    <a:ext cx="860904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33440" y="630360"/>
          <a:ext cx="813924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630360"/>
                    <a:ext cx="813924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84120" y="557280"/>
          <a:ext cx="8596440" cy="62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557280"/>
                    <a:ext cx="8596440" cy="62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30080" y="630360"/>
          <a:ext cx="8250480" cy="57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630360"/>
                    <a:ext cx="8250480" cy="57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09520" y="681120"/>
          <a:ext cx="8832960" cy="570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681120"/>
                    <a:ext cx="8832960" cy="57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19120" y="606600"/>
          <a:ext cx="8474040" cy="60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606600"/>
                    <a:ext cx="8474040" cy="60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97000" y="593640"/>
          <a:ext cx="8621640" cy="690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593640"/>
                    <a:ext cx="8621640" cy="690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95280" y="606600"/>
          <a:ext cx="847404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06600"/>
                    <a:ext cx="84740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49400" y="630360"/>
          <a:ext cx="8893080" cy="743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" y="630360"/>
                    <a:ext cx="8893080" cy="743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19:31:00Z</dcterms:created>
  <dc:creator>jalvarez</dc:creator>
  <dc:description/>
  <dc:language>en-US</dc:language>
  <cp:lastModifiedBy>jalvarez</cp:lastModifiedBy>
  <cp:lastPrinted>2005-05-03T21:14:16Z</cp:lastPrinted>
  <dcterms:modified xsi:type="dcterms:W3CDTF">2005-05-04T17:04:15Z</dcterms:modified>
  <cp:revision>13</cp:revision>
  <dc:subject/>
  <dc:title>Sin título de diapositiva</dc:title>
</cp:coreProperties>
</file>