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12D4-844A-4973-9303-4E0764F15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EFCF-12B2-4B5F-86A7-D8CAC448A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164E-A5F6-4F5E-BD36-9B9DDB5DC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5C4D-EAD0-4225-87E6-ECE33DF7A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7471-D1E3-4DF0-83C0-E540F8FB7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0C57-49BA-4289-9306-743BA5001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B8E0-E5E2-43AB-8A50-179CFC0E9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D170-E06F-4652-93C2-C55C59A30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9011-F003-4D0A-B71C-585FA57A8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F3F7-9A24-44D1-86D3-5522E07B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FA8E-311A-4445-B048-E67C6622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8949-5BAD-44B2-B850-758347DA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13D47-4C5F-4BF9-A785-5263CB7772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06600" y="619200"/>
          <a:ext cx="8040600" cy="598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619200"/>
                    <a:ext cx="8040600" cy="59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98280" y="630360"/>
          <a:ext cx="8969400" cy="593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280" y="630360"/>
                    <a:ext cx="8969400" cy="59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20840" y="717480"/>
          <a:ext cx="860904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717480"/>
                    <a:ext cx="860904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33440" y="630360"/>
          <a:ext cx="8139240" cy="582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630360"/>
                    <a:ext cx="8139240" cy="58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84120" y="557280"/>
          <a:ext cx="8596440" cy="628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557280"/>
                    <a:ext cx="8596440" cy="62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730080" y="630360"/>
          <a:ext cx="8250480" cy="570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080" y="630360"/>
                    <a:ext cx="8250480" cy="57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209520" y="681120"/>
          <a:ext cx="8832960" cy="570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681120"/>
                    <a:ext cx="8832960" cy="57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19120" y="606600"/>
          <a:ext cx="8474040" cy="601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606600"/>
                    <a:ext cx="8474040" cy="60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97000" y="593640"/>
          <a:ext cx="8621640" cy="6902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000" y="593640"/>
                    <a:ext cx="8621640" cy="690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95280" y="606600"/>
          <a:ext cx="8474040" cy="59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606600"/>
                    <a:ext cx="847404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49400" y="630360"/>
          <a:ext cx="8893080" cy="743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400" y="630360"/>
                    <a:ext cx="8893080" cy="743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3T19:31:00Z</dcterms:created>
  <dc:creator>jalvarez</dc:creator>
  <dc:description/>
  <dc:language>en-US</dc:language>
  <cp:lastModifiedBy>jalvarez</cp:lastModifiedBy>
  <cp:lastPrinted>2005-05-03T21:14:16Z</cp:lastPrinted>
  <dcterms:modified xsi:type="dcterms:W3CDTF">2005-05-04T17:04:15Z</dcterms:modified>
  <cp:revision>13</cp:revision>
  <dc:subject/>
  <dc:title>Sin título de diapositiva</dc:title>
</cp:coreProperties>
</file>