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18B0-925A-4363-BF20-2C2B72055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E5EB-A5D2-4C0F-8323-B1676351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1650-7B75-4AF7-ACB2-ACA72FBF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61AD-AB26-4ED8-8FC5-14702B426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E1DC-15B3-482D-B263-B3C93331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B13A-867B-48AA-A1EE-B2C8FCDA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B7F3-24C7-4784-BE5E-5FB0883C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DA4F-81B3-4F43-BF37-A425945B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EC71-282E-41AF-932A-2467506E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6205-57A5-427E-9519-A75948C3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3436-6B7E-4AE9-963C-77546BB7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E339-B1C0-4525-BA7C-95C0A889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5975-5608-4D88-AB33-FB0474BDA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6600" y="619200"/>
          <a:ext cx="8040600" cy="598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19200"/>
                    <a:ext cx="804060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8280" y="630360"/>
          <a:ext cx="8969400" cy="59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" y="630360"/>
                    <a:ext cx="8969400" cy="59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20840" y="717480"/>
          <a:ext cx="860904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717480"/>
                    <a:ext cx="86090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33440" y="630360"/>
          <a:ext cx="813924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630360"/>
                    <a:ext cx="813924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84120" y="557280"/>
          <a:ext cx="8596440" cy="62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557280"/>
                    <a:ext cx="8596440" cy="62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30080" y="630360"/>
          <a:ext cx="8250480" cy="57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30360"/>
                    <a:ext cx="825048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09520" y="681120"/>
          <a:ext cx="8832960" cy="57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681120"/>
                    <a:ext cx="8832960" cy="57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9120" y="606600"/>
          <a:ext cx="8474040" cy="60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606600"/>
                    <a:ext cx="8474040" cy="60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97000" y="593640"/>
          <a:ext cx="8621640" cy="690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593640"/>
                    <a:ext cx="8621640" cy="690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95280" y="606600"/>
          <a:ext cx="847404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06600"/>
                    <a:ext cx="84740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49400" y="630360"/>
          <a:ext cx="8893080" cy="743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" y="630360"/>
                    <a:ext cx="8893080" cy="743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9:31:00Z</dcterms:created>
  <dc:creator>jalvarez</dc:creator>
  <dc:description/>
  <dc:language>en-US</dc:language>
  <cp:lastModifiedBy>jalvarez</cp:lastModifiedBy>
  <cp:lastPrinted>2005-05-03T21:14:16Z</cp:lastPrinted>
  <dcterms:modified xsi:type="dcterms:W3CDTF">2005-05-04T17:04:15Z</dcterms:modified>
  <cp:revision>13</cp:revision>
  <dc:subject/>
  <dc:title>Sin título de diapositiva</dc:title>
</cp:coreProperties>
</file>