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74F-DFBE-4E45-82CC-D2197C8E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132-98EE-46C0-A3B5-EF4B8517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62E-BF70-4F95-83EF-8EAE03F1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F4B4-B026-4D01-8EB2-1F26FBF6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AF6-3630-49B1-9081-094CA151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9E9-D284-431D-A114-16C030AE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5A7-851D-4D5B-855A-F7D9D669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B42-C9AC-4798-97A7-EA2A04BE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70AF-CD80-4757-879B-50DD8458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433-EEAD-48AE-A388-92F24C43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CB0A-17E0-4C14-9762-7B7A62E1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198-6C1E-4F57-9CA2-7666C2C8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34BD-8CE6-481E-9AEE-EDD11D239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17480" y="841320"/>
          <a:ext cx="81518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841320"/>
                    <a:ext cx="81518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65080" y="692280"/>
          <a:ext cx="75837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5837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39960" y="717480"/>
          <a:ext cx="741024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4102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76400" y="816120"/>
          <a:ext cx="7372440" cy="52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16120"/>
                    <a:ext cx="737244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41320" y="803160"/>
          <a:ext cx="8028000" cy="572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803160"/>
                    <a:ext cx="802800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581040"/>
          <a:ext cx="779328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81040"/>
                    <a:ext cx="779328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593640"/>
          <a:ext cx="764388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93640"/>
                    <a:ext cx="764388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27080" y="890640"/>
          <a:ext cx="76690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90640"/>
                    <a:ext cx="7669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uble toDoubl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doubl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toInt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palindrom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orme(“rada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numerico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numerico(“123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reemplazar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4200" y="681120"/>
          <a:ext cx="804060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04060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2080" y="841320"/>
          <a:ext cx="725004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841320"/>
                    <a:ext cx="725004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1600" y="803160"/>
          <a:ext cx="76564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803160"/>
                    <a:ext cx="76564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878040"/>
          <a:ext cx="74962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78040"/>
                    <a:ext cx="74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06600" y="692280"/>
          <a:ext cx="82008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008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79400" y="841320"/>
          <a:ext cx="810252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841320"/>
                    <a:ext cx="81025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5-04-01T16:17:47Z</cp:lastPrinted>
  <dcterms:modified xsi:type="dcterms:W3CDTF">2005-04-04T15:22:01Z</dcterms:modified>
  <cp:revision>13</cp:revision>
  <dc:subject/>
  <dc:title>Sin título de diapositiva</dc:title>
</cp:coreProperties>
</file>