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D2AB-E763-4DCA-9356-C98DF24B2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CA41-9E2C-436E-90FE-926AE68F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BDFA-3BA7-4804-B6FA-0A4F55D90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307C-A739-4753-B292-799D976A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8A7F-AAD9-4982-8D13-8AAF5105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2F0C-9A9E-4AAC-B656-058E8E5C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D544-25CD-493E-B3DB-D7752ED7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C5B5-B8C9-47E7-81CB-378FD1F0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3F64-251B-4951-AB54-6B79D4B5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0604-77B3-469A-8349-0AB84086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8ADB-F403-4C71-A801-C0C4F3FF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99BA-E081-43CB-8846-8E34496A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84D7-AD09-4D1E-80F3-EC7DBB782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49200" y="965160"/>
          <a:ext cx="7236000" cy="531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965160"/>
                    <a:ext cx="7236000" cy="53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17480" y="841320"/>
          <a:ext cx="815184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841320"/>
                    <a:ext cx="815184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865080" y="692280"/>
          <a:ext cx="758376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692280"/>
                    <a:ext cx="758376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939960" y="717480"/>
          <a:ext cx="741024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717480"/>
                    <a:ext cx="74102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076400" y="816120"/>
          <a:ext cx="7372440" cy="52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816120"/>
                    <a:ext cx="7372440" cy="52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841320" y="803160"/>
          <a:ext cx="8028000" cy="572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803160"/>
                    <a:ext cx="8028000" cy="572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92000" y="581040"/>
          <a:ext cx="7793280" cy="57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581040"/>
                    <a:ext cx="779328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915840" y="593640"/>
          <a:ext cx="7643880" cy="587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593640"/>
                    <a:ext cx="764388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027080" y="890640"/>
          <a:ext cx="766908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890640"/>
                    <a:ext cx="76690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uble toDouble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toString(double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t toInt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toString(int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palindrome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palindorme(“radar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numerico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numerico(“123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reemplazar(String x,String y,String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reemplazar(“abcde”,”bc”,”BC”)=“aBC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41320" y="915840"/>
          <a:ext cx="7718400" cy="530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915840"/>
                    <a:ext cx="7718400" cy="530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54200" y="681120"/>
          <a:ext cx="8040600" cy="61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81120"/>
                    <a:ext cx="8040600" cy="61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162080" y="841320"/>
          <a:ext cx="725004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2080" y="841320"/>
                    <a:ext cx="725004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101600" y="803160"/>
          <a:ext cx="765648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803160"/>
                    <a:ext cx="765648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50840" y="878040"/>
          <a:ext cx="749628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878040"/>
                    <a:ext cx="749628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841320" y="642960"/>
          <a:ext cx="5702400" cy="786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42960"/>
                    <a:ext cx="5702400" cy="786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606600" y="692280"/>
          <a:ext cx="8200800" cy="8386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692280"/>
                    <a:ext cx="8200800" cy="83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606600" y="816120"/>
          <a:ext cx="8064360" cy="5432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816120"/>
                    <a:ext cx="8064360" cy="54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79400" y="841320"/>
          <a:ext cx="810252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841320"/>
                    <a:ext cx="810252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2:56:39Z</dcterms:created>
  <dc:creator>jalvarez</dc:creator>
  <dc:description/>
  <dc:language>en-US</dc:language>
  <cp:lastModifiedBy>jalvarez</cp:lastModifiedBy>
  <cp:lastPrinted>2005-04-01T16:17:47Z</cp:lastPrinted>
  <dcterms:modified xsi:type="dcterms:W3CDTF">2005-04-04T15:22:01Z</dcterms:modified>
  <cp:revision>13</cp:revision>
  <dc:subject/>
  <dc:title>Sin título de diapositiva</dc:title>
</cp:coreProperties>
</file>