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8F5C-3085-4ED8-A040-63BE37EE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7286-6D68-4CBA-B5BA-EB3D789E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829A-8D22-4D4B-B77D-39493BDB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30B1-1749-4582-996D-A4CB309FA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6DA1-EFE3-4FA9-B08C-666AE41F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2D04-DD6B-4653-BDB9-0779373D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A4C8-7B8D-4C02-907D-4E849EF2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B2C3-366A-473B-AAFD-119C7FA7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FD56-5ECC-4EB0-B9A7-7FADA6FE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432C-51DE-428B-9D8F-E946D944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9AE0-EB42-4A22-8E5A-745703C4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9071-93EA-4512-944D-9AE9ADAD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E899-40AB-44FD-861B-F529C0EBC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49200" y="965160"/>
          <a:ext cx="7236000" cy="531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965160"/>
                    <a:ext cx="7236000" cy="53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17480" y="841320"/>
          <a:ext cx="815184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841320"/>
                    <a:ext cx="815184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65080" y="692280"/>
          <a:ext cx="758376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92280"/>
                    <a:ext cx="758376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939960" y="717480"/>
          <a:ext cx="741024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17480"/>
                    <a:ext cx="74102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076400" y="816120"/>
          <a:ext cx="7372440" cy="52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816120"/>
                    <a:ext cx="7372440" cy="52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841320" y="803160"/>
          <a:ext cx="8028000" cy="572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803160"/>
                    <a:ext cx="8028000" cy="572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92000" y="581040"/>
          <a:ext cx="7793280" cy="57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581040"/>
                    <a:ext cx="779328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915840" y="593640"/>
          <a:ext cx="764388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593640"/>
                    <a:ext cx="764388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027080" y="890640"/>
          <a:ext cx="766908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890640"/>
                    <a:ext cx="76690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uble toDouble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toString(double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 toInt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toString(int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palindrome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palindorme(“rada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numerico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numerico(“123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reemplazar(String x,String y,String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reemplazar(“abcde”,”bc”,”BC”)=“aBC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41320" y="915840"/>
          <a:ext cx="7718400" cy="530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915840"/>
                    <a:ext cx="7718400" cy="530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54200" y="681120"/>
          <a:ext cx="8040600" cy="61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81120"/>
                    <a:ext cx="8040600" cy="61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162080" y="841320"/>
          <a:ext cx="725004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2080" y="841320"/>
                    <a:ext cx="725004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101600" y="803160"/>
          <a:ext cx="765648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803160"/>
                    <a:ext cx="765648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50840" y="878040"/>
          <a:ext cx="749628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78040"/>
                    <a:ext cx="749628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41320" y="642960"/>
          <a:ext cx="5702400" cy="786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42960"/>
                    <a:ext cx="5702400" cy="786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606600" y="692280"/>
          <a:ext cx="8200800" cy="838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692280"/>
                    <a:ext cx="8200800" cy="83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06600" y="816120"/>
          <a:ext cx="8064360" cy="5432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816120"/>
                    <a:ext cx="8064360" cy="54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79400" y="841320"/>
          <a:ext cx="810252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841320"/>
                    <a:ext cx="810252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5-04-01T16:17:47Z</cp:lastPrinted>
  <dcterms:modified xsi:type="dcterms:W3CDTF">2005-04-04T15:22:01Z</dcterms:modified>
  <cp:revision>13</cp:revision>
  <dc:subject/>
  <dc:title>Sin título de diapositiva</dc:title>
</cp:coreProperties>
</file>