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DFF-2F35-4F39-9151-9F35A5F6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DAF7-DDE2-4706-915A-37B07AAA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E74-5C05-4E56-9E86-6BF4BF55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B93-44FC-4B8E-812C-C37AD4A1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7819-4444-4EDD-8158-C9B09BE0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C03C-30A3-4EF9-BD96-09A57E71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CE5D-17D5-4300-8406-3D9E3C28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CE10-E10A-42F6-95B5-0657C5CA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6E9F-7FC0-4698-991A-01DC81A9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16D1-1320-4E68-9154-A1A52B6F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1120-13FA-4115-B9EE-690CD72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AF7-5D4B-48BE-BF32-6CB9F45E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88BB-2FD6-41FD-8AA7-0594A3A9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AC7D-B67D-49C3-A8B9-023ECC3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7905-D6BE-462C-AAC8-2B18A1A9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3F91-1CC8-4C80-8A7B-3262A55F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0C51-DE7F-4308-8DD5-8EF5BE89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0ED-3590-45E9-899C-81DB5A93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D1A-02D0-454B-9FEA-48E8F06F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53E-48D4-4B9C-A4A9-D1983577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399-4D42-40E5-8DFA-39109A98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5CE-FAA5-4B2F-9A03-9D428CA2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893-39C1-4859-BD17-08DE10C3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93E-15EA-46B2-A08F-215D66FF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65C6-5B45-46A8-9ED0-E24151279B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6662-A8E1-4613-B805-5FA0D9C4ACC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0574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SEMINARIO DE INDU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AL CURSO SD20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TERMINACION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990720"/>
            <a:ext cx="7848360" cy="57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0.-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quipo, Tareas,  Coordinación,  Cumpl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1.-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Definición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uál es el proyecto o desafí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 qué consis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uál es su nombre?  ; Título – Descrip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pósi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qué?  ;  Con que  Objeto?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stablecer un objetivo claro y preciso, alineado con el desafí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(Establecer y definir: Partícipes,Cliente Final,Entorno,Sistem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3.-  Resultados Esperados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los partícipes en el pro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cliente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ara e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os resultados deben ser:Posibles,Medibles y no contamin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Exentos o de bajo riesgo obje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-  Directos de la materialización del desafí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7772400" cy="70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4.-  Modelo de la “ Idea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lantear, Bosquejar,Diagram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tidades y Rel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roductos y servic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5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Validación de la Propuest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mprobar en el “mercado” los méritos de la Oferta, mediant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cue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6.-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udio de Fact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valuació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e impacto  en el amb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67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7467480" cy="57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7 .-  Diseño  de la Solu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ntidades, Relaciones, 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tegración sistémica, Funcion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oductos / serv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regación de v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8.-  Constru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9.-  Entrega  de la Solu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esentación de productos / servicios, funcionamiento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novación.  Agregación de val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*  Beneficios  *  Costos  *  Margen / R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3124080"/>
            <a:ext cx="556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iesgos 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388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EÑO DEL DESAF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447920"/>
            <a:ext cx="1905120" cy="121896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447920"/>
            <a:ext cx="1904760" cy="12189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9920" y="4724280"/>
            <a:ext cx="1904760" cy="12193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3200400"/>
            <a:ext cx="2133360" cy="1219320"/>
          </a:xfrm>
          <a:prstGeom prst="rect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ida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3716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u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438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438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2940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du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363996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cis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lu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05740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2895480"/>
            <a:ext cx="457200" cy="457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25527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4876920"/>
            <a:ext cx="457200" cy="457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65760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86400" y="236232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26668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4419720"/>
            <a:ext cx="0" cy="38088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1676520"/>
            <a:ext cx="1143000" cy="838080"/>
          </a:xfrm>
          <a:prstGeom prst="flowChartPunchedTape">
            <a:avLst/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ement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tractu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81120" y="5315040"/>
            <a:ext cx="7562880" cy="838080"/>
          </a:xfrm>
          <a:prstGeom prst="rightArrow">
            <a:avLst>
              <a:gd name="adj1" fmla="val 50000"/>
              <a:gd name="adj2" fmla="val 157420"/>
            </a:avLst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iempo y Produc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4568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ONTROL DEL PROGRESO DEL ESAF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457200"/>
            <a:ext cx="914400" cy="5486400"/>
          </a:xfrm>
          <a:prstGeom prst="upArrow">
            <a:avLst>
              <a:gd name="adj1" fmla="val 50000"/>
              <a:gd name="adj2" fmla="val 150000"/>
            </a:avLst>
          </a:prstGeom>
          <a:gradFill rotWithShape="0">
            <a:gsLst>
              <a:gs pos="0">
                <a:srgbClr val="00cccc"/>
              </a:gs>
              <a:gs pos="100000">
                <a:srgbClr val="005e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00200" y="1523520"/>
            <a:ext cx="6172200" cy="4038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949400"/>
            <a:ext cx="990360" cy="914400"/>
          </a:xfrm>
          <a:prstGeom prst="ellipse">
            <a:avLst/>
          </a:prstGeom>
          <a:solidFill>
            <a:srgbClr val="ff45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358128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8638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3733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601992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6019920"/>
            <a:ext cx="38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48769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191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3526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266688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586728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400680" y="338112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gregación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343400"/>
            <a:ext cx="6858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22120" y="838080"/>
            <a:ext cx="8769600" cy="5867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84040" y="387360"/>
            <a:ext cx="46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GRAMA Y CONTROL DE AV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37040" y="463680"/>
            <a:ext cx="580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FASES - DESARROLLO DEL EMPREND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019160"/>
            <a:ext cx="85341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28600"/>
            <a:ext cx="794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SEMINARIO DE INDUCCIÓN -  SD20A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33520"/>
            <a:ext cx="8153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990720"/>
            <a:ext cx="80931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TRABAJO DE GRUP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onda las siguientes pregun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Qué es la Ingeniería y cuál es la misión del Ingenie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se sueñan en el año 2015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14400"/>
            <a:ext cx="73152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-  Diseño - “Definición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bujo realizado con líneas para representar algo esquemáticam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fuerzo que intenta armonizar cualquier aspecto relacionado con el entorno humano, desde la concepción a la reformulación  de objetos de uso hasta el urbanismo y el habitat.  (Es la base del desarrollo del homb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914400"/>
            <a:ext cx="73152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.-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–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istoria Re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estética industrial destinada a paliar la fealdad de los objetos (rivaliza con los métodos artesanales (Arts &amp; Grafts) 188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a técnica para consumidores condicionados. (Aproxima a los artistas con el industrial (Deutscher Werkbund  1907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6672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n método global de aprehensión del espacio. (El objeto en el entorno; diseño de la forma hacia la estructura – Bauhaus – Noción de Bellez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.- 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Entendimiento del Rol del Diseño en el Mundo Real.-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590920"/>
            <a:ext cx="5029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cer frente a   la competencia - Sty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ón Producto  - Tecnología  - Ingenier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ón Servicio  -   Cliente - Marke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3276720"/>
            <a:ext cx="1981440" cy="642600"/>
          </a:xfrm>
          <a:prstGeom prst="rect">
            <a:avLst/>
          </a:prstGeom>
          <a:solidFill>
            <a:srgbClr val="ff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ducto /Usuario Servicio  / 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041520" y="2347920"/>
            <a:ext cx="1044720" cy="2466360"/>
            <a:chOff x="6041520" y="2347920"/>
            <a:chExt cx="1044720" cy="2466360"/>
          </a:xfrm>
        </p:grpSpPr>
        <p:sp>
          <p:nvSpPr>
            <p:cNvPr id="104" name=""/>
            <p:cNvSpPr/>
            <p:nvPr/>
          </p:nvSpPr>
          <p:spPr>
            <a:xfrm>
              <a:off x="6400440" y="2362320"/>
              <a:ext cx="685800" cy="243828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953600">
              <a:off x="6095520" y="2361600"/>
              <a:ext cx="685800" cy="243828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04920" y="27432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505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3434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eterminant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52280" y="1730520"/>
            <a:ext cx="54864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actores cultu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riterios esté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ables psic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2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tos técnico-econó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36920" y="1803240"/>
            <a:ext cx="1834920" cy="3783960"/>
            <a:chOff x="4336920" y="1803240"/>
            <a:chExt cx="1834920" cy="3783960"/>
          </a:xfrm>
        </p:grpSpPr>
        <p:sp>
          <p:nvSpPr>
            <p:cNvPr id="113" name=""/>
            <p:cNvSpPr/>
            <p:nvPr/>
          </p:nvSpPr>
          <p:spPr>
            <a:xfrm>
              <a:off x="4958640" y="1828800"/>
              <a:ext cx="1213200" cy="373356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953600">
              <a:off x="4419720" y="1828080"/>
              <a:ext cx="1213200" cy="3733560"/>
            </a:xfrm>
            <a:custGeom>
              <a:avLst/>
              <a:gdLst/>
              <a:ahLst/>
              <a:rect l="l" t="t" r="r" b="b"/>
              <a:pathLst>
                <a:path w="1296" h="1728">
                  <a:moveTo>
                    <a:pt x="1296" y="0"/>
                  </a:moveTo>
                  <a:cubicBezTo>
                    <a:pt x="648" y="288"/>
                    <a:pt x="0" y="576"/>
                    <a:pt x="0" y="864"/>
                  </a:cubicBezTo>
                  <a:cubicBezTo>
                    <a:pt x="0" y="1152"/>
                    <a:pt x="1080" y="1584"/>
                    <a:pt x="1296" y="1728"/>
                  </a:cubicBezTo>
                </a:path>
              </a:pathLst>
            </a:custGeom>
            <a:noFill/>
            <a:ln w="38160">
              <a:solidFill>
                <a:srgbClr val="ff45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095880" y="2133720"/>
            <a:ext cx="3048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iseño, una respuesta (síntesis) entre imperativos industriales (tecnológicos) y necesidades soci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, Reformulació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676520"/>
            <a:ext cx="6095880" cy="380880"/>
          </a:xfrm>
          <a:prstGeom prst="rect">
            <a:avLst/>
          </a:prstGeom>
          <a:solidFill>
            <a:srgbClr val="ff4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se del Desarrollo de las sociedades domina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743200"/>
            <a:ext cx="6400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mas                   Le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vilidad              Técnic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e                       Invest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ánica               Estánd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914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Diseño e Informátic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129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bjet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conjunto de mensajes, según su forma, su manejo y sus funciones, basados en códigos o convenciones, donde el sistema de comunicación en que se inserta, es el punto de partida de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formul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del obje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01004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Hoy esta REFORMULACION es tan relevante que la llamada era cibernética caracteriza el nivel de producción de bienes, servicios y la velocidad de crecimiento y expansión del conoc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247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MINARIO DE DIS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685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7.-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Modelo General para Resolv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562720"/>
            <a:ext cx="2666880" cy="974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ar / Val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crí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646280"/>
            <a:ext cx="1660320" cy="10047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Desafí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2468520"/>
            <a:ext cx="2650680" cy="1798560"/>
            <a:chOff x="549360" y="2468520"/>
            <a:chExt cx="2650680" cy="1798560"/>
          </a:xfrm>
        </p:grpSpPr>
        <p:sp>
          <p:nvSpPr>
            <p:cNvPr id="129" name=""/>
            <p:cNvSpPr/>
            <p:nvPr/>
          </p:nvSpPr>
          <p:spPr>
            <a:xfrm>
              <a:off x="549360" y="3475080"/>
              <a:ext cx="1355760" cy="79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ens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re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645920" y="2468520"/>
              <a:ext cx="1554120" cy="1006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39920" y="4419720"/>
            <a:ext cx="1555560" cy="13716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121360" y="4343400"/>
            <a:ext cx="1736640" cy="132552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4967280"/>
            <a:ext cx="144792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eneficio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grega Val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tractivida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ntaja respecto      de lo anterior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1828800"/>
            <a:ext cx="2269800" cy="1531080"/>
            <a:chOff x="228600" y="1828800"/>
            <a:chExt cx="2269800" cy="1531080"/>
          </a:xfrm>
        </p:grpSpPr>
        <p:sp>
          <p:nvSpPr>
            <p:cNvPr id="135" name=""/>
            <p:cNvSpPr/>
            <p:nvPr/>
          </p:nvSpPr>
          <p:spPr>
            <a:xfrm>
              <a:off x="228600" y="1828800"/>
              <a:ext cx="2269800" cy="10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Tecn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Factibilidad Económ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ustent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iesgos Control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Atractiv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969120" y="3017160"/>
              <a:ext cx="330120" cy="342720"/>
              <a:chOff x="969120" y="3017160"/>
              <a:chExt cx="330120" cy="342720"/>
            </a:xfrm>
          </p:grpSpPr>
          <p:sp>
            <p:nvSpPr>
              <p:cNvPr id="137" name=""/>
              <p:cNvSpPr/>
              <p:nvPr/>
            </p:nvSpPr>
            <p:spPr>
              <a:xfrm>
                <a:off x="1109160" y="3017160"/>
                <a:ext cx="0" cy="2077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92320" y="3017160"/>
                <a:ext cx="0" cy="2077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69120" y="3213720"/>
                <a:ext cx="189000" cy="13824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1144800" y="3183480"/>
                <a:ext cx="154440" cy="17640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473040" y="4491720"/>
            <a:ext cx="1736640" cy="2061360"/>
            <a:chOff x="473040" y="4491720"/>
            <a:chExt cx="1736640" cy="2061360"/>
          </a:xfrm>
        </p:grpSpPr>
        <p:sp>
          <p:nvSpPr>
            <p:cNvPr id="142" name=""/>
            <p:cNvSpPr/>
            <p:nvPr/>
          </p:nvSpPr>
          <p:spPr>
            <a:xfrm>
              <a:off x="473040" y="5181480"/>
              <a:ext cx="1736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Obser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nsibilidad con el med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nnov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Imagin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01520" indent="-10152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Realism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027080" y="4491720"/>
              <a:ext cx="252000" cy="446760"/>
              <a:chOff x="1027080" y="4491720"/>
              <a:chExt cx="252000" cy="446760"/>
            </a:xfrm>
          </p:grpSpPr>
          <p:sp>
            <p:nvSpPr>
              <p:cNvPr id="144" name=""/>
              <p:cNvSpPr/>
              <p:nvPr/>
            </p:nvSpPr>
            <p:spPr>
              <a:xfrm flipV="1">
                <a:off x="1206360" y="4664160"/>
                <a:ext cx="0" cy="2728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127160" y="4663800"/>
                <a:ext cx="0" cy="27468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1142640" y="4493880"/>
                <a:ext cx="136440" cy="16812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1027080" y="4491720"/>
                <a:ext cx="137880" cy="218160"/>
              </a:xfrm>
              <a:prstGeom prst="line">
                <a:avLst/>
              </a:prstGeom>
              <a:ln w="28440">
                <a:solidFill>
                  <a:srgbClr val="ff4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4800600" y="4191120"/>
            <a:ext cx="1295280" cy="380880"/>
          </a:xfrm>
          <a:prstGeom prst="ellipse">
            <a:avLst/>
          </a:prstGeom>
          <a:solidFill>
            <a:srgbClr val="ff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olunt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2666880"/>
            <a:ext cx="3031920" cy="1600200"/>
            <a:chOff x="1905120" y="2666880"/>
            <a:chExt cx="3031920" cy="1600200"/>
          </a:xfrm>
        </p:grpSpPr>
        <p:grpSp>
          <p:nvGrpSpPr>
            <p:cNvPr id="150" name=""/>
            <p:cNvGrpSpPr/>
            <p:nvPr/>
          </p:nvGrpSpPr>
          <p:grpSpPr>
            <a:xfrm>
              <a:off x="3505320" y="2666880"/>
              <a:ext cx="1431720" cy="1600200"/>
              <a:chOff x="3505320" y="2666880"/>
              <a:chExt cx="1431720" cy="1600200"/>
            </a:xfrm>
          </p:grpSpPr>
          <p:sp>
            <p:nvSpPr>
              <p:cNvPr id="151" name=""/>
              <p:cNvSpPr/>
              <p:nvPr/>
            </p:nvSpPr>
            <p:spPr>
              <a:xfrm>
                <a:off x="3505320" y="3352680"/>
                <a:ext cx="1431720" cy="9144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rs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Convenc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114800" y="2666880"/>
                <a:ext cx="0" cy="73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905120" y="3809880"/>
              <a:ext cx="1523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2438280"/>
            <a:ext cx="2743200" cy="1798560"/>
            <a:chOff x="4952880" y="2438280"/>
            <a:chExt cx="2743200" cy="1798560"/>
          </a:xfrm>
        </p:grpSpPr>
        <p:grpSp>
          <p:nvGrpSpPr>
            <p:cNvPr id="155" name=""/>
            <p:cNvGrpSpPr/>
            <p:nvPr/>
          </p:nvGrpSpPr>
          <p:grpSpPr>
            <a:xfrm>
              <a:off x="5029200" y="2438280"/>
              <a:ext cx="2666880" cy="1798560"/>
              <a:chOff x="5029200" y="2438280"/>
              <a:chExt cx="2666880" cy="1798560"/>
            </a:xfrm>
          </p:grpSpPr>
          <p:sp>
            <p:nvSpPr>
              <p:cNvPr id="156" name=""/>
              <p:cNvSpPr/>
              <p:nvPr/>
            </p:nvSpPr>
            <p:spPr>
              <a:xfrm>
                <a:off x="6095880" y="3444840"/>
                <a:ext cx="1600200" cy="79200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Re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Materializ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29200" y="2438280"/>
                <a:ext cx="1463760" cy="914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952880" y="3779640"/>
              <a:ext cx="1067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4267080"/>
            <a:ext cx="0" cy="12956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4800600"/>
            <a:ext cx="1066680" cy="380880"/>
          </a:xfrm>
          <a:prstGeom prst="ellipse">
            <a:avLst/>
          </a:prstGeom>
          <a:solidFill>
            <a:srgbClr val="ff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467480" y="3200400"/>
            <a:ext cx="1676520" cy="1676520"/>
            <a:chOff x="7467480" y="3200400"/>
            <a:chExt cx="1676520" cy="1676520"/>
          </a:xfrm>
        </p:grpSpPr>
        <p:sp>
          <p:nvSpPr>
            <p:cNvPr id="162" name=""/>
            <p:cNvSpPr/>
            <p:nvPr/>
          </p:nvSpPr>
          <p:spPr>
            <a:xfrm>
              <a:off x="8381880" y="457200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742160" y="3200400"/>
              <a:ext cx="1303560" cy="1333440"/>
              <a:chOff x="7742160" y="3200400"/>
              <a:chExt cx="1303560" cy="1333440"/>
            </a:xfrm>
          </p:grpSpPr>
          <p:sp>
            <p:nvSpPr>
              <p:cNvPr id="164" name=""/>
              <p:cNvSpPr/>
              <p:nvPr/>
            </p:nvSpPr>
            <p:spPr>
              <a:xfrm>
                <a:off x="7742160" y="3886200"/>
                <a:ext cx="731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65" name=""/>
              <p:cNvGraphicFramePr/>
              <p:nvPr/>
            </p:nvGraphicFramePr>
            <p:xfrm>
              <a:off x="8474040" y="3200400"/>
              <a:ext cx="571680" cy="1333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474040" y="3200400"/>
                        <a:ext cx="571680" cy="133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7" name=""/>
            <p:cNvSpPr/>
            <p:nvPr/>
          </p:nvSpPr>
          <p:spPr>
            <a:xfrm flipH="1">
              <a:off x="7467480" y="4114800"/>
              <a:ext cx="89856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133720" y="4191120"/>
            <a:ext cx="1600200" cy="380880"/>
          </a:xfrm>
          <a:prstGeom prst="ellipse">
            <a:avLst/>
          </a:prstGeom>
          <a:solidFill>
            <a:srgbClr val="ff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Reformul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21:26:23Z</dcterms:created>
  <dc:creator>Nivia Contreras</dc:creator>
  <dc:description/>
  <dc:language>en-US</dc:language>
  <cp:lastModifiedBy>Cristina Maldonado</cp:lastModifiedBy>
  <dcterms:modified xsi:type="dcterms:W3CDTF">2004-08-16T15:45:43Z</dcterms:modified>
  <cp:revision>66</cp:revision>
  <dc:subject/>
  <dc:title>Sin título de diapositiva</dc:title>
</cp:coreProperties>
</file>