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46E-2359-4C91-8651-F716A4E1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D17-B06B-4DF0-9056-896DA2C7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4E3-03DD-49FE-9584-DE7F5ACC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9A1-9C4C-4303-BC68-790BCBC1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FBD-6DBB-4026-9141-0E5C9BB6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FC8-B5AB-4529-9121-E1F9AE70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F09-BB87-45E0-8DE9-55BA9EEA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3E8-0473-48A4-9DC0-7930AACC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C7C-7410-4B43-8F51-B523B3BA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D99A-34AB-473A-B826-DC51CD12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75CC-E1F2-4E4A-8F87-D8134C43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DC1A-6254-4BC0-B839-CFADF766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4BEB-2266-4E0D-8C4F-CBA1C6C68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php4: primeros paso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2923920"/>
            <a:ext cx="84247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cuela de Ingeniería 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D20A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mestre Primavera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9144000" cy="77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304320" y="580248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istián Céspedes 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datos[0]=“juan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datos[1]=“diego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26920" y="465300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84360" y="2565360"/>
            <a:ext cx="7238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($i=0; $i&lt;count($datos);$i++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“nombre $i: $datos[$i]\n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26920" y="4724280"/>
            <a:ext cx="5334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bre 1: j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bre 2: d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305B-BD33-4F58-86FD-45D165BC1B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r ele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datos=“13455633::8::Juan Perez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$lee=preg_split (/::/,$dato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55640" y="350028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ate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$lee[2].”,“.$lee[0].”-”.$lee[1].”\n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143000" y="51055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17880" y="518940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an Perez,13455633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88B-12AA-4788-8A10-C13E95DD3E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iones 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83760" y="1611360"/>
            <a:ext cx="5423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$dat=“134545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6 Juan Perez, 1996#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57120" y="17002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g_match (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^(\d+)-(\w)\s(\w+)\s(\w+),(\d{4})#$/”,$dat,$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rut=$c[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dv=$c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nombre=$c[3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apellido=$c[4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ano=$c[5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718-3D1C-4F1F-92E4-129211B740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iones 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603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^ calza al inicio de la li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 calza al final de la li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Calza cualquier caracter excepto \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 agrupa un calce y lo guarda en $c[1],$c[2]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d cualquier dig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D cualquier no dig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s cualquier espacio(espacios, ta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S cualquier no espa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00E3-D9B5-4C6C-A047-099DE1A651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iones 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15960" y="1690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w cualquier caracter de palabra: letra, digito,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W cualquier no caracter de pala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calza cero o m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calza una o más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calza cero o una v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} calza x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,y} calza mínimo x veces y máximo y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DA49-0812-4BA2-9B32-B88E50B5CA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ciones iteraci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($i=0; $i&lt;10; $i=$i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“$i\n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3789360"/>
            <a:ext cx="5791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$i&lt;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“$i\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i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9640" y="36450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07B6-57C0-432E-B396-B8D4117C81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ciones iteraci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322720" y="2282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22720" y="258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322720" y="2892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322720" y="31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322720" y="350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322720" y="380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322720" y="4111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322720" y="441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322720" y="472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246760" y="5025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1BE-3E16-43EF-961C-4A35E3D60F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eglos asocia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579760" y="3381480"/>
            <a:ext cx="2641680" cy="2400120"/>
          </a:xfrm>
          <a:custGeom>
            <a:avLst/>
            <a:gdLst/>
            <a:ahLst/>
            <a:rect l="l" t="t" r="r" b="b"/>
            <a:pathLst>
              <a:path w="1664" h="1512">
                <a:moveTo>
                  <a:pt x="824" y="0"/>
                </a:moveTo>
                <a:cubicBezTo>
                  <a:pt x="576" y="84"/>
                  <a:pt x="328" y="168"/>
                  <a:pt x="200" y="336"/>
                </a:cubicBezTo>
                <a:cubicBezTo>
                  <a:pt x="72" y="504"/>
                  <a:pt x="0" y="824"/>
                  <a:pt x="56" y="1008"/>
                </a:cubicBezTo>
                <a:cubicBezTo>
                  <a:pt x="112" y="1192"/>
                  <a:pt x="336" y="1376"/>
                  <a:pt x="536" y="1440"/>
                </a:cubicBezTo>
                <a:cubicBezTo>
                  <a:pt x="736" y="1504"/>
                  <a:pt x="1072" y="1512"/>
                  <a:pt x="1256" y="1392"/>
                </a:cubicBezTo>
                <a:cubicBezTo>
                  <a:pt x="1440" y="1272"/>
                  <a:pt x="1616" y="912"/>
                  <a:pt x="1640" y="720"/>
                </a:cubicBezTo>
                <a:cubicBezTo>
                  <a:pt x="1664" y="528"/>
                  <a:pt x="1584" y="352"/>
                  <a:pt x="1400" y="240"/>
                </a:cubicBezTo>
                <a:cubicBezTo>
                  <a:pt x="1216" y="128"/>
                  <a:pt x="876" y="88"/>
                  <a:pt x="536" y="48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1436760" y="2162160"/>
            <a:ext cx="6400800" cy="457200"/>
            <a:chOff x="1436760" y="2162160"/>
            <a:chExt cx="6400800" cy="457200"/>
          </a:xfrm>
        </p:grpSpPr>
        <p:sp>
          <p:nvSpPr>
            <p:cNvPr id="668" name=""/>
            <p:cNvSpPr/>
            <p:nvPr/>
          </p:nvSpPr>
          <p:spPr>
            <a:xfrm>
              <a:off x="1436760" y="216216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51160" y="216216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265560" y="216216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79960" y="216216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094360" y="216216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008760" y="216216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923160" y="216216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3191760" y="39211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39120" y="43783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a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68440" y="50641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8" name=""/>
          <p:cNvCxnSpPr>
            <a:stCxn id="675" idx="0"/>
            <a:endCxn id="668" idx="2"/>
          </p:cNvCxnSpPr>
          <p:nvPr/>
        </p:nvCxnSpPr>
        <p:spPr>
          <a:xfrm flipV="1" rot="16200000">
            <a:off x="2080800" y="2431440"/>
            <a:ext cx="1302480" cy="1676880"/>
          </a:xfrm>
          <a:prstGeom prst="curvedConnector5">
            <a:avLst>
              <a:gd name="adj1" fmla="val 49986"/>
              <a:gd name="adj2" fmla="val 49989"/>
              <a:gd name="adj3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9" name=""/>
          <p:cNvCxnSpPr>
            <a:stCxn id="676" idx="3"/>
            <a:endCxn id="670" idx="2"/>
          </p:cNvCxnSpPr>
          <p:nvPr/>
        </p:nvCxnSpPr>
        <p:spPr>
          <a:xfrm flipH="1" flipV="1">
            <a:off x="3722400" y="2619000"/>
            <a:ext cx="854640" cy="1987920"/>
          </a:xfrm>
          <a:prstGeom prst="curvedConnector5">
            <a:avLst>
              <a:gd name="adj1" fmla="val -26759"/>
              <a:gd name="adj2" fmla="val 27875"/>
              <a:gd name="adj3" fmla="val -267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0" name=""/>
          <p:cNvCxnSpPr>
            <a:stCxn id="677" idx="3"/>
            <a:endCxn id="672" idx="2"/>
          </p:cNvCxnSpPr>
          <p:nvPr/>
        </p:nvCxnSpPr>
        <p:spPr>
          <a:xfrm flipV="1">
            <a:off x="4195800" y="2619000"/>
            <a:ext cx="1356120" cy="2674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1743480" y="21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572280" y="21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401080" y="21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829440" y="1635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574-9A9E-4D59-806C-8F71FFB22B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eglos asocia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6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datos[ ‘juan’ ]=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datos[ ‘macarena’ ]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datos[ ‘diego’ ]=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84360" y="3573360"/>
            <a:ext cx="731520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ach ($datos as $keys=&gt;$v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“$keys: $vals\n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CDB7-B496-48F9-BC10-7CFE0ED71D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eglos asocia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go: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47640" y="356544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an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50160" y="4259160"/>
            <a:ext cx="33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arena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8413-4D7F-4D97-9D6F-407505C64E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TML vs. 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es PH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del Lengu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D9F-6A34-4FAC-83A2-52127332A7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-ELSEIF-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isset($datos[ ‘juan’ ])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$datos[ ‘juan’ 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if (!isset($datos[ ‘juan’])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“no existe juan\n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“error\n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15B1-6FE5-4848-B874-147662477A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nejo de Arch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$fp = fopen ("php.txt", "w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$fputs (“$nombre $apellido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close ($fp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$fp=fopen("http://cipres.cec.uchile.cl/~ccespede/1.txt","r“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while($texto = fgets($fp, 4096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int $tex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39640" y="328464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08AD-D9E6-4F0C-A6F2-FB5C0663CE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nejo de Arch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'r' - Open for reading only; place the file pointer at the beginning of the fi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'r+' - Open for reading and writing; place the file pointer at the beginning of the fi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'w' - Open for writing only; place the file pointer at the beginning of the file and truncate the file to zero length. If the file does not exist, attempt to create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'w+' - Open for reading and writing; place the file pointer at the beginning of the file and truncate the file to zero length. If the file does not exist, attempt to create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'a' - Open for writing only; place the file pointer at the end of the file. If the file does not exist, attempt to create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'a+' - Open for reading and writing; place the file pointer at the end of the file. If the file does not exist, attempt to create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560-1364-4A98-9423-3CAAB6374A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title&gt;Ejemplo PHP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?php echo "Hola, este es un ejemplo con PHP!"; 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26920" y="1484280"/>
            <a:ext cx="7417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294-A6E2-462A-8463-0FC2E37968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&lt;form method="GET" action=“http://cipres.cec.uchile.cl/~ccespede/ingreso.php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serID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&lt;input type=text size=8 maxlength=8 name="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&lt;input type=password size=8 maxlength=8 name="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as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&lt;input type="submit" value="CONTINUAR"&gt;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82AA-3217-4B15-92C4-3DAE4C27F0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2"/>
          <a:stretch/>
        </p:blipFill>
        <p:spPr>
          <a:xfrm>
            <a:off x="1981080" y="1557360"/>
            <a:ext cx="5429520" cy="41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3751-F564-4652-8804-2AF3B790F6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--- Ingreso.php 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 “Hola $id&lt;br&gt;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 “Tu password es: $pass&lt;br&gt;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AA1-F9F6-4297-9009-61ECAB0802B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"/>
          <p:cNvGrpSpPr/>
          <p:nvPr/>
        </p:nvGrpSpPr>
        <p:grpSpPr>
          <a:xfrm>
            <a:off x="3449160" y="1128240"/>
            <a:ext cx="2486160" cy="4387680"/>
            <a:chOff x="3449160" y="1128240"/>
            <a:chExt cx="2486160" cy="4387680"/>
          </a:xfrm>
        </p:grpSpPr>
        <p:sp>
          <p:nvSpPr>
            <p:cNvPr id="709" name=""/>
            <p:cNvSpPr/>
            <p:nvPr/>
          </p:nvSpPr>
          <p:spPr>
            <a:xfrm>
              <a:off x="3449160" y="1128240"/>
              <a:ext cx="2486160" cy="4387680"/>
            </a:xfrm>
            <a:custGeom>
              <a:avLst/>
              <a:gdLst/>
              <a:ahLst/>
              <a:rect l="l" t="t" r="r" b="b"/>
              <a:pathLst>
                <a:path w="1297" h="2287">
                  <a:moveTo>
                    <a:pt x="1063" y="15"/>
                  </a:moveTo>
                  <a:lnTo>
                    <a:pt x="1069" y="9"/>
                  </a:lnTo>
                  <a:lnTo>
                    <a:pt x="1076" y="6"/>
                  </a:lnTo>
                  <a:lnTo>
                    <a:pt x="1084" y="6"/>
                  </a:lnTo>
                  <a:lnTo>
                    <a:pt x="1091" y="8"/>
                  </a:lnTo>
                  <a:lnTo>
                    <a:pt x="1103" y="21"/>
                  </a:lnTo>
                  <a:lnTo>
                    <a:pt x="1111" y="35"/>
                  </a:lnTo>
                  <a:lnTo>
                    <a:pt x="1115" y="52"/>
                  </a:lnTo>
                  <a:lnTo>
                    <a:pt x="1117" y="69"/>
                  </a:lnTo>
                  <a:lnTo>
                    <a:pt x="1117" y="87"/>
                  </a:lnTo>
                  <a:lnTo>
                    <a:pt x="1119" y="105"/>
                  </a:lnTo>
                  <a:lnTo>
                    <a:pt x="1124" y="121"/>
                  </a:lnTo>
                  <a:lnTo>
                    <a:pt x="1132" y="136"/>
                  </a:lnTo>
                  <a:lnTo>
                    <a:pt x="1132" y="140"/>
                  </a:lnTo>
                  <a:lnTo>
                    <a:pt x="1132" y="142"/>
                  </a:lnTo>
                  <a:lnTo>
                    <a:pt x="1134" y="144"/>
                  </a:lnTo>
                  <a:lnTo>
                    <a:pt x="1136" y="146"/>
                  </a:lnTo>
                  <a:lnTo>
                    <a:pt x="1138" y="135"/>
                  </a:lnTo>
                  <a:lnTo>
                    <a:pt x="1141" y="125"/>
                  </a:lnTo>
                  <a:lnTo>
                    <a:pt x="1146" y="115"/>
                  </a:lnTo>
                  <a:lnTo>
                    <a:pt x="1152" y="105"/>
                  </a:lnTo>
                  <a:lnTo>
                    <a:pt x="1157" y="97"/>
                  </a:lnTo>
                  <a:lnTo>
                    <a:pt x="1164" y="89"/>
                  </a:lnTo>
                  <a:lnTo>
                    <a:pt x="1172" y="81"/>
                  </a:lnTo>
                  <a:lnTo>
                    <a:pt x="1180" y="74"/>
                  </a:lnTo>
                  <a:lnTo>
                    <a:pt x="1189" y="75"/>
                  </a:lnTo>
                  <a:lnTo>
                    <a:pt x="1195" y="78"/>
                  </a:lnTo>
                  <a:lnTo>
                    <a:pt x="1201" y="84"/>
                  </a:lnTo>
                  <a:lnTo>
                    <a:pt x="1206" y="91"/>
                  </a:lnTo>
                  <a:lnTo>
                    <a:pt x="1207" y="112"/>
                  </a:lnTo>
                  <a:lnTo>
                    <a:pt x="1201" y="130"/>
                  </a:lnTo>
                  <a:lnTo>
                    <a:pt x="1193" y="148"/>
                  </a:lnTo>
                  <a:lnTo>
                    <a:pt x="1190" y="167"/>
                  </a:lnTo>
                  <a:lnTo>
                    <a:pt x="1189" y="187"/>
                  </a:lnTo>
                  <a:lnTo>
                    <a:pt x="1184" y="206"/>
                  </a:lnTo>
                  <a:lnTo>
                    <a:pt x="1182" y="225"/>
                  </a:lnTo>
                  <a:lnTo>
                    <a:pt x="1184" y="243"/>
                  </a:lnTo>
                  <a:lnTo>
                    <a:pt x="1183" y="274"/>
                  </a:lnTo>
                  <a:lnTo>
                    <a:pt x="1175" y="303"/>
                  </a:lnTo>
                  <a:lnTo>
                    <a:pt x="1168" y="332"/>
                  </a:lnTo>
                  <a:lnTo>
                    <a:pt x="1168" y="363"/>
                  </a:lnTo>
                  <a:lnTo>
                    <a:pt x="1167" y="375"/>
                  </a:lnTo>
                  <a:lnTo>
                    <a:pt x="1162" y="385"/>
                  </a:lnTo>
                  <a:lnTo>
                    <a:pt x="1157" y="395"/>
                  </a:lnTo>
                  <a:lnTo>
                    <a:pt x="1150" y="405"/>
                  </a:lnTo>
                  <a:lnTo>
                    <a:pt x="1146" y="415"/>
                  </a:lnTo>
                  <a:lnTo>
                    <a:pt x="1142" y="426"/>
                  </a:lnTo>
                  <a:lnTo>
                    <a:pt x="1142" y="438"/>
                  </a:lnTo>
                  <a:lnTo>
                    <a:pt x="1147" y="451"/>
                  </a:lnTo>
                  <a:lnTo>
                    <a:pt x="1156" y="479"/>
                  </a:lnTo>
                  <a:lnTo>
                    <a:pt x="1164" y="481"/>
                  </a:lnTo>
                  <a:lnTo>
                    <a:pt x="1174" y="483"/>
                  </a:lnTo>
                  <a:lnTo>
                    <a:pt x="1180" y="486"/>
                  </a:lnTo>
                  <a:lnTo>
                    <a:pt x="1187" y="491"/>
                  </a:lnTo>
                  <a:lnTo>
                    <a:pt x="1194" y="504"/>
                  </a:lnTo>
                  <a:lnTo>
                    <a:pt x="1199" y="517"/>
                  </a:lnTo>
                  <a:lnTo>
                    <a:pt x="1201" y="531"/>
                  </a:lnTo>
                  <a:lnTo>
                    <a:pt x="1203" y="546"/>
                  </a:lnTo>
                  <a:lnTo>
                    <a:pt x="1206" y="560"/>
                  </a:lnTo>
                  <a:lnTo>
                    <a:pt x="1209" y="574"/>
                  </a:lnTo>
                  <a:lnTo>
                    <a:pt x="1215" y="587"/>
                  </a:lnTo>
                  <a:lnTo>
                    <a:pt x="1224" y="598"/>
                  </a:lnTo>
                  <a:lnTo>
                    <a:pt x="1236" y="641"/>
                  </a:lnTo>
                  <a:lnTo>
                    <a:pt x="1242" y="686"/>
                  </a:lnTo>
                  <a:lnTo>
                    <a:pt x="1245" y="732"/>
                  </a:lnTo>
                  <a:lnTo>
                    <a:pt x="1246" y="778"/>
                  </a:lnTo>
                  <a:lnTo>
                    <a:pt x="1247" y="839"/>
                  </a:lnTo>
                  <a:lnTo>
                    <a:pt x="1248" y="899"/>
                  </a:lnTo>
                  <a:lnTo>
                    <a:pt x="1252" y="959"/>
                  </a:lnTo>
                  <a:lnTo>
                    <a:pt x="1260" y="1017"/>
                  </a:lnTo>
                  <a:lnTo>
                    <a:pt x="1257" y="1040"/>
                  </a:lnTo>
                  <a:lnTo>
                    <a:pt x="1250" y="1061"/>
                  </a:lnTo>
                  <a:lnTo>
                    <a:pt x="1240" y="1082"/>
                  </a:lnTo>
                  <a:lnTo>
                    <a:pt x="1230" y="1102"/>
                  </a:lnTo>
                  <a:lnTo>
                    <a:pt x="1130" y="1286"/>
                  </a:lnTo>
                  <a:lnTo>
                    <a:pt x="1047" y="1436"/>
                  </a:lnTo>
                  <a:lnTo>
                    <a:pt x="1036" y="1461"/>
                  </a:lnTo>
                  <a:lnTo>
                    <a:pt x="1032" y="1486"/>
                  </a:lnTo>
                  <a:lnTo>
                    <a:pt x="1029" y="1514"/>
                  </a:lnTo>
                  <a:lnTo>
                    <a:pt x="1029" y="1542"/>
                  </a:lnTo>
                  <a:lnTo>
                    <a:pt x="1078" y="1646"/>
                  </a:lnTo>
                  <a:lnTo>
                    <a:pt x="1087" y="1679"/>
                  </a:lnTo>
                  <a:lnTo>
                    <a:pt x="1097" y="1710"/>
                  </a:lnTo>
                  <a:lnTo>
                    <a:pt x="1106" y="1743"/>
                  </a:lnTo>
                  <a:lnTo>
                    <a:pt x="1108" y="1778"/>
                  </a:lnTo>
                  <a:lnTo>
                    <a:pt x="1116" y="1832"/>
                  </a:lnTo>
                  <a:lnTo>
                    <a:pt x="1119" y="1886"/>
                  </a:lnTo>
                  <a:lnTo>
                    <a:pt x="1122" y="1943"/>
                  </a:lnTo>
                  <a:lnTo>
                    <a:pt x="1124" y="1998"/>
                  </a:lnTo>
                  <a:lnTo>
                    <a:pt x="1144" y="1999"/>
                  </a:lnTo>
                  <a:lnTo>
                    <a:pt x="1163" y="2000"/>
                  </a:lnTo>
                  <a:lnTo>
                    <a:pt x="1183" y="2000"/>
                  </a:lnTo>
                  <a:lnTo>
                    <a:pt x="1202" y="2000"/>
                  </a:lnTo>
                  <a:lnTo>
                    <a:pt x="1223" y="2000"/>
                  </a:lnTo>
                  <a:lnTo>
                    <a:pt x="1243" y="2001"/>
                  </a:lnTo>
                  <a:lnTo>
                    <a:pt x="1262" y="2001"/>
                  </a:lnTo>
                  <a:lnTo>
                    <a:pt x="1281" y="2002"/>
                  </a:lnTo>
                  <a:lnTo>
                    <a:pt x="1289" y="2009"/>
                  </a:lnTo>
                  <a:lnTo>
                    <a:pt x="1295" y="2017"/>
                  </a:lnTo>
                  <a:lnTo>
                    <a:pt x="1297" y="2027"/>
                  </a:lnTo>
                  <a:lnTo>
                    <a:pt x="1297" y="2037"/>
                  </a:lnTo>
                  <a:lnTo>
                    <a:pt x="1293" y="2047"/>
                  </a:lnTo>
                  <a:lnTo>
                    <a:pt x="1285" y="2057"/>
                  </a:lnTo>
                  <a:lnTo>
                    <a:pt x="1277" y="2063"/>
                  </a:lnTo>
                  <a:lnTo>
                    <a:pt x="1274" y="2066"/>
                  </a:lnTo>
                  <a:lnTo>
                    <a:pt x="1269" y="2097"/>
                  </a:lnTo>
                  <a:lnTo>
                    <a:pt x="1261" y="2131"/>
                  </a:lnTo>
                  <a:lnTo>
                    <a:pt x="1253" y="2168"/>
                  </a:lnTo>
                  <a:lnTo>
                    <a:pt x="1244" y="2204"/>
                  </a:lnTo>
                  <a:lnTo>
                    <a:pt x="1235" y="2236"/>
                  </a:lnTo>
                  <a:lnTo>
                    <a:pt x="1228" y="2263"/>
                  </a:lnTo>
                  <a:lnTo>
                    <a:pt x="1223" y="2280"/>
                  </a:lnTo>
                  <a:lnTo>
                    <a:pt x="1221" y="2287"/>
                  </a:lnTo>
                  <a:lnTo>
                    <a:pt x="1217" y="2287"/>
                  </a:lnTo>
                  <a:lnTo>
                    <a:pt x="1208" y="2287"/>
                  </a:lnTo>
                  <a:lnTo>
                    <a:pt x="1193" y="2287"/>
                  </a:lnTo>
                  <a:lnTo>
                    <a:pt x="1172" y="2287"/>
                  </a:lnTo>
                  <a:lnTo>
                    <a:pt x="1147" y="2287"/>
                  </a:lnTo>
                  <a:lnTo>
                    <a:pt x="1117" y="2287"/>
                  </a:lnTo>
                  <a:lnTo>
                    <a:pt x="1082" y="2287"/>
                  </a:lnTo>
                  <a:lnTo>
                    <a:pt x="1044" y="2287"/>
                  </a:lnTo>
                  <a:lnTo>
                    <a:pt x="1004" y="2287"/>
                  </a:lnTo>
                  <a:lnTo>
                    <a:pt x="960" y="2287"/>
                  </a:lnTo>
                  <a:lnTo>
                    <a:pt x="913" y="2287"/>
                  </a:lnTo>
                  <a:lnTo>
                    <a:pt x="865" y="2287"/>
                  </a:lnTo>
                  <a:lnTo>
                    <a:pt x="815" y="2287"/>
                  </a:lnTo>
                  <a:lnTo>
                    <a:pt x="763" y="2287"/>
                  </a:lnTo>
                  <a:lnTo>
                    <a:pt x="711" y="2287"/>
                  </a:lnTo>
                  <a:lnTo>
                    <a:pt x="658" y="2287"/>
                  </a:lnTo>
                  <a:lnTo>
                    <a:pt x="605" y="2287"/>
                  </a:lnTo>
                  <a:lnTo>
                    <a:pt x="553" y="2287"/>
                  </a:lnTo>
                  <a:lnTo>
                    <a:pt x="502" y="2287"/>
                  </a:lnTo>
                  <a:lnTo>
                    <a:pt x="452" y="2287"/>
                  </a:lnTo>
                  <a:lnTo>
                    <a:pt x="403" y="2287"/>
                  </a:lnTo>
                  <a:lnTo>
                    <a:pt x="356" y="2287"/>
                  </a:lnTo>
                  <a:lnTo>
                    <a:pt x="313" y="2287"/>
                  </a:lnTo>
                  <a:lnTo>
                    <a:pt x="271" y="2287"/>
                  </a:lnTo>
                  <a:lnTo>
                    <a:pt x="233" y="2287"/>
                  </a:lnTo>
                  <a:lnTo>
                    <a:pt x="200" y="2287"/>
                  </a:lnTo>
                  <a:lnTo>
                    <a:pt x="169" y="2287"/>
                  </a:lnTo>
                  <a:lnTo>
                    <a:pt x="143" y="2287"/>
                  </a:lnTo>
                  <a:lnTo>
                    <a:pt x="122" y="2287"/>
                  </a:lnTo>
                  <a:lnTo>
                    <a:pt x="107" y="2287"/>
                  </a:lnTo>
                  <a:lnTo>
                    <a:pt x="98" y="2287"/>
                  </a:lnTo>
                  <a:lnTo>
                    <a:pt x="95" y="2287"/>
                  </a:lnTo>
                  <a:lnTo>
                    <a:pt x="84" y="2262"/>
                  </a:lnTo>
                  <a:lnTo>
                    <a:pt x="74" y="2235"/>
                  </a:lnTo>
                  <a:lnTo>
                    <a:pt x="66" y="2209"/>
                  </a:lnTo>
                  <a:lnTo>
                    <a:pt x="58" y="2182"/>
                  </a:lnTo>
                  <a:lnTo>
                    <a:pt x="51" y="2155"/>
                  </a:lnTo>
                  <a:lnTo>
                    <a:pt x="45" y="2128"/>
                  </a:lnTo>
                  <a:lnTo>
                    <a:pt x="39" y="2100"/>
                  </a:lnTo>
                  <a:lnTo>
                    <a:pt x="35" y="2074"/>
                  </a:lnTo>
                  <a:lnTo>
                    <a:pt x="30" y="2069"/>
                  </a:lnTo>
                  <a:lnTo>
                    <a:pt x="25" y="2067"/>
                  </a:lnTo>
                  <a:lnTo>
                    <a:pt x="19" y="2067"/>
                  </a:lnTo>
                  <a:lnTo>
                    <a:pt x="14" y="2065"/>
                  </a:lnTo>
                  <a:lnTo>
                    <a:pt x="7" y="2055"/>
                  </a:lnTo>
                  <a:lnTo>
                    <a:pt x="3" y="2045"/>
                  </a:lnTo>
                  <a:lnTo>
                    <a:pt x="0" y="2035"/>
                  </a:lnTo>
                  <a:lnTo>
                    <a:pt x="1" y="2023"/>
                  </a:lnTo>
                  <a:lnTo>
                    <a:pt x="4" y="2016"/>
                  </a:lnTo>
                  <a:lnTo>
                    <a:pt x="10" y="2012"/>
                  </a:lnTo>
                  <a:lnTo>
                    <a:pt x="14" y="2006"/>
                  </a:lnTo>
                  <a:lnTo>
                    <a:pt x="16" y="2001"/>
                  </a:lnTo>
                  <a:lnTo>
                    <a:pt x="26" y="2002"/>
                  </a:lnTo>
                  <a:lnTo>
                    <a:pt x="36" y="2004"/>
                  </a:lnTo>
                  <a:lnTo>
                    <a:pt x="46" y="2005"/>
                  </a:lnTo>
                  <a:lnTo>
                    <a:pt x="57" y="2004"/>
                  </a:lnTo>
                  <a:lnTo>
                    <a:pt x="68" y="2004"/>
                  </a:lnTo>
                  <a:lnTo>
                    <a:pt x="80" y="2004"/>
                  </a:lnTo>
                  <a:lnTo>
                    <a:pt x="91" y="2004"/>
                  </a:lnTo>
                  <a:lnTo>
                    <a:pt x="103" y="2004"/>
                  </a:lnTo>
                  <a:lnTo>
                    <a:pt x="96" y="1961"/>
                  </a:lnTo>
                  <a:lnTo>
                    <a:pt x="89" y="1918"/>
                  </a:lnTo>
                  <a:lnTo>
                    <a:pt x="84" y="1875"/>
                  </a:lnTo>
                  <a:lnTo>
                    <a:pt x="82" y="1830"/>
                  </a:lnTo>
                  <a:lnTo>
                    <a:pt x="89" y="1672"/>
                  </a:lnTo>
                  <a:lnTo>
                    <a:pt x="94" y="1642"/>
                  </a:lnTo>
                  <a:lnTo>
                    <a:pt x="98" y="1612"/>
                  </a:lnTo>
                  <a:lnTo>
                    <a:pt x="104" y="1582"/>
                  </a:lnTo>
                  <a:lnTo>
                    <a:pt x="111" y="1552"/>
                  </a:lnTo>
                  <a:lnTo>
                    <a:pt x="119" y="1524"/>
                  </a:lnTo>
                  <a:lnTo>
                    <a:pt x="129" y="1496"/>
                  </a:lnTo>
                  <a:lnTo>
                    <a:pt x="143" y="1469"/>
                  </a:lnTo>
                  <a:lnTo>
                    <a:pt x="158" y="1444"/>
                  </a:lnTo>
                  <a:lnTo>
                    <a:pt x="205" y="1406"/>
                  </a:lnTo>
                  <a:lnTo>
                    <a:pt x="306" y="1348"/>
                  </a:lnTo>
                  <a:lnTo>
                    <a:pt x="322" y="1339"/>
                  </a:lnTo>
                  <a:lnTo>
                    <a:pt x="337" y="1328"/>
                  </a:lnTo>
                  <a:lnTo>
                    <a:pt x="348" y="1315"/>
                  </a:lnTo>
                  <a:lnTo>
                    <a:pt x="360" y="1301"/>
                  </a:lnTo>
                  <a:lnTo>
                    <a:pt x="371" y="1286"/>
                  </a:lnTo>
                  <a:lnTo>
                    <a:pt x="383" y="1271"/>
                  </a:lnTo>
                  <a:lnTo>
                    <a:pt x="394" y="1257"/>
                  </a:lnTo>
                  <a:lnTo>
                    <a:pt x="407" y="1244"/>
                  </a:lnTo>
                  <a:lnTo>
                    <a:pt x="399" y="1240"/>
                  </a:lnTo>
                  <a:lnTo>
                    <a:pt x="392" y="1237"/>
                  </a:lnTo>
                  <a:lnTo>
                    <a:pt x="384" y="1234"/>
                  </a:lnTo>
                  <a:lnTo>
                    <a:pt x="376" y="1232"/>
                  </a:lnTo>
                  <a:lnTo>
                    <a:pt x="368" y="1229"/>
                  </a:lnTo>
                  <a:lnTo>
                    <a:pt x="361" y="1225"/>
                  </a:lnTo>
                  <a:lnTo>
                    <a:pt x="355" y="1220"/>
                  </a:lnTo>
                  <a:lnTo>
                    <a:pt x="350" y="1213"/>
                  </a:lnTo>
                  <a:lnTo>
                    <a:pt x="347" y="1183"/>
                  </a:lnTo>
                  <a:lnTo>
                    <a:pt x="345" y="1153"/>
                  </a:lnTo>
                  <a:lnTo>
                    <a:pt x="343" y="1122"/>
                  </a:lnTo>
                  <a:lnTo>
                    <a:pt x="346" y="1091"/>
                  </a:lnTo>
                  <a:lnTo>
                    <a:pt x="333" y="1069"/>
                  </a:lnTo>
                  <a:lnTo>
                    <a:pt x="324" y="1046"/>
                  </a:lnTo>
                  <a:lnTo>
                    <a:pt x="320" y="1022"/>
                  </a:lnTo>
                  <a:lnTo>
                    <a:pt x="318" y="996"/>
                  </a:lnTo>
                  <a:lnTo>
                    <a:pt x="322" y="977"/>
                  </a:lnTo>
                  <a:lnTo>
                    <a:pt x="326" y="960"/>
                  </a:lnTo>
                  <a:lnTo>
                    <a:pt x="333" y="944"/>
                  </a:lnTo>
                  <a:lnTo>
                    <a:pt x="345" y="930"/>
                  </a:lnTo>
                  <a:lnTo>
                    <a:pt x="350" y="888"/>
                  </a:lnTo>
                  <a:lnTo>
                    <a:pt x="359" y="847"/>
                  </a:lnTo>
                  <a:lnTo>
                    <a:pt x="374" y="808"/>
                  </a:lnTo>
                  <a:lnTo>
                    <a:pt x="393" y="771"/>
                  </a:lnTo>
                  <a:lnTo>
                    <a:pt x="418" y="737"/>
                  </a:lnTo>
                  <a:lnTo>
                    <a:pt x="447" y="708"/>
                  </a:lnTo>
                  <a:lnTo>
                    <a:pt x="481" y="682"/>
                  </a:lnTo>
                  <a:lnTo>
                    <a:pt x="519" y="661"/>
                  </a:lnTo>
                  <a:lnTo>
                    <a:pt x="540" y="653"/>
                  </a:lnTo>
                  <a:lnTo>
                    <a:pt x="562" y="648"/>
                  </a:lnTo>
                  <a:lnTo>
                    <a:pt x="585" y="644"/>
                  </a:lnTo>
                  <a:lnTo>
                    <a:pt x="608" y="642"/>
                  </a:lnTo>
                  <a:lnTo>
                    <a:pt x="632" y="643"/>
                  </a:lnTo>
                  <a:lnTo>
                    <a:pt x="655" y="646"/>
                  </a:lnTo>
                  <a:lnTo>
                    <a:pt x="678" y="651"/>
                  </a:lnTo>
                  <a:lnTo>
                    <a:pt x="700" y="658"/>
                  </a:lnTo>
                  <a:lnTo>
                    <a:pt x="716" y="660"/>
                  </a:lnTo>
                  <a:lnTo>
                    <a:pt x="732" y="663"/>
                  </a:lnTo>
                  <a:lnTo>
                    <a:pt x="749" y="665"/>
                  </a:lnTo>
                  <a:lnTo>
                    <a:pt x="766" y="668"/>
                  </a:lnTo>
                  <a:lnTo>
                    <a:pt x="781" y="672"/>
                  </a:lnTo>
                  <a:lnTo>
                    <a:pt x="797" y="676"/>
                  </a:lnTo>
                  <a:lnTo>
                    <a:pt x="812" y="682"/>
                  </a:lnTo>
                  <a:lnTo>
                    <a:pt x="827" y="688"/>
                  </a:lnTo>
                  <a:lnTo>
                    <a:pt x="835" y="690"/>
                  </a:lnTo>
                  <a:lnTo>
                    <a:pt x="843" y="694"/>
                  </a:lnTo>
                  <a:lnTo>
                    <a:pt x="850" y="698"/>
                  </a:lnTo>
                  <a:lnTo>
                    <a:pt x="857" y="704"/>
                  </a:lnTo>
                  <a:lnTo>
                    <a:pt x="862" y="711"/>
                  </a:lnTo>
                  <a:lnTo>
                    <a:pt x="868" y="717"/>
                  </a:lnTo>
                  <a:lnTo>
                    <a:pt x="874" y="724"/>
                  </a:lnTo>
                  <a:lnTo>
                    <a:pt x="880" y="729"/>
                  </a:lnTo>
                  <a:lnTo>
                    <a:pt x="900" y="763"/>
                  </a:lnTo>
                  <a:lnTo>
                    <a:pt x="915" y="799"/>
                  </a:lnTo>
                  <a:lnTo>
                    <a:pt x="922" y="839"/>
                  </a:lnTo>
                  <a:lnTo>
                    <a:pt x="925" y="879"/>
                  </a:lnTo>
                  <a:lnTo>
                    <a:pt x="920" y="919"/>
                  </a:lnTo>
                  <a:lnTo>
                    <a:pt x="912" y="959"/>
                  </a:lnTo>
                  <a:lnTo>
                    <a:pt x="898" y="997"/>
                  </a:lnTo>
                  <a:lnTo>
                    <a:pt x="881" y="1030"/>
                  </a:lnTo>
                  <a:lnTo>
                    <a:pt x="878" y="1047"/>
                  </a:lnTo>
                  <a:lnTo>
                    <a:pt x="874" y="1064"/>
                  </a:lnTo>
                  <a:lnTo>
                    <a:pt x="869" y="1080"/>
                  </a:lnTo>
                  <a:lnTo>
                    <a:pt x="862" y="1096"/>
                  </a:lnTo>
                  <a:lnTo>
                    <a:pt x="854" y="1110"/>
                  </a:lnTo>
                  <a:lnTo>
                    <a:pt x="844" y="1122"/>
                  </a:lnTo>
                  <a:lnTo>
                    <a:pt x="831" y="1134"/>
                  </a:lnTo>
                  <a:lnTo>
                    <a:pt x="816" y="1142"/>
                  </a:lnTo>
                  <a:lnTo>
                    <a:pt x="811" y="1152"/>
                  </a:lnTo>
                  <a:lnTo>
                    <a:pt x="805" y="1163"/>
                  </a:lnTo>
                  <a:lnTo>
                    <a:pt x="799" y="1173"/>
                  </a:lnTo>
                  <a:lnTo>
                    <a:pt x="794" y="1183"/>
                  </a:lnTo>
                  <a:lnTo>
                    <a:pt x="799" y="1183"/>
                  </a:lnTo>
                  <a:lnTo>
                    <a:pt x="804" y="1183"/>
                  </a:lnTo>
                  <a:lnTo>
                    <a:pt x="808" y="1182"/>
                  </a:lnTo>
                  <a:lnTo>
                    <a:pt x="813" y="1182"/>
                  </a:lnTo>
                  <a:lnTo>
                    <a:pt x="819" y="1181"/>
                  </a:lnTo>
                  <a:lnTo>
                    <a:pt x="823" y="1181"/>
                  </a:lnTo>
                  <a:lnTo>
                    <a:pt x="828" y="1181"/>
                  </a:lnTo>
                  <a:lnTo>
                    <a:pt x="832" y="1182"/>
                  </a:lnTo>
                  <a:lnTo>
                    <a:pt x="837" y="1172"/>
                  </a:lnTo>
                  <a:lnTo>
                    <a:pt x="843" y="1161"/>
                  </a:lnTo>
                  <a:lnTo>
                    <a:pt x="850" y="1151"/>
                  </a:lnTo>
                  <a:lnTo>
                    <a:pt x="857" y="1142"/>
                  </a:lnTo>
                  <a:lnTo>
                    <a:pt x="865" y="1133"/>
                  </a:lnTo>
                  <a:lnTo>
                    <a:pt x="872" y="1123"/>
                  </a:lnTo>
                  <a:lnTo>
                    <a:pt x="880" y="1113"/>
                  </a:lnTo>
                  <a:lnTo>
                    <a:pt x="885" y="1104"/>
                  </a:lnTo>
                  <a:lnTo>
                    <a:pt x="897" y="1081"/>
                  </a:lnTo>
                  <a:lnTo>
                    <a:pt x="907" y="1058"/>
                  </a:lnTo>
                  <a:lnTo>
                    <a:pt x="917" y="1034"/>
                  </a:lnTo>
                  <a:lnTo>
                    <a:pt x="925" y="1009"/>
                  </a:lnTo>
                  <a:lnTo>
                    <a:pt x="932" y="985"/>
                  </a:lnTo>
                  <a:lnTo>
                    <a:pt x="937" y="960"/>
                  </a:lnTo>
                  <a:lnTo>
                    <a:pt x="943" y="934"/>
                  </a:lnTo>
                  <a:lnTo>
                    <a:pt x="949" y="909"/>
                  </a:lnTo>
                  <a:lnTo>
                    <a:pt x="955" y="899"/>
                  </a:lnTo>
                  <a:lnTo>
                    <a:pt x="961" y="888"/>
                  </a:lnTo>
                  <a:lnTo>
                    <a:pt x="968" y="879"/>
                  </a:lnTo>
                  <a:lnTo>
                    <a:pt x="978" y="870"/>
                  </a:lnTo>
                  <a:lnTo>
                    <a:pt x="978" y="757"/>
                  </a:lnTo>
                  <a:lnTo>
                    <a:pt x="979" y="736"/>
                  </a:lnTo>
                  <a:lnTo>
                    <a:pt x="979" y="714"/>
                  </a:lnTo>
                  <a:lnTo>
                    <a:pt x="980" y="694"/>
                  </a:lnTo>
                  <a:lnTo>
                    <a:pt x="982" y="673"/>
                  </a:lnTo>
                  <a:lnTo>
                    <a:pt x="987" y="653"/>
                  </a:lnTo>
                  <a:lnTo>
                    <a:pt x="995" y="635"/>
                  </a:lnTo>
                  <a:lnTo>
                    <a:pt x="1005" y="619"/>
                  </a:lnTo>
                  <a:lnTo>
                    <a:pt x="1020" y="604"/>
                  </a:lnTo>
                  <a:lnTo>
                    <a:pt x="1018" y="591"/>
                  </a:lnTo>
                  <a:lnTo>
                    <a:pt x="1016" y="578"/>
                  </a:lnTo>
                  <a:lnTo>
                    <a:pt x="1012" y="564"/>
                  </a:lnTo>
                  <a:lnTo>
                    <a:pt x="1011" y="550"/>
                  </a:lnTo>
                  <a:lnTo>
                    <a:pt x="1011" y="536"/>
                  </a:lnTo>
                  <a:lnTo>
                    <a:pt x="1014" y="523"/>
                  </a:lnTo>
                  <a:lnTo>
                    <a:pt x="1020" y="511"/>
                  </a:lnTo>
                  <a:lnTo>
                    <a:pt x="1032" y="501"/>
                  </a:lnTo>
                  <a:lnTo>
                    <a:pt x="1031" y="489"/>
                  </a:lnTo>
                  <a:lnTo>
                    <a:pt x="1028" y="477"/>
                  </a:lnTo>
                  <a:lnTo>
                    <a:pt x="1024" y="466"/>
                  </a:lnTo>
                  <a:lnTo>
                    <a:pt x="1018" y="454"/>
                  </a:lnTo>
                  <a:lnTo>
                    <a:pt x="1012" y="444"/>
                  </a:lnTo>
                  <a:lnTo>
                    <a:pt x="1004" y="433"/>
                  </a:lnTo>
                  <a:lnTo>
                    <a:pt x="996" y="424"/>
                  </a:lnTo>
                  <a:lnTo>
                    <a:pt x="987" y="415"/>
                  </a:lnTo>
                  <a:lnTo>
                    <a:pt x="975" y="386"/>
                  </a:lnTo>
                  <a:lnTo>
                    <a:pt x="968" y="355"/>
                  </a:lnTo>
                  <a:lnTo>
                    <a:pt x="961" y="323"/>
                  </a:lnTo>
                  <a:lnTo>
                    <a:pt x="953" y="292"/>
                  </a:lnTo>
                  <a:lnTo>
                    <a:pt x="955" y="270"/>
                  </a:lnTo>
                  <a:lnTo>
                    <a:pt x="963" y="249"/>
                  </a:lnTo>
                  <a:lnTo>
                    <a:pt x="971" y="229"/>
                  </a:lnTo>
                  <a:lnTo>
                    <a:pt x="974" y="208"/>
                  </a:lnTo>
                  <a:lnTo>
                    <a:pt x="974" y="183"/>
                  </a:lnTo>
                  <a:lnTo>
                    <a:pt x="973" y="159"/>
                  </a:lnTo>
                  <a:lnTo>
                    <a:pt x="970" y="135"/>
                  </a:lnTo>
                  <a:lnTo>
                    <a:pt x="968" y="112"/>
                  </a:lnTo>
                  <a:lnTo>
                    <a:pt x="970" y="89"/>
                  </a:lnTo>
                  <a:lnTo>
                    <a:pt x="975" y="68"/>
                  </a:lnTo>
                  <a:lnTo>
                    <a:pt x="986" y="49"/>
                  </a:lnTo>
                  <a:lnTo>
                    <a:pt x="1003" y="30"/>
                  </a:lnTo>
                  <a:lnTo>
                    <a:pt x="1009" y="29"/>
                  </a:lnTo>
                  <a:lnTo>
                    <a:pt x="1013" y="25"/>
                  </a:lnTo>
                  <a:lnTo>
                    <a:pt x="1017" y="21"/>
                  </a:lnTo>
                  <a:lnTo>
                    <a:pt x="1019" y="15"/>
                  </a:lnTo>
                  <a:lnTo>
                    <a:pt x="1023" y="11"/>
                  </a:lnTo>
                  <a:lnTo>
                    <a:pt x="1026" y="5"/>
                  </a:lnTo>
                  <a:lnTo>
                    <a:pt x="1031" y="1"/>
                  </a:lnTo>
                  <a:lnTo>
                    <a:pt x="1038" y="0"/>
                  </a:lnTo>
                  <a:lnTo>
                    <a:pt x="1046" y="0"/>
                  </a:lnTo>
                  <a:lnTo>
                    <a:pt x="1053" y="4"/>
                  </a:lnTo>
                  <a:lnTo>
                    <a:pt x="1057" y="8"/>
                  </a:lnTo>
                  <a:lnTo>
                    <a:pt x="10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21880" y="1166400"/>
              <a:ext cx="363600" cy="978480"/>
            </a:xfrm>
            <a:custGeom>
              <a:avLst/>
              <a:gdLst/>
              <a:ahLst/>
              <a:rect l="l" t="t" r="r" b="b"/>
              <a:pathLst>
                <a:path w="189" h="509">
                  <a:moveTo>
                    <a:pt x="72" y="1"/>
                  </a:moveTo>
                  <a:lnTo>
                    <a:pt x="75" y="7"/>
                  </a:lnTo>
                  <a:lnTo>
                    <a:pt x="77" y="11"/>
                  </a:lnTo>
                  <a:lnTo>
                    <a:pt x="78" y="16"/>
                  </a:lnTo>
                  <a:lnTo>
                    <a:pt x="78" y="21"/>
                  </a:lnTo>
                  <a:lnTo>
                    <a:pt x="74" y="39"/>
                  </a:lnTo>
                  <a:lnTo>
                    <a:pt x="75" y="55"/>
                  </a:lnTo>
                  <a:lnTo>
                    <a:pt x="79" y="71"/>
                  </a:lnTo>
                  <a:lnTo>
                    <a:pt x="83" y="86"/>
                  </a:lnTo>
                  <a:lnTo>
                    <a:pt x="88" y="101"/>
                  </a:lnTo>
                  <a:lnTo>
                    <a:pt x="93" y="117"/>
                  </a:lnTo>
                  <a:lnTo>
                    <a:pt x="96" y="132"/>
                  </a:lnTo>
                  <a:lnTo>
                    <a:pt x="96" y="150"/>
                  </a:lnTo>
                  <a:lnTo>
                    <a:pt x="95" y="152"/>
                  </a:lnTo>
                  <a:lnTo>
                    <a:pt x="94" y="153"/>
                  </a:lnTo>
                  <a:lnTo>
                    <a:pt x="93" y="155"/>
                  </a:lnTo>
                  <a:lnTo>
                    <a:pt x="93" y="159"/>
                  </a:lnTo>
                  <a:lnTo>
                    <a:pt x="97" y="163"/>
                  </a:lnTo>
                  <a:lnTo>
                    <a:pt x="102" y="163"/>
                  </a:lnTo>
                  <a:lnTo>
                    <a:pt x="108" y="162"/>
                  </a:lnTo>
                  <a:lnTo>
                    <a:pt x="112" y="161"/>
                  </a:lnTo>
                  <a:lnTo>
                    <a:pt x="120" y="162"/>
                  </a:lnTo>
                  <a:lnTo>
                    <a:pt x="128" y="163"/>
                  </a:lnTo>
                  <a:lnTo>
                    <a:pt x="136" y="162"/>
                  </a:lnTo>
                  <a:lnTo>
                    <a:pt x="142" y="159"/>
                  </a:lnTo>
                  <a:lnTo>
                    <a:pt x="138" y="153"/>
                  </a:lnTo>
                  <a:lnTo>
                    <a:pt x="130" y="151"/>
                  </a:lnTo>
                  <a:lnTo>
                    <a:pt x="121" y="150"/>
                  </a:lnTo>
                  <a:lnTo>
                    <a:pt x="113" y="149"/>
                  </a:lnTo>
                  <a:lnTo>
                    <a:pt x="111" y="127"/>
                  </a:lnTo>
                  <a:lnTo>
                    <a:pt x="109" y="104"/>
                  </a:lnTo>
                  <a:lnTo>
                    <a:pt x="105" y="82"/>
                  </a:lnTo>
                  <a:lnTo>
                    <a:pt x="98" y="61"/>
                  </a:lnTo>
                  <a:lnTo>
                    <a:pt x="96" y="46"/>
                  </a:lnTo>
                  <a:lnTo>
                    <a:pt x="96" y="31"/>
                  </a:lnTo>
                  <a:lnTo>
                    <a:pt x="98" y="17"/>
                  </a:lnTo>
                  <a:lnTo>
                    <a:pt x="102" y="4"/>
                  </a:lnTo>
                  <a:lnTo>
                    <a:pt x="111" y="9"/>
                  </a:lnTo>
                  <a:lnTo>
                    <a:pt x="117" y="17"/>
                  </a:lnTo>
                  <a:lnTo>
                    <a:pt x="119" y="28"/>
                  </a:lnTo>
                  <a:lnTo>
                    <a:pt x="121" y="38"/>
                  </a:lnTo>
                  <a:lnTo>
                    <a:pt x="124" y="68"/>
                  </a:lnTo>
                  <a:lnTo>
                    <a:pt x="132" y="96"/>
                  </a:lnTo>
                  <a:lnTo>
                    <a:pt x="141" y="123"/>
                  </a:lnTo>
                  <a:lnTo>
                    <a:pt x="142" y="153"/>
                  </a:lnTo>
                  <a:lnTo>
                    <a:pt x="146" y="159"/>
                  </a:lnTo>
                  <a:lnTo>
                    <a:pt x="150" y="166"/>
                  </a:lnTo>
                  <a:lnTo>
                    <a:pt x="155" y="172"/>
                  </a:lnTo>
                  <a:lnTo>
                    <a:pt x="162" y="174"/>
                  </a:lnTo>
                  <a:lnTo>
                    <a:pt x="172" y="185"/>
                  </a:lnTo>
                  <a:lnTo>
                    <a:pt x="181" y="198"/>
                  </a:lnTo>
                  <a:lnTo>
                    <a:pt x="187" y="212"/>
                  </a:lnTo>
                  <a:lnTo>
                    <a:pt x="189" y="227"/>
                  </a:lnTo>
                  <a:lnTo>
                    <a:pt x="188" y="242"/>
                  </a:lnTo>
                  <a:lnTo>
                    <a:pt x="185" y="256"/>
                  </a:lnTo>
                  <a:lnTo>
                    <a:pt x="180" y="269"/>
                  </a:lnTo>
                  <a:lnTo>
                    <a:pt x="174" y="282"/>
                  </a:lnTo>
                  <a:lnTo>
                    <a:pt x="174" y="296"/>
                  </a:lnTo>
                  <a:lnTo>
                    <a:pt x="176" y="311"/>
                  </a:lnTo>
                  <a:lnTo>
                    <a:pt x="174" y="326"/>
                  </a:lnTo>
                  <a:lnTo>
                    <a:pt x="172" y="340"/>
                  </a:lnTo>
                  <a:lnTo>
                    <a:pt x="169" y="352"/>
                  </a:lnTo>
                  <a:lnTo>
                    <a:pt x="163" y="365"/>
                  </a:lnTo>
                  <a:lnTo>
                    <a:pt x="154" y="374"/>
                  </a:lnTo>
                  <a:lnTo>
                    <a:pt x="142" y="382"/>
                  </a:lnTo>
                  <a:lnTo>
                    <a:pt x="135" y="384"/>
                  </a:lnTo>
                  <a:lnTo>
                    <a:pt x="130" y="385"/>
                  </a:lnTo>
                  <a:lnTo>
                    <a:pt x="123" y="385"/>
                  </a:lnTo>
                  <a:lnTo>
                    <a:pt x="116" y="386"/>
                  </a:lnTo>
                  <a:lnTo>
                    <a:pt x="110" y="387"/>
                  </a:lnTo>
                  <a:lnTo>
                    <a:pt x="103" y="388"/>
                  </a:lnTo>
                  <a:lnTo>
                    <a:pt x="97" y="390"/>
                  </a:lnTo>
                  <a:lnTo>
                    <a:pt x="92" y="393"/>
                  </a:lnTo>
                  <a:lnTo>
                    <a:pt x="93" y="397"/>
                  </a:lnTo>
                  <a:lnTo>
                    <a:pt x="95" y="401"/>
                  </a:lnTo>
                  <a:lnTo>
                    <a:pt x="100" y="403"/>
                  </a:lnTo>
                  <a:lnTo>
                    <a:pt x="103" y="404"/>
                  </a:lnTo>
                  <a:lnTo>
                    <a:pt x="140" y="407"/>
                  </a:lnTo>
                  <a:lnTo>
                    <a:pt x="142" y="430"/>
                  </a:lnTo>
                  <a:lnTo>
                    <a:pt x="146" y="454"/>
                  </a:lnTo>
                  <a:lnTo>
                    <a:pt x="150" y="477"/>
                  </a:lnTo>
                  <a:lnTo>
                    <a:pt x="157" y="500"/>
                  </a:lnTo>
                  <a:lnTo>
                    <a:pt x="148" y="503"/>
                  </a:lnTo>
                  <a:lnTo>
                    <a:pt x="138" y="506"/>
                  </a:lnTo>
                  <a:lnTo>
                    <a:pt x="127" y="508"/>
                  </a:lnTo>
                  <a:lnTo>
                    <a:pt x="116" y="509"/>
                  </a:lnTo>
                  <a:lnTo>
                    <a:pt x="105" y="509"/>
                  </a:lnTo>
                  <a:lnTo>
                    <a:pt x="95" y="508"/>
                  </a:lnTo>
                  <a:lnTo>
                    <a:pt x="85" y="507"/>
                  </a:lnTo>
                  <a:lnTo>
                    <a:pt x="74" y="504"/>
                  </a:lnTo>
                  <a:lnTo>
                    <a:pt x="74" y="486"/>
                  </a:lnTo>
                  <a:lnTo>
                    <a:pt x="73" y="468"/>
                  </a:lnTo>
                  <a:lnTo>
                    <a:pt x="71" y="450"/>
                  </a:lnTo>
                  <a:lnTo>
                    <a:pt x="66" y="433"/>
                  </a:lnTo>
                  <a:lnTo>
                    <a:pt x="59" y="417"/>
                  </a:lnTo>
                  <a:lnTo>
                    <a:pt x="51" y="401"/>
                  </a:lnTo>
                  <a:lnTo>
                    <a:pt x="40" y="388"/>
                  </a:lnTo>
                  <a:lnTo>
                    <a:pt x="27" y="375"/>
                  </a:lnTo>
                  <a:lnTo>
                    <a:pt x="20" y="349"/>
                  </a:lnTo>
                  <a:lnTo>
                    <a:pt x="15" y="322"/>
                  </a:lnTo>
                  <a:lnTo>
                    <a:pt x="10" y="296"/>
                  </a:lnTo>
                  <a:lnTo>
                    <a:pt x="0" y="271"/>
                  </a:lnTo>
                  <a:lnTo>
                    <a:pt x="4" y="249"/>
                  </a:lnTo>
                  <a:lnTo>
                    <a:pt x="12" y="228"/>
                  </a:lnTo>
                  <a:lnTo>
                    <a:pt x="21" y="208"/>
                  </a:lnTo>
                  <a:lnTo>
                    <a:pt x="29" y="189"/>
                  </a:lnTo>
                  <a:lnTo>
                    <a:pt x="37" y="195"/>
                  </a:lnTo>
                  <a:lnTo>
                    <a:pt x="42" y="203"/>
                  </a:lnTo>
                  <a:lnTo>
                    <a:pt x="44" y="212"/>
                  </a:lnTo>
                  <a:lnTo>
                    <a:pt x="44" y="221"/>
                  </a:lnTo>
                  <a:lnTo>
                    <a:pt x="44" y="235"/>
                  </a:lnTo>
                  <a:lnTo>
                    <a:pt x="40" y="245"/>
                  </a:lnTo>
                  <a:lnTo>
                    <a:pt x="32" y="254"/>
                  </a:lnTo>
                  <a:lnTo>
                    <a:pt x="27" y="265"/>
                  </a:lnTo>
                  <a:lnTo>
                    <a:pt x="33" y="268"/>
                  </a:lnTo>
                  <a:lnTo>
                    <a:pt x="40" y="269"/>
                  </a:lnTo>
                  <a:lnTo>
                    <a:pt x="48" y="269"/>
                  </a:lnTo>
                  <a:lnTo>
                    <a:pt x="55" y="273"/>
                  </a:lnTo>
                  <a:lnTo>
                    <a:pt x="63" y="281"/>
                  </a:lnTo>
                  <a:lnTo>
                    <a:pt x="66" y="291"/>
                  </a:lnTo>
                  <a:lnTo>
                    <a:pt x="71" y="299"/>
                  </a:lnTo>
                  <a:lnTo>
                    <a:pt x="81" y="299"/>
                  </a:lnTo>
                  <a:lnTo>
                    <a:pt x="82" y="291"/>
                  </a:lnTo>
                  <a:lnTo>
                    <a:pt x="80" y="283"/>
                  </a:lnTo>
                  <a:lnTo>
                    <a:pt x="77" y="276"/>
                  </a:lnTo>
                  <a:lnTo>
                    <a:pt x="72" y="269"/>
                  </a:lnTo>
                  <a:lnTo>
                    <a:pt x="67" y="263"/>
                  </a:lnTo>
                  <a:lnTo>
                    <a:pt x="64" y="257"/>
                  </a:lnTo>
                  <a:lnTo>
                    <a:pt x="63" y="251"/>
                  </a:lnTo>
                  <a:lnTo>
                    <a:pt x="65" y="245"/>
                  </a:lnTo>
                  <a:lnTo>
                    <a:pt x="70" y="246"/>
                  </a:lnTo>
                  <a:lnTo>
                    <a:pt x="74" y="249"/>
                  </a:lnTo>
                  <a:lnTo>
                    <a:pt x="79" y="252"/>
                  </a:lnTo>
                  <a:lnTo>
                    <a:pt x="83" y="257"/>
                  </a:lnTo>
                  <a:lnTo>
                    <a:pt x="87" y="260"/>
                  </a:lnTo>
                  <a:lnTo>
                    <a:pt x="93" y="263"/>
                  </a:lnTo>
                  <a:lnTo>
                    <a:pt x="97" y="261"/>
                  </a:lnTo>
                  <a:lnTo>
                    <a:pt x="104" y="258"/>
                  </a:lnTo>
                  <a:lnTo>
                    <a:pt x="111" y="257"/>
                  </a:lnTo>
                  <a:lnTo>
                    <a:pt x="118" y="257"/>
                  </a:lnTo>
                  <a:lnTo>
                    <a:pt x="125" y="259"/>
                  </a:lnTo>
                  <a:lnTo>
                    <a:pt x="131" y="261"/>
                  </a:lnTo>
                  <a:lnTo>
                    <a:pt x="136" y="264"/>
                  </a:lnTo>
                  <a:lnTo>
                    <a:pt x="141" y="268"/>
                  </a:lnTo>
                  <a:lnTo>
                    <a:pt x="147" y="272"/>
                  </a:lnTo>
                  <a:lnTo>
                    <a:pt x="151" y="276"/>
                  </a:lnTo>
                  <a:lnTo>
                    <a:pt x="154" y="276"/>
                  </a:lnTo>
                  <a:lnTo>
                    <a:pt x="157" y="276"/>
                  </a:lnTo>
                  <a:lnTo>
                    <a:pt x="160" y="276"/>
                  </a:lnTo>
                  <a:lnTo>
                    <a:pt x="161" y="274"/>
                  </a:lnTo>
                  <a:lnTo>
                    <a:pt x="154" y="261"/>
                  </a:lnTo>
                  <a:lnTo>
                    <a:pt x="145" y="253"/>
                  </a:lnTo>
                  <a:lnTo>
                    <a:pt x="134" y="248"/>
                  </a:lnTo>
                  <a:lnTo>
                    <a:pt x="121" y="244"/>
                  </a:lnTo>
                  <a:lnTo>
                    <a:pt x="109" y="242"/>
                  </a:lnTo>
                  <a:lnTo>
                    <a:pt x="96" y="238"/>
                  </a:lnTo>
                  <a:lnTo>
                    <a:pt x="85" y="234"/>
                  </a:lnTo>
                  <a:lnTo>
                    <a:pt x="74" y="225"/>
                  </a:lnTo>
                  <a:lnTo>
                    <a:pt x="68" y="222"/>
                  </a:lnTo>
                  <a:lnTo>
                    <a:pt x="67" y="218"/>
                  </a:lnTo>
                  <a:lnTo>
                    <a:pt x="67" y="211"/>
                  </a:lnTo>
                  <a:lnTo>
                    <a:pt x="65" y="205"/>
                  </a:lnTo>
                  <a:lnTo>
                    <a:pt x="63" y="197"/>
                  </a:lnTo>
                  <a:lnTo>
                    <a:pt x="58" y="188"/>
                  </a:lnTo>
                  <a:lnTo>
                    <a:pt x="59" y="181"/>
                  </a:lnTo>
                  <a:lnTo>
                    <a:pt x="68" y="175"/>
                  </a:lnTo>
                  <a:lnTo>
                    <a:pt x="72" y="174"/>
                  </a:lnTo>
                  <a:lnTo>
                    <a:pt x="75" y="173"/>
                  </a:lnTo>
                  <a:lnTo>
                    <a:pt x="79" y="172"/>
                  </a:lnTo>
                  <a:lnTo>
                    <a:pt x="81" y="169"/>
                  </a:lnTo>
                  <a:lnTo>
                    <a:pt x="82" y="166"/>
                  </a:lnTo>
                  <a:lnTo>
                    <a:pt x="81" y="163"/>
                  </a:lnTo>
                  <a:lnTo>
                    <a:pt x="79" y="162"/>
                  </a:lnTo>
                  <a:lnTo>
                    <a:pt x="77" y="160"/>
                  </a:lnTo>
                  <a:lnTo>
                    <a:pt x="72" y="142"/>
                  </a:lnTo>
                  <a:lnTo>
                    <a:pt x="65" y="123"/>
                  </a:lnTo>
                  <a:lnTo>
                    <a:pt x="58" y="104"/>
                  </a:lnTo>
                  <a:lnTo>
                    <a:pt x="56" y="84"/>
                  </a:lnTo>
                  <a:lnTo>
                    <a:pt x="53" y="71"/>
                  </a:lnTo>
                  <a:lnTo>
                    <a:pt x="57" y="60"/>
                  </a:lnTo>
                  <a:lnTo>
                    <a:pt x="62" y="48"/>
                  </a:lnTo>
                  <a:lnTo>
                    <a:pt x="59" y="34"/>
                  </a:lnTo>
                  <a:lnTo>
                    <a:pt x="53" y="26"/>
                  </a:lnTo>
                  <a:lnTo>
                    <a:pt x="55" y="17"/>
                  </a:lnTo>
                  <a:lnTo>
                    <a:pt x="59" y="9"/>
                  </a:lnTo>
                  <a:lnTo>
                    <a:pt x="64" y="1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47800" y="1220400"/>
              <a:ext cx="84240" cy="264600"/>
            </a:xfrm>
            <a:custGeom>
              <a:avLst/>
              <a:gdLst/>
              <a:ahLst/>
              <a:rect l="l" t="t" r="r" b="b"/>
              <a:pathLst>
                <a:path w="44" h="139">
                  <a:moveTo>
                    <a:pt x="27" y="3"/>
                  </a:moveTo>
                  <a:lnTo>
                    <a:pt x="29" y="19"/>
                  </a:lnTo>
                  <a:lnTo>
                    <a:pt x="23" y="32"/>
                  </a:lnTo>
                  <a:lnTo>
                    <a:pt x="19" y="46"/>
                  </a:lnTo>
                  <a:lnTo>
                    <a:pt x="22" y="61"/>
                  </a:lnTo>
                  <a:lnTo>
                    <a:pt x="28" y="77"/>
                  </a:lnTo>
                  <a:lnTo>
                    <a:pt x="33" y="94"/>
                  </a:lnTo>
                  <a:lnTo>
                    <a:pt x="38" y="111"/>
                  </a:lnTo>
                  <a:lnTo>
                    <a:pt x="44" y="127"/>
                  </a:lnTo>
                  <a:lnTo>
                    <a:pt x="35" y="132"/>
                  </a:lnTo>
                  <a:lnTo>
                    <a:pt x="28" y="137"/>
                  </a:lnTo>
                  <a:lnTo>
                    <a:pt x="20" y="139"/>
                  </a:lnTo>
                  <a:lnTo>
                    <a:pt x="11" y="134"/>
                  </a:lnTo>
                  <a:lnTo>
                    <a:pt x="5" y="101"/>
                  </a:lnTo>
                  <a:lnTo>
                    <a:pt x="0" y="68"/>
                  </a:lnTo>
                  <a:lnTo>
                    <a:pt x="3" y="34"/>
                  </a:lnTo>
                  <a:lnTo>
                    <a:pt x="15" y="3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651640" y="1305000"/>
              <a:ext cx="79920" cy="210600"/>
            </a:xfrm>
            <a:custGeom>
              <a:avLst/>
              <a:gdLst/>
              <a:ahLst/>
              <a:rect l="l" t="t" r="r" b="b"/>
              <a:pathLst>
                <a:path w="43" h="110">
                  <a:moveTo>
                    <a:pt x="40" y="0"/>
                  </a:moveTo>
                  <a:lnTo>
                    <a:pt x="43" y="20"/>
                  </a:lnTo>
                  <a:lnTo>
                    <a:pt x="36" y="38"/>
                  </a:lnTo>
                  <a:lnTo>
                    <a:pt x="27" y="57"/>
                  </a:lnTo>
                  <a:lnTo>
                    <a:pt x="23" y="77"/>
                  </a:lnTo>
                  <a:lnTo>
                    <a:pt x="24" y="83"/>
                  </a:lnTo>
                  <a:lnTo>
                    <a:pt x="24" y="93"/>
                  </a:lnTo>
                  <a:lnTo>
                    <a:pt x="23" y="102"/>
                  </a:lnTo>
                  <a:lnTo>
                    <a:pt x="22" y="110"/>
                  </a:lnTo>
                  <a:lnTo>
                    <a:pt x="14" y="105"/>
                  </a:lnTo>
                  <a:lnTo>
                    <a:pt x="5" y="100"/>
                  </a:lnTo>
                  <a:lnTo>
                    <a:pt x="0" y="90"/>
                  </a:lnTo>
                  <a:lnTo>
                    <a:pt x="3" y="79"/>
                  </a:lnTo>
                  <a:lnTo>
                    <a:pt x="7" y="68"/>
                  </a:lnTo>
                  <a:lnTo>
                    <a:pt x="9" y="57"/>
                  </a:lnTo>
                  <a:lnTo>
                    <a:pt x="12" y="45"/>
                  </a:lnTo>
                  <a:lnTo>
                    <a:pt x="15" y="35"/>
                  </a:lnTo>
                  <a:lnTo>
                    <a:pt x="18" y="25"/>
                  </a:lnTo>
                  <a:lnTo>
                    <a:pt x="24" y="15"/>
                  </a:lnTo>
                  <a:lnTo>
                    <a:pt x="31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493960" y="1726920"/>
              <a:ext cx="103320" cy="10692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53" y="40"/>
                  </a:moveTo>
                  <a:lnTo>
                    <a:pt x="52" y="44"/>
                  </a:lnTo>
                  <a:lnTo>
                    <a:pt x="52" y="50"/>
                  </a:lnTo>
                  <a:lnTo>
                    <a:pt x="51" y="55"/>
                  </a:lnTo>
                  <a:lnTo>
                    <a:pt x="49" y="58"/>
                  </a:lnTo>
                  <a:lnTo>
                    <a:pt x="38" y="51"/>
                  </a:lnTo>
                  <a:lnTo>
                    <a:pt x="33" y="40"/>
                  </a:lnTo>
                  <a:lnTo>
                    <a:pt x="28" y="28"/>
                  </a:lnTo>
                  <a:lnTo>
                    <a:pt x="16" y="19"/>
                  </a:lnTo>
                  <a:lnTo>
                    <a:pt x="11" y="18"/>
                  </a:lnTo>
                  <a:lnTo>
                    <a:pt x="7" y="13"/>
                  </a:lnTo>
                  <a:lnTo>
                    <a:pt x="4" y="10"/>
                  </a:lnTo>
                  <a:lnTo>
                    <a:pt x="0" y="6"/>
                  </a:lnTo>
                  <a:lnTo>
                    <a:pt x="5" y="2"/>
                  </a:lnTo>
                  <a:lnTo>
                    <a:pt x="11" y="0"/>
                  </a:lnTo>
                  <a:lnTo>
                    <a:pt x="16" y="2"/>
                  </a:lnTo>
                  <a:lnTo>
                    <a:pt x="21" y="3"/>
                  </a:lnTo>
                  <a:lnTo>
                    <a:pt x="31" y="10"/>
                  </a:lnTo>
                  <a:lnTo>
                    <a:pt x="40" y="19"/>
                  </a:lnTo>
                  <a:lnTo>
                    <a:pt x="48" y="29"/>
                  </a:lnTo>
                  <a:lnTo>
                    <a:pt x="5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425200" y="2114640"/>
              <a:ext cx="299160" cy="218520"/>
            </a:xfrm>
            <a:custGeom>
              <a:avLst/>
              <a:gdLst/>
              <a:ahLst/>
              <a:rect l="l" t="t" r="r" b="b"/>
              <a:pathLst>
                <a:path w="154" h="113">
                  <a:moveTo>
                    <a:pt x="143" y="89"/>
                  </a:moveTo>
                  <a:lnTo>
                    <a:pt x="131" y="98"/>
                  </a:lnTo>
                  <a:lnTo>
                    <a:pt x="119" y="104"/>
                  </a:lnTo>
                  <a:lnTo>
                    <a:pt x="106" y="108"/>
                  </a:lnTo>
                  <a:lnTo>
                    <a:pt x="92" y="112"/>
                  </a:lnTo>
                  <a:lnTo>
                    <a:pt x="78" y="113"/>
                  </a:lnTo>
                  <a:lnTo>
                    <a:pt x="64" y="112"/>
                  </a:lnTo>
                  <a:lnTo>
                    <a:pt x="50" y="110"/>
                  </a:lnTo>
                  <a:lnTo>
                    <a:pt x="38" y="106"/>
                  </a:lnTo>
                  <a:lnTo>
                    <a:pt x="30" y="103"/>
                  </a:lnTo>
                  <a:lnTo>
                    <a:pt x="22" y="99"/>
                  </a:lnTo>
                  <a:lnTo>
                    <a:pt x="13" y="95"/>
                  </a:lnTo>
                  <a:lnTo>
                    <a:pt x="9" y="88"/>
                  </a:lnTo>
                  <a:lnTo>
                    <a:pt x="9" y="72"/>
                  </a:lnTo>
                  <a:lnTo>
                    <a:pt x="8" y="57"/>
                  </a:lnTo>
                  <a:lnTo>
                    <a:pt x="4" y="40"/>
                  </a:lnTo>
                  <a:lnTo>
                    <a:pt x="0" y="25"/>
                  </a:lnTo>
                  <a:lnTo>
                    <a:pt x="15" y="29"/>
                  </a:lnTo>
                  <a:lnTo>
                    <a:pt x="30" y="31"/>
                  </a:lnTo>
                  <a:lnTo>
                    <a:pt x="45" y="32"/>
                  </a:lnTo>
                  <a:lnTo>
                    <a:pt x="60" y="31"/>
                  </a:lnTo>
                  <a:lnTo>
                    <a:pt x="75" y="30"/>
                  </a:lnTo>
                  <a:lnTo>
                    <a:pt x="90" y="28"/>
                  </a:lnTo>
                  <a:lnTo>
                    <a:pt x="105" y="24"/>
                  </a:lnTo>
                  <a:lnTo>
                    <a:pt x="118" y="21"/>
                  </a:lnTo>
                  <a:lnTo>
                    <a:pt x="125" y="16"/>
                  </a:lnTo>
                  <a:lnTo>
                    <a:pt x="132" y="12"/>
                  </a:lnTo>
                  <a:lnTo>
                    <a:pt x="139" y="7"/>
                  </a:lnTo>
                  <a:lnTo>
                    <a:pt x="145" y="0"/>
                  </a:lnTo>
                  <a:lnTo>
                    <a:pt x="151" y="21"/>
                  </a:lnTo>
                  <a:lnTo>
                    <a:pt x="154" y="45"/>
                  </a:lnTo>
                  <a:lnTo>
                    <a:pt x="153" y="69"/>
                  </a:lnTo>
                  <a:lnTo>
                    <a:pt x="143" y="89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689800" y="2163960"/>
              <a:ext cx="15480" cy="504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9" y="24"/>
                  </a:moveTo>
                  <a:lnTo>
                    <a:pt x="8" y="25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0"/>
                  </a:lnTo>
                  <a:lnTo>
                    <a:pt x="6" y="4"/>
                  </a:lnTo>
                  <a:lnTo>
                    <a:pt x="8" y="10"/>
                  </a:lnTo>
                  <a:lnTo>
                    <a:pt x="8" y="17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655240" y="2168640"/>
              <a:ext cx="19080" cy="122400"/>
            </a:xfrm>
            <a:custGeom>
              <a:avLst/>
              <a:gdLst/>
              <a:ahLst/>
              <a:rect l="l" t="t" r="r" b="b"/>
              <a:pathLst>
                <a:path w="10" h="62">
                  <a:moveTo>
                    <a:pt x="9" y="3"/>
                  </a:moveTo>
                  <a:lnTo>
                    <a:pt x="9" y="18"/>
                  </a:lnTo>
                  <a:lnTo>
                    <a:pt x="10" y="33"/>
                  </a:lnTo>
                  <a:lnTo>
                    <a:pt x="10" y="48"/>
                  </a:lnTo>
                  <a:lnTo>
                    <a:pt x="6" y="62"/>
                  </a:lnTo>
                  <a:lnTo>
                    <a:pt x="0" y="55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463720" y="2187720"/>
              <a:ext cx="30240" cy="106920"/>
            </a:xfrm>
            <a:custGeom>
              <a:avLst/>
              <a:gdLst/>
              <a:ahLst/>
              <a:rect l="l" t="t" r="r" b="b"/>
              <a:pathLst>
                <a:path w="16" h="55">
                  <a:moveTo>
                    <a:pt x="4" y="0"/>
                  </a:moveTo>
                  <a:lnTo>
                    <a:pt x="7" y="13"/>
                  </a:lnTo>
                  <a:lnTo>
                    <a:pt x="11" y="25"/>
                  </a:lnTo>
                  <a:lnTo>
                    <a:pt x="13" y="39"/>
                  </a:lnTo>
                  <a:lnTo>
                    <a:pt x="16" y="52"/>
                  </a:lnTo>
                  <a:lnTo>
                    <a:pt x="14" y="54"/>
                  </a:lnTo>
                  <a:lnTo>
                    <a:pt x="13" y="55"/>
                  </a:lnTo>
                  <a:lnTo>
                    <a:pt x="11" y="55"/>
                  </a:lnTo>
                  <a:lnTo>
                    <a:pt x="8" y="54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01880" y="2210400"/>
              <a:ext cx="19080" cy="61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32"/>
                  </a:moveTo>
                  <a:lnTo>
                    <a:pt x="3" y="31"/>
                  </a:lnTo>
                  <a:lnTo>
                    <a:pt x="2" y="25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2" y="0"/>
                  </a:lnTo>
                  <a:lnTo>
                    <a:pt x="7" y="5"/>
                  </a:lnTo>
                  <a:lnTo>
                    <a:pt x="9" y="13"/>
                  </a:lnTo>
                  <a:lnTo>
                    <a:pt x="9" y="23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78840" y="2306880"/>
              <a:ext cx="2133720" cy="2659680"/>
            </a:xfrm>
            <a:custGeom>
              <a:avLst/>
              <a:gdLst/>
              <a:ahLst/>
              <a:rect l="l" t="t" r="r" b="b"/>
              <a:pathLst>
                <a:path w="1112" h="1387">
                  <a:moveTo>
                    <a:pt x="1091" y="80"/>
                  </a:moveTo>
                  <a:lnTo>
                    <a:pt x="1098" y="289"/>
                  </a:lnTo>
                  <a:lnTo>
                    <a:pt x="1101" y="323"/>
                  </a:lnTo>
                  <a:lnTo>
                    <a:pt x="1105" y="356"/>
                  </a:lnTo>
                  <a:lnTo>
                    <a:pt x="1109" y="390"/>
                  </a:lnTo>
                  <a:lnTo>
                    <a:pt x="1112" y="424"/>
                  </a:lnTo>
                  <a:lnTo>
                    <a:pt x="1103" y="451"/>
                  </a:lnTo>
                  <a:lnTo>
                    <a:pt x="1090" y="475"/>
                  </a:lnTo>
                  <a:lnTo>
                    <a:pt x="1076" y="500"/>
                  </a:lnTo>
                  <a:lnTo>
                    <a:pt x="1063" y="523"/>
                  </a:lnTo>
                  <a:lnTo>
                    <a:pt x="1048" y="547"/>
                  </a:lnTo>
                  <a:lnTo>
                    <a:pt x="1033" y="572"/>
                  </a:lnTo>
                  <a:lnTo>
                    <a:pt x="1020" y="596"/>
                  </a:lnTo>
                  <a:lnTo>
                    <a:pt x="1008" y="621"/>
                  </a:lnTo>
                  <a:lnTo>
                    <a:pt x="915" y="788"/>
                  </a:lnTo>
                  <a:lnTo>
                    <a:pt x="906" y="808"/>
                  </a:lnTo>
                  <a:lnTo>
                    <a:pt x="898" y="829"/>
                  </a:lnTo>
                  <a:lnTo>
                    <a:pt x="890" y="849"/>
                  </a:lnTo>
                  <a:lnTo>
                    <a:pt x="884" y="870"/>
                  </a:lnTo>
                  <a:lnTo>
                    <a:pt x="874" y="835"/>
                  </a:lnTo>
                  <a:lnTo>
                    <a:pt x="867" y="796"/>
                  </a:lnTo>
                  <a:lnTo>
                    <a:pt x="863" y="763"/>
                  </a:lnTo>
                  <a:lnTo>
                    <a:pt x="860" y="750"/>
                  </a:lnTo>
                  <a:lnTo>
                    <a:pt x="849" y="767"/>
                  </a:lnTo>
                  <a:lnTo>
                    <a:pt x="846" y="787"/>
                  </a:lnTo>
                  <a:lnTo>
                    <a:pt x="847" y="809"/>
                  </a:lnTo>
                  <a:lnTo>
                    <a:pt x="848" y="830"/>
                  </a:lnTo>
                  <a:lnTo>
                    <a:pt x="854" y="858"/>
                  </a:lnTo>
                  <a:lnTo>
                    <a:pt x="862" y="886"/>
                  </a:lnTo>
                  <a:lnTo>
                    <a:pt x="871" y="914"/>
                  </a:lnTo>
                  <a:lnTo>
                    <a:pt x="881" y="940"/>
                  </a:lnTo>
                  <a:lnTo>
                    <a:pt x="891" y="967"/>
                  </a:lnTo>
                  <a:lnTo>
                    <a:pt x="902" y="992"/>
                  </a:lnTo>
                  <a:lnTo>
                    <a:pt x="913" y="1019"/>
                  </a:lnTo>
                  <a:lnTo>
                    <a:pt x="924" y="1045"/>
                  </a:lnTo>
                  <a:lnTo>
                    <a:pt x="952" y="1159"/>
                  </a:lnTo>
                  <a:lnTo>
                    <a:pt x="972" y="1289"/>
                  </a:lnTo>
                  <a:lnTo>
                    <a:pt x="966" y="1386"/>
                  </a:lnTo>
                  <a:lnTo>
                    <a:pt x="950" y="1385"/>
                  </a:lnTo>
                  <a:lnTo>
                    <a:pt x="952" y="1378"/>
                  </a:lnTo>
                  <a:lnTo>
                    <a:pt x="953" y="1371"/>
                  </a:lnTo>
                  <a:lnTo>
                    <a:pt x="953" y="1364"/>
                  </a:lnTo>
                  <a:lnTo>
                    <a:pt x="951" y="1357"/>
                  </a:lnTo>
                  <a:lnTo>
                    <a:pt x="955" y="1342"/>
                  </a:lnTo>
                  <a:lnTo>
                    <a:pt x="955" y="1326"/>
                  </a:lnTo>
                  <a:lnTo>
                    <a:pt x="953" y="1311"/>
                  </a:lnTo>
                  <a:lnTo>
                    <a:pt x="953" y="1296"/>
                  </a:lnTo>
                  <a:lnTo>
                    <a:pt x="958" y="1289"/>
                  </a:lnTo>
                  <a:lnTo>
                    <a:pt x="959" y="1281"/>
                  </a:lnTo>
                  <a:lnTo>
                    <a:pt x="959" y="1273"/>
                  </a:lnTo>
                  <a:lnTo>
                    <a:pt x="959" y="1266"/>
                  </a:lnTo>
                  <a:lnTo>
                    <a:pt x="951" y="1258"/>
                  </a:lnTo>
                  <a:lnTo>
                    <a:pt x="942" y="1254"/>
                  </a:lnTo>
                  <a:lnTo>
                    <a:pt x="931" y="1251"/>
                  </a:lnTo>
                  <a:lnTo>
                    <a:pt x="920" y="1251"/>
                  </a:lnTo>
                  <a:lnTo>
                    <a:pt x="908" y="1250"/>
                  </a:lnTo>
                  <a:lnTo>
                    <a:pt x="897" y="1249"/>
                  </a:lnTo>
                  <a:lnTo>
                    <a:pt x="886" y="1246"/>
                  </a:lnTo>
                  <a:lnTo>
                    <a:pt x="878" y="1239"/>
                  </a:lnTo>
                  <a:lnTo>
                    <a:pt x="867" y="1232"/>
                  </a:lnTo>
                  <a:lnTo>
                    <a:pt x="855" y="1226"/>
                  </a:lnTo>
                  <a:lnTo>
                    <a:pt x="842" y="1224"/>
                  </a:lnTo>
                  <a:lnTo>
                    <a:pt x="831" y="1223"/>
                  </a:lnTo>
                  <a:lnTo>
                    <a:pt x="819" y="1223"/>
                  </a:lnTo>
                  <a:lnTo>
                    <a:pt x="808" y="1225"/>
                  </a:lnTo>
                  <a:lnTo>
                    <a:pt x="796" y="1227"/>
                  </a:lnTo>
                  <a:lnTo>
                    <a:pt x="785" y="1231"/>
                  </a:lnTo>
                  <a:lnTo>
                    <a:pt x="773" y="1234"/>
                  </a:lnTo>
                  <a:lnTo>
                    <a:pt x="762" y="1238"/>
                  </a:lnTo>
                  <a:lnTo>
                    <a:pt x="750" y="1241"/>
                  </a:lnTo>
                  <a:lnTo>
                    <a:pt x="738" y="1244"/>
                  </a:lnTo>
                  <a:lnTo>
                    <a:pt x="726" y="1248"/>
                  </a:lnTo>
                  <a:lnTo>
                    <a:pt x="713" y="1250"/>
                  </a:lnTo>
                  <a:lnTo>
                    <a:pt x="702" y="1250"/>
                  </a:lnTo>
                  <a:lnTo>
                    <a:pt x="689" y="1250"/>
                  </a:lnTo>
                  <a:lnTo>
                    <a:pt x="677" y="1251"/>
                  </a:lnTo>
                  <a:lnTo>
                    <a:pt x="665" y="1250"/>
                  </a:lnTo>
                  <a:lnTo>
                    <a:pt x="653" y="1249"/>
                  </a:lnTo>
                  <a:lnTo>
                    <a:pt x="642" y="1248"/>
                  </a:lnTo>
                  <a:lnTo>
                    <a:pt x="630" y="1247"/>
                  </a:lnTo>
                  <a:lnTo>
                    <a:pt x="619" y="1247"/>
                  </a:lnTo>
                  <a:lnTo>
                    <a:pt x="607" y="1247"/>
                  </a:lnTo>
                  <a:lnTo>
                    <a:pt x="596" y="1249"/>
                  </a:lnTo>
                  <a:lnTo>
                    <a:pt x="590" y="1247"/>
                  </a:lnTo>
                  <a:lnTo>
                    <a:pt x="585" y="1246"/>
                  </a:lnTo>
                  <a:lnTo>
                    <a:pt x="580" y="1246"/>
                  </a:lnTo>
                  <a:lnTo>
                    <a:pt x="575" y="1247"/>
                  </a:lnTo>
                  <a:lnTo>
                    <a:pt x="569" y="1248"/>
                  </a:lnTo>
                  <a:lnTo>
                    <a:pt x="565" y="1249"/>
                  </a:lnTo>
                  <a:lnTo>
                    <a:pt x="559" y="1249"/>
                  </a:lnTo>
                  <a:lnTo>
                    <a:pt x="553" y="1249"/>
                  </a:lnTo>
                  <a:lnTo>
                    <a:pt x="541" y="1246"/>
                  </a:lnTo>
                  <a:lnTo>
                    <a:pt x="536" y="1235"/>
                  </a:lnTo>
                  <a:lnTo>
                    <a:pt x="531" y="1225"/>
                  </a:lnTo>
                  <a:lnTo>
                    <a:pt x="522" y="1218"/>
                  </a:lnTo>
                  <a:lnTo>
                    <a:pt x="507" y="1212"/>
                  </a:lnTo>
                  <a:lnTo>
                    <a:pt x="491" y="1209"/>
                  </a:lnTo>
                  <a:lnTo>
                    <a:pt x="474" y="1206"/>
                  </a:lnTo>
                  <a:lnTo>
                    <a:pt x="456" y="1205"/>
                  </a:lnTo>
                  <a:lnTo>
                    <a:pt x="439" y="1204"/>
                  </a:lnTo>
                  <a:lnTo>
                    <a:pt x="422" y="1204"/>
                  </a:lnTo>
                  <a:lnTo>
                    <a:pt x="405" y="1204"/>
                  </a:lnTo>
                  <a:lnTo>
                    <a:pt x="387" y="1204"/>
                  </a:lnTo>
                  <a:lnTo>
                    <a:pt x="378" y="1204"/>
                  </a:lnTo>
                  <a:lnTo>
                    <a:pt x="368" y="1205"/>
                  </a:lnTo>
                  <a:lnTo>
                    <a:pt x="358" y="1205"/>
                  </a:lnTo>
                  <a:lnTo>
                    <a:pt x="348" y="1205"/>
                  </a:lnTo>
                  <a:lnTo>
                    <a:pt x="339" y="1204"/>
                  </a:lnTo>
                  <a:lnTo>
                    <a:pt x="328" y="1203"/>
                  </a:lnTo>
                  <a:lnTo>
                    <a:pt x="320" y="1200"/>
                  </a:lnTo>
                  <a:lnTo>
                    <a:pt x="312" y="1195"/>
                  </a:lnTo>
                  <a:lnTo>
                    <a:pt x="308" y="1168"/>
                  </a:lnTo>
                  <a:lnTo>
                    <a:pt x="304" y="1141"/>
                  </a:lnTo>
                  <a:lnTo>
                    <a:pt x="302" y="1113"/>
                  </a:lnTo>
                  <a:lnTo>
                    <a:pt x="297" y="1085"/>
                  </a:lnTo>
                  <a:lnTo>
                    <a:pt x="292" y="1059"/>
                  </a:lnTo>
                  <a:lnTo>
                    <a:pt x="284" y="1034"/>
                  </a:lnTo>
                  <a:lnTo>
                    <a:pt x="271" y="1009"/>
                  </a:lnTo>
                  <a:lnTo>
                    <a:pt x="254" y="988"/>
                  </a:lnTo>
                  <a:lnTo>
                    <a:pt x="236" y="974"/>
                  </a:lnTo>
                  <a:lnTo>
                    <a:pt x="220" y="959"/>
                  </a:lnTo>
                  <a:lnTo>
                    <a:pt x="204" y="944"/>
                  </a:lnTo>
                  <a:lnTo>
                    <a:pt x="189" y="928"/>
                  </a:lnTo>
                  <a:lnTo>
                    <a:pt x="173" y="911"/>
                  </a:lnTo>
                  <a:lnTo>
                    <a:pt x="158" y="895"/>
                  </a:lnTo>
                  <a:lnTo>
                    <a:pt x="143" y="880"/>
                  </a:lnTo>
                  <a:lnTo>
                    <a:pt x="128" y="864"/>
                  </a:lnTo>
                  <a:lnTo>
                    <a:pt x="126" y="864"/>
                  </a:lnTo>
                  <a:lnTo>
                    <a:pt x="123" y="865"/>
                  </a:lnTo>
                  <a:lnTo>
                    <a:pt x="122" y="867"/>
                  </a:lnTo>
                  <a:lnTo>
                    <a:pt x="120" y="868"/>
                  </a:lnTo>
                  <a:lnTo>
                    <a:pt x="129" y="892"/>
                  </a:lnTo>
                  <a:lnTo>
                    <a:pt x="143" y="913"/>
                  </a:lnTo>
                  <a:lnTo>
                    <a:pt x="160" y="933"/>
                  </a:lnTo>
                  <a:lnTo>
                    <a:pt x="180" y="952"/>
                  </a:lnTo>
                  <a:lnTo>
                    <a:pt x="199" y="971"/>
                  </a:lnTo>
                  <a:lnTo>
                    <a:pt x="219" y="991"/>
                  </a:lnTo>
                  <a:lnTo>
                    <a:pt x="235" y="1012"/>
                  </a:lnTo>
                  <a:lnTo>
                    <a:pt x="249" y="1035"/>
                  </a:lnTo>
                  <a:lnTo>
                    <a:pt x="266" y="1070"/>
                  </a:lnTo>
                  <a:lnTo>
                    <a:pt x="273" y="1110"/>
                  </a:lnTo>
                  <a:lnTo>
                    <a:pt x="275" y="1150"/>
                  </a:lnTo>
                  <a:lnTo>
                    <a:pt x="278" y="1191"/>
                  </a:lnTo>
                  <a:lnTo>
                    <a:pt x="256" y="1201"/>
                  </a:lnTo>
                  <a:lnTo>
                    <a:pt x="233" y="1210"/>
                  </a:lnTo>
                  <a:lnTo>
                    <a:pt x="211" y="1221"/>
                  </a:lnTo>
                  <a:lnTo>
                    <a:pt x="190" y="1234"/>
                  </a:lnTo>
                  <a:lnTo>
                    <a:pt x="171" y="1249"/>
                  </a:lnTo>
                  <a:lnTo>
                    <a:pt x="153" y="1265"/>
                  </a:lnTo>
                  <a:lnTo>
                    <a:pt x="137" y="1285"/>
                  </a:lnTo>
                  <a:lnTo>
                    <a:pt x="124" y="1307"/>
                  </a:lnTo>
                  <a:lnTo>
                    <a:pt x="123" y="1311"/>
                  </a:lnTo>
                  <a:lnTo>
                    <a:pt x="122" y="1317"/>
                  </a:lnTo>
                  <a:lnTo>
                    <a:pt x="123" y="1323"/>
                  </a:lnTo>
                  <a:lnTo>
                    <a:pt x="127" y="1327"/>
                  </a:lnTo>
                  <a:lnTo>
                    <a:pt x="135" y="1325"/>
                  </a:lnTo>
                  <a:lnTo>
                    <a:pt x="138" y="1318"/>
                  </a:lnTo>
                  <a:lnTo>
                    <a:pt x="141" y="1310"/>
                  </a:lnTo>
                  <a:lnTo>
                    <a:pt x="146" y="1304"/>
                  </a:lnTo>
                  <a:lnTo>
                    <a:pt x="161" y="1291"/>
                  </a:lnTo>
                  <a:lnTo>
                    <a:pt x="176" y="1277"/>
                  </a:lnTo>
                  <a:lnTo>
                    <a:pt x="192" y="1264"/>
                  </a:lnTo>
                  <a:lnTo>
                    <a:pt x="210" y="1251"/>
                  </a:lnTo>
                  <a:lnTo>
                    <a:pt x="226" y="1241"/>
                  </a:lnTo>
                  <a:lnTo>
                    <a:pt x="244" y="1232"/>
                  </a:lnTo>
                  <a:lnTo>
                    <a:pt x="262" y="1223"/>
                  </a:lnTo>
                  <a:lnTo>
                    <a:pt x="280" y="1216"/>
                  </a:lnTo>
                  <a:lnTo>
                    <a:pt x="284" y="1216"/>
                  </a:lnTo>
                  <a:lnTo>
                    <a:pt x="286" y="1217"/>
                  </a:lnTo>
                  <a:lnTo>
                    <a:pt x="288" y="1218"/>
                  </a:lnTo>
                  <a:lnTo>
                    <a:pt x="292" y="1218"/>
                  </a:lnTo>
                  <a:lnTo>
                    <a:pt x="265" y="1238"/>
                  </a:lnTo>
                  <a:lnTo>
                    <a:pt x="245" y="1258"/>
                  </a:lnTo>
                  <a:lnTo>
                    <a:pt x="231" y="1280"/>
                  </a:lnTo>
                  <a:lnTo>
                    <a:pt x="221" y="1301"/>
                  </a:lnTo>
                  <a:lnTo>
                    <a:pt x="216" y="1319"/>
                  </a:lnTo>
                  <a:lnTo>
                    <a:pt x="213" y="1334"/>
                  </a:lnTo>
                  <a:lnTo>
                    <a:pt x="212" y="1345"/>
                  </a:lnTo>
                  <a:lnTo>
                    <a:pt x="213" y="1349"/>
                  </a:lnTo>
                  <a:lnTo>
                    <a:pt x="219" y="1342"/>
                  </a:lnTo>
                  <a:lnTo>
                    <a:pt x="228" y="1326"/>
                  </a:lnTo>
                  <a:lnTo>
                    <a:pt x="237" y="1307"/>
                  </a:lnTo>
                  <a:lnTo>
                    <a:pt x="245" y="1289"/>
                  </a:lnTo>
                  <a:lnTo>
                    <a:pt x="254" y="1279"/>
                  </a:lnTo>
                  <a:lnTo>
                    <a:pt x="263" y="1269"/>
                  </a:lnTo>
                  <a:lnTo>
                    <a:pt x="272" y="1258"/>
                  </a:lnTo>
                  <a:lnTo>
                    <a:pt x="282" y="1249"/>
                  </a:lnTo>
                  <a:lnTo>
                    <a:pt x="294" y="1242"/>
                  </a:lnTo>
                  <a:lnTo>
                    <a:pt x="305" y="1236"/>
                  </a:lnTo>
                  <a:lnTo>
                    <a:pt x="319" y="1235"/>
                  </a:lnTo>
                  <a:lnTo>
                    <a:pt x="333" y="1238"/>
                  </a:lnTo>
                  <a:lnTo>
                    <a:pt x="345" y="1241"/>
                  </a:lnTo>
                  <a:lnTo>
                    <a:pt x="356" y="1243"/>
                  </a:lnTo>
                  <a:lnTo>
                    <a:pt x="368" y="1244"/>
                  </a:lnTo>
                  <a:lnTo>
                    <a:pt x="379" y="1246"/>
                  </a:lnTo>
                  <a:lnTo>
                    <a:pt x="391" y="1244"/>
                  </a:lnTo>
                  <a:lnTo>
                    <a:pt x="402" y="1243"/>
                  </a:lnTo>
                  <a:lnTo>
                    <a:pt x="415" y="1242"/>
                  </a:lnTo>
                  <a:lnTo>
                    <a:pt x="426" y="1241"/>
                  </a:lnTo>
                  <a:lnTo>
                    <a:pt x="438" y="1240"/>
                  </a:lnTo>
                  <a:lnTo>
                    <a:pt x="451" y="1240"/>
                  </a:lnTo>
                  <a:lnTo>
                    <a:pt x="462" y="1239"/>
                  </a:lnTo>
                  <a:lnTo>
                    <a:pt x="474" y="1240"/>
                  </a:lnTo>
                  <a:lnTo>
                    <a:pt x="485" y="1242"/>
                  </a:lnTo>
                  <a:lnTo>
                    <a:pt x="496" y="1244"/>
                  </a:lnTo>
                  <a:lnTo>
                    <a:pt x="507" y="1249"/>
                  </a:lnTo>
                  <a:lnTo>
                    <a:pt x="517" y="1256"/>
                  </a:lnTo>
                  <a:lnTo>
                    <a:pt x="512" y="1263"/>
                  </a:lnTo>
                  <a:lnTo>
                    <a:pt x="506" y="1270"/>
                  </a:lnTo>
                  <a:lnTo>
                    <a:pt x="499" y="1278"/>
                  </a:lnTo>
                  <a:lnTo>
                    <a:pt x="492" y="1285"/>
                  </a:lnTo>
                  <a:lnTo>
                    <a:pt x="478" y="1308"/>
                  </a:lnTo>
                  <a:lnTo>
                    <a:pt x="470" y="1333"/>
                  </a:lnTo>
                  <a:lnTo>
                    <a:pt x="467" y="1360"/>
                  </a:lnTo>
                  <a:lnTo>
                    <a:pt x="469" y="1386"/>
                  </a:lnTo>
                  <a:lnTo>
                    <a:pt x="32" y="1387"/>
                  </a:lnTo>
                  <a:lnTo>
                    <a:pt x="18" y="1338"/>
                  </a:lnTo>
                  <a:lnTo>
                    <a:pt x="9" y="1286"/>
                  </a:lnTo>
                  <a:lnTo>
                    <a:pt x="3" y="1233"/>
                  </a:lnTo>
                  <a:lnTo>
                    <a:pt x="0" y="1180"/>
                  </a:lnTo>
                  <a:lnTo>
                    <a:pt x="1" y="1067"/>
                  </a:lnTo>
                  <a:lnTo>
                    <a:pt x="5" y="1041"/>
                  </a:lnTo>
                  <a:lnTo>
                    <a:pt x="9" y="1014"/>
                  </a:lnTo>
                  <a:lnTo>
                    <a:pt x="14" y="988"/>
                  </a:lnTo>
                  <a:lnTo>
                    <a:pt x="20" y="961"/>
                  </a:lnTo>
                  <a:lnTo>
                    <a:pt x="25" y="936"/>
                  </a:lnTo>
                  <a:lnTo>
                    <a:pt x="32" y="910"/>
                  </a:lnTo>
                  <a:lnTo>
                    <a:pt x="39" y="885"/>
                  </a:lnTo>
                  <a:lnTo>
                    <a:pt x="47" y="860"/>
                  </a:lnTo>
                  <a:lnTo>
                    <a:pt x="60" y="846"/>
                  </a:lnTo>
                  <a:lnTo>
                    <a:pt x="75" y="833"/>
                  </a:lnTo>
                  <a:lnTo>
                    <a:pt x="90" y="823"/>
                  </a:lnTo>
                  <a:lnTo>
                    <a:pt x="106" y="814"/>
                  </a:lnTo>
                  <a:lnTo>
                    <a:pt x="123" y="805"/>
                  </a:lnTo>
                  <a:lnTo>
                    <a:pt x="141" y="797"/>
                  </a:lnTo>
                  <a:lnTo>
                    <a:pt x="158" y="791"/>
                  </a:lnTo>
                  <a:lnTo>
                    <a:pt x="175" y="782"/>
                  </a:lnTo>
                  <a:lnTo>
                    <a:pt x="191" y="776"/>
                  </a:lnTo>
                  <a:lnTo>
                    <a:pt x="207" y="766"/>
                  </a:lnTo>
                  <a:lnTo>
                    <a:pt x="222" y="757"/>
                  </a:lnTo>
                  <a:lnTo>
                    <a:pt x="237" y="747"/>
                  </a:lnTo>
                  <a:lnTo>
                    <a:pt x="249" y="734"/>
                  </a:lnTo>
                  <a:lnTo>
                    <a:pt x="260" y="719"/>
                  </a:lnTo>
                  <a:lnTo>
                    <a:pt x="269" y="702"/>
                  </a:lnTo>
                  <a:lnTo>
                    <a:pt x="275" y="682"/>
                  </a:lnTo>
                  <a:lnTo>
                    <a:pt x="282" y="674"/>
                  </a:lnTo>
                  <a:lnTo>
                    <a:pt x="286" y="668"/>
                  </a:lnTo>
                  <a:lnTo>
                    <a:pt x="288" y="663"/>
                  </a:lnTo>
                  <a:lnTo>
                    <a:pt x="292" y="659"/>
                  </a:lnTo>
                  <a:lnTo>
                    <a:pt x="295" y="676"/>
                  </a:lnTo>
                  <a:lnTo>
                    <a:pt x="302" y="691"/>
                  </a:lnTo>
                  <a:lnTo>
                    <a:pt x="313" y="704"/>
                  </a:lnTo>
                  <a:lnTo>
                    <a:pt x="326" y="713"/>
                  </a:lnTo>
                  <a:lnTo>
                    <a:pt x="341" y="721"/>
                  </a:lnTo>
                  <a:lnTo>
                    <a:pt x="357" y="729"/>
                  </a:lnTo>
                  <a:lnTo>
                    <a:pt x="372" y="735"/>
                  </a:lnTo>
                  <a:lnTo>
                    <a:pt x="387" y="742"/>
                  </a:lnTo>
                  <a:lnTo>
                    <a:pt x="409" y="748"/>
                  </a:lnTo>
                  <a:lnTo>
                    <a:pt x="431" y="750"/>
                  </a:lnTo>
                  <a:lnTo>
                    <a:pt x="452" y="751"/>
                  </a:lnTo>
                  <a:lnTo>
                    <a:pt x="470" y="751"/>
                  </a:lnTo>
                  <a:lnTo>
                    <a:pt x="489" y="749"/>
                  </a:lnTo>
                  <a:lnTo>
                    <a:pt x="505" y="746"/>
                  </a:lnTo>
                  <a:lnTo>
                    <a:pt x="521" y="741"/>
                  </a:lnTo>
                  <a:lnTo>
                    <a:pt x="535" y="736"/>
                  </a:lnTo>
                  <a:lnTo>
                    <a:pt x="547" y="732"/>
                  </a:lnTo>
                  <a:lnTo>
                    <a:pt x="558" y="726"/>
                  </a:lnTo>
                  <a:lnTo>
                    <a:pt x="568" y="720"/>
                  </a:lnTo>
                  <a:lnTo>
                    <a:pt x="575" y="716"/>
                  </a:lnTo>
                  <a:lnTo>
                    <a:pt x="582" y="712"/>
                  </a:lnTo>
                  <a:lnTo>
                    <a:pt x="587" y="709"/>
                  </a:lnTo>
                  <a:lnTo>
                    <a:pt x="589" y="706"/>
                  </a:lnTo>
                  <a:lnTo>
                    <a:pt x="590" y="705"/>
                  </a:lnTo>
                  <a:lnTo>
                    <a:pt x="595" y="712"/>
                  </a:lnTo>
                  <a:lnTo>
                    <a:pt x="597" y="720"/>
                  </a:lnTo>
                  <a:lnTo>
                    <a:pt x="598" y="728"/>
                  </a:lnTo>
                  <a:lnTo>
                    <a:pt x="600" y="736"/>
                  </a:lnTo>
                  <a:lnTo>
                    <a:pt x="596" y="746"/>
                  </a:lnTo>
                  <a:lnTo>
                    <a:pt x="589" y="755"/>
                  </a:lnTo>
                  <a:lnTo>
                    <a:pt x="581" y="762"/>
                  </a:lnTo>
                  <a:lnTo>
                    <a:pt x="573" y="767"/>
                  </a:lnTo>
                  <a:lnTo>
                    <a:pt x="562" y="773"/>
                  </a:lnTo>
                  <a:lnTo>
                    <a:pt x="553" y="778"/>
                  </a:lnTo>
                  <a:lnTo>
                    <a:pt x="543" y="781"/>
                  </a:lnTo>
                  <a:lnTo>
                    <a:pt x="534" y="785"/>
                  </a:lnTo>
                  <a:lnTo>
                    <a:pt x="517" y="788"/>
                  </a:lnTo>
                  <a:lnTo>
                    <a:pt x="501" y="792"/>
                  </a:lnTo>
                  <a:lnTo>
                    <a:pt x="484" y="794"/>
                  </a:lnTo>
                  <a:lnTo>
                    <a:pt x="467" y="795"/>
                  </a:lnTo>
                  <a:lnTo>
                    <a:pt x="451" y="795"/>
                  </a:lnTo>
                  <a:lnTo>
                    <a:pt x="433" y="794"/>
                  </a:lnTo>
                  <a:lnTo>
                    <a:pt x="416" y="793"/>
                  </a:lnTo>
                  <a:lnTo>
                    <a:pt x="400" y="791"/>
                  </a:lnTo>
                  <a:lnTo>
                    <a:pt x="383" y="787"/>
                  </a:lnTo>
                  <a:lnTo>
                    <a:pt x="367" y="782"/>
                  </a:lnTo>
                  <a:lnTo>
                    <a:pt x="352" y="777"/>
                  </a:lnTo>
                  <a:lnTo>
                    <a:pt x="335" y="770"/>
                  </a:lnTo>
                  <a:lnTo>
                    <a:pt x="322" y="762"/>
                  </a:lnTo>
                  <a:lnTo>
                    <a:pt x="307" y="754"/>
                  </a:lnTo>
                  <a:lnTo>
                    <a:pt x="294" y="743"/>
                  </a:lnTo>
                  <a:lnTo>
                    <a:pt x="281" y="732"/>
                  </a:lnTo>
                  <a:lnTo>
                    <a:pt x="278" y="727"/>
                  </a:lnTo>
                  <a:lnTo>
                    <a:pt x="275" y="720"/>
                  </a:lnTo>
                  <a:lnTo>
                    <a:pt x="272" y="716"/>
                  </a:lnTo>
                  <a:lnTo>
                    <a:pt x="265" y="716"/>
                  </a:lnTo>
                  <a:lnTo>
                    <a:pt x="265" y="725"/>
                  </a:lnTo>
                  <a:lnTo>
                    <a:pt x="267" y="734"/>
                  </a:lnTo>
                  <a:lnTo>
                    <a:pt x="272" y="741"/>
                  </a:lnTo>
                  <a:lnTo>
                    <a:pt x="279" y="748"/>
                  </a:lnTo>
                  <a:lnTo>
                    <a:pt x="286" y="755"/>
                  </a:lnTo>
                  <a:lnTo>
                    <a:pt x="294" y="761"/>
                  </a:lnTo>
                  <a:lnTo>
                    <a:pt x="302" y="766"/>
                  </a:lnTo>
                  <a:lnTo>
                    <a:pt x="309" y="772"/>
                  </a:lnTo>
                  <a:lnTo>
                    <a:pt x="324" y="781"/>
                  </a:lnTo>
                  <a:lnTo>
                    <a:pt x="339" y="789"/>
                  </a:lnTo>
                  <a:lnTo>
                    <a:pt x="356" y="796"/>
                  </a:lnTo>
                  <a:lnTo>
                    <a:pt x="373" y="802"/>
                  </a:lnTo>
                  <a:lnTo>
                    <a:pt x="391" y="807"/>
                  </a:lnTo>
                  <a:lnTo>
                    <a:pt x="409" y="810"/>
                  </a:lnTo>
                  <a:lnTo>
                    <a:pt x="428" y="812"/>
                  </a:lnTo>
                  <a:lnTo>
                    <a:pt x="447" y="814"/>
                  </a:lnTo>
                  <a:lnTo>
                    <a:pt x="466" y="814"/>
                  </a:lnTo>
                  <a:lnTo>
                    <a:pt x="484" y="812"/>
                  </a:lnTo>
                  <a:lnTo>
                    <a:pt x="502" y="810"/>
                  </a:lnTo>
                  <a:lnTo>
                    <a:pt x="521" y="807"/>
                  </a:lnTo>
                  <a:lnTo>
                    <a:pt x="539" y="802"/>
                  </a:lnTo>
                  <a:lnTo>
                    <a:pt x="556" y="796"/>
                  </a:lnTo>
                  <a:lnTo>
                    <a:pt x="573" y="789"/>
                  </a:lnTo>
                  <a:lnTo>
                    <a:pt x="588" y="781"/>
                  </a:lnTo>
                  <a:lnTo>
                    <a:pt x="597" y="774"/>
                  </a:lnTo>
                  <a:lnTo>
                    <a:pt x="605" y="764"/>
                  </a:lnTo>
                  <a:lnTo>
                    <a:pt x="613" y="754"/>
                  </a:lnTo>
                  <a:lnTo>
                    <a:pt x="619" y="743"/>
                  </a:lnTo>
                  <a:lnTo>
                    <a:pt x="619" y="720"/>
                  </a:lnTo>
                  <a:lnTo>
                    <a:pt x="614" y="698"/>
                  </a:lnTo>
                  <a:lnTo>
                    <a:pt x="606" y="679"/>
                  </a:lnTo>
                  <a:lnTo>
                    <a:pt x="596" y="660"/>
                  </a:lnTo>
                  <a:lnTo>
                    <a:pt x="594" y="650"/>
                  </a:lnTo>
                  <a:lnTo>
                    <a:pt x="595" y="643"/>
                  </a:lnTo>
                  <a:lnTo>
                    <a:pt x="599" y="636"/>
                  </a:lnTo>
                  <a:lnTo>
                    <a:pt x="605" y="632"/>
                  </a:lnTo>
                  <a:lnTo>
                    <a:pt x="613" y="628"/>
                  </a:lnTo>
                  <a:lnTo>
                    <a:pt x="620" y="623"/>
                  </a:lnTo>
                  <a:lnTo>
                    <a:pt x="628" y="620"/>
                  </a:lnTo>
                  <a:lnTo>
                    <a:pt x="634" y="615"/>
                  </a:lnTo>
                  <a:lnTo>
                    <a:pt x="643" y="613"/>
                  </a:lnTo>
                  <a:lnTo>
                    <a:pt x="653" y="611"/>
                  </a:lnTo>
                  <a:lnTo>
                    <a:pt x="663" y="608"/>
                  </a:lnTo>
                  <a:lnTo>
                    <a:pt x="673" y="606"/>
                  </a:lnTo>
                  <a:lnTo>
                    <a:pt x="682" y="604"/>
                  </a:lnTo>
                  <a:lnTo>
                    <a:pt x="693" y="603"/>
                  </a:lnTo>
                  <a:lnTo>
                    <a:pt x="703" y="603"/>
                  </a:lnTo>
                  <a:lnTo>
                    <a:pt x="713" y="603"/>
                  </a:lnTo>
                  <a:lnTo>
                    <a:pt x="720" y="626"/>
                  </a:lnTo>
                  <a:lnTo>
                    <a:pt x="761" y="731"/>
                  </a:lnTo>
                  <a:lnTo>
                    <a:pt x="768" y="746"/>
                  </a:lnTo>
                  <a:lnTo>
                    <a:pt x="773" y="764"/>
                  </a:lnTo>
                  <a:lnTo>
                    <a:pt x="779" y="782"/>
                  </a:lnTo>
                  <a:lnTo>
                    <a:pt x="785" y="802"/>
                  </a:lnTo>
                  <a:lnTo>
                    <a:pt x="789" y="819"/>
                  </a:lnTo>
                  <a:lnTo>
                    <a:pt x="793" y="833"/>
                  </a:lnTo>
                  <a:lnTo>
                    <a:pt x="795" y="844"/>
                  </a:lnTo>
                  <a:lnTo>
                    <a:pt x="798" y="847"/>
                  </a:lnTo>
                  <a:lnTo>
                    <a:pt x="800" y="844"/>
                  </a:lnTo>
                  <a:lnTo>
                    <a:pt x="802" y="818"/>
                  </a:lnTo>
                  <a:lnTo>
                    <a:pt x="802" y="794"/>
                  </a:lnTo>
                  <a:lnTo>
                    <a:pt x="799" y="770"/>
                  </a:lnTo>
                  <a:lnTo>
                    <a:pt x="793" y="747"/>
                  </a:lnTo>
                  <a:lnTo>
                    <a:pt x="786" y="725"/>
                  </a:lnTo>
                  <a:lnTo>
                    <a:pt x="778" y="702"/>
                  </a:lnTo>
                  <a:lnTo>
                    <a:pt x="769" y="681"/>
                  </a:lnTo>
                  <a:lnTo>
                    <a:pt x="758" y="659"/>
                  </a:lnTo>
                  <a:lnTo>
                    <a:pt x="754" y="637"/>
                  </a:lnTo>
                  <a:lnTo>
                    <a:pt x="754" y="617"/>
                  </a:lnTo>
                  <a:lnTo>
                    <a:pt x="758" y="597"/>
                  </a:lnTo>
                  <a:lnTo>
                    <a:pt x="765" y="580"/>
                  </a:lnTo>
                  <a:lnTo>
                    <a:pt x="776" y="562"/>
                  </a:lnTo>
                  <a:lnTo>
                    <a:pt x="786" y="545"/>
                  </a:lnTo>
                  <a:lnTo>
                    <a:pt x="798" y="529"/>
                  </a:lnTo>
                  <a:lnTo>
                    <a:pt x="808" y="512"/>
                  </a:lnTo>
                  <a:lnTo>
                    <a:pt x="818" y="488"/>
                  </a:lnTo>
                  <a:lnTo>
                    <a:pt x="829" y="463"/>
                  </a:lnTo>
                  <a:lnTo>
                    <a:pt x="837" y="438"/>
                  </a:lnTo>
                  <a:lnTo>
                    <a:pt x="844" y="411"/>
                  </a:lnTo>
                  <a:lnTo>
                    <a:pt x="848" y="385"/>
                  </a:lnTo>
                  <a:lnTo>
                    <a:pt x="854" y="358"/>
                  </a:lnTo>
                  <a:lnTo>
                    <a:pt x="857" y="331"/>
                  </a:lnTo>
                  <a:lnTo>
                    <a:pt x="861" y="303"/>
                  </a:lnTo>
                  <a:lnTo>
                    <a:pt x="874" y="277"/>
                  </a:lnTo>
                  <a:lnTo>
                    <a:pt x="879" y="297"/>
                  </a:lnTo>
                  <a:lnTo>
                    <a:pt x="890" y="314"/>
                  </a:lnTo>
                  <a:lnTo>
                    <a:pt x="904" y="329"/>
                  </a:lnTo>
                  <a:lnTo>
                    <a:pt x="919" y="341"/>
                  </a:lnTo>
                  <a:lnTo>
                    <a:pt x="935" y="355"/>
                  </a:lnTo>
                  <a:lnTo>
                    <a:pt x="950" y="369"/>
                  </a:lnTo>
                  <a:lnTo>
                    <a:pt x="962" y="385"/>
                  </a:lnTo>
                  <a:lnTo>
                    <a:pt x="970" y="405"/>
                  </a:lnTo>
                  <a:lnTo>
                    <a:pt x="980" y="428"/>
                  </a:lnTo>
                  <a:lnTo>
                    <a:pt x="989" y="454"/>
                  </a:lnTo>
                  <a:lnTo>
                    <a:pt x="996" y="478"/>
                  </a:lnTo>
                  <a:lnTo>
                    <a:pt x="998" y="488"/>
                  </a:lnTo>
                  <a:lnTo>
                    <a:pt x="1005" y="475"/>
                  </a:lnTo>
                  <a:lnTo>
                    <a:pt x="1007" y="459"/>
                  </a:lnTo>
                  <a:lnTo>
                    <a:pt x="1007" y="443"/>
                  </a:lnTo>
                  <a:lnTo>
                    <a:pt x="1007" y="428"/>
                  </a:lnTo>
                  <a:lnTo>
                    <a:pt x="1003" y="405"/>
                  </a:lnTo>
                  <a:lnTo>
                    <a:pt x="993" y="383"/>
                  </a:lnTo>
                  <a:lnTo>
                    <a:pt x="978" y="364"/>
                  </a:lnTo>
                  <a:lnTo>
                    <a:pt x="961" y="346"/>
                  </a:lnTo>
                  <a:lnTo>
                    <a:pt x="943" y="330"/>
                  </a:lnTo>
                  <a:lnTo>
                    <a:pt x="924" y="312"/>
                  </a:lnTo>
                  <a:lnTo>
                    <a:pt x="906" y="296"/>
                  </a:lnTo>
                  <a:lnTo>
                    <a:pt x="891" y="278"/>
                  </a:lnTo>
                  <a:lnTo>
                    <a:pt x="890" y="107"/>
                  </a:lnTo>
                  <a:lnTo>
                    <a:pt x="892" y="82"/>
                  </a:lnTo>
                  <a:lnTo>
                    <a:pt x="895" y="57"/>
                  </a:lnTo>
                  <a:lnTo>
                    <a:pt x="901" y="34"/>
                  </a:lnTo>
                  <a:lnTo>
                    <a:pt x="914" y="14"/>
                  </a:lnTo>
                  <a:lnTo>
                    <a:pt x="928" y="20"/>
                  </a:lnTo>
                  <a:lnTo>
                    <a:pt x="944" y="26"/>
                  </a:lnTo>
                  <a:lnTo>
                    <a:pt x="960" y="30"/>
                  </a:lnTo>
                  <a:lnTo>
                    <a:pt x="977" y="32"/>
                  </a:lnTo>
                  <a:lnTo>
                    <a:pt x="993" y="34"/>
                  </a:lnTo>
                  <a:lnTo>
                    <a:pt x="1011" y="32"/>
                  </a:lnTo>
                  <a:lnTo>
                    <a:pt x="1026" y="28"/>
                  </a:lnTo>
                  <a:lnTo>
                    <a:pt x="1041" y="21"/>
                  </a:lnTo>
                  <a:lnTo>
                    <a:pt x="1045" y="19"/>
                  </a:lnTo>
                  <a:lnTo>
                    <a:pt x="1050" y="15"/>
                  </a:lnTo>
                  <a:lnTo>
                    <a:pt x="1055" y="12"/>
                  </a:lnTo>
                  <a:lnTo>
                    <a:pt x="1059" y="8"/>
                  </a:lnTo>
                  <a:lnTo>
                    <a:pt x="1063" y="5"/>
                  </a:lnTo>
                  <a:lnTo>
                    <a:pt x="1067" y="3"/>
                  </a:lnTo>
                  <a:lnTo>
                    <a:pt x="1072" y="0"/>
                  </a:lnTo>
                  <a:lnTo>
                    <a:pt x="1076" y="0"/>
                  </a:lnTo>
                  <a:lnTo>
                    <a:pt x="1091" y="80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173840" y="2417400"/>
              <a:ext cx="997920" cy="606600"/>
            </a:xfrm>
            <a:custGeom>
              <a:avLst/>
              <a:gdLst/>
              <a:ahLst/>
              <a:rect l="l" t="t" r="r" b="b"/>
              <a:pathLst>
                <a:path w="520" h="317">
                  <a:moveTo>
                    <a:pt x="358" y="21"/>
                  </a:moveTo>
                  <a:lnTo>
                    <a:pt x="374" y="22"/>
                  </a:lnTo>
                  <a:lnTo>
                    <a:pt x="389" y="25"/>
                  </a:lnTo>
                  <a:lnTo>
                    <a:pt x="404" y="29"/>
                  </a:lnTo>
                  <a:lnTo>
                    <a:pt x="419" y="33"/>
                  </a:lnTo>
                  <a:lnTo>
                    <a:pt x="431" y="40"/>
                  </a:lnTo>
                  <a:lnTo>
                    <a:pt x="444" y="48"/>
                  </a:lnTo>
                  <a:lnTo>
                    <a:pt x="454" y="59"/>
                  </a:lnTo>
                  <a:lnTo>
                    <a:pt x="465" y="71"/>
                  </a:lnTo>
                  <a:lnTo>
                    <a:pt x="479" y="92"/>
                  </a:lnTo>
                  <a:lnTo>
                    <a:pt x="491" y="114"/>
                  </a:lnTo>
                  <a:lnTo>
                    <a:pt x="503" y="137"/>
                  </a:lnTo>
                  <a:lnTo>
                    <a:pt x="512" y="160"/>
                  </a:lnTo>
                  <a:lnTo>
                    <a:pt x="518" y="184"/>
                  </a:lnTo>
                  <a:lnTo>
                    <a:pt x="520" y="208"/>
                  </a:lnTo>
                  <a:lnTo>
                    <a:pt x="519" y="234"/>
                  </a:lnTo>
                  <a:lnTo>
                    <a:pt x="512" y="260"/>
                  </a:lnTo>
                  <a:lnTo>
                    <a:pt x="507" y="275"/>
                  </a:lnTo>
                  <a:lnTo>
                    <a:pt x="503" y="290"/>
                  </a:lnTo>
                  <a:lnTo>
                    <a:pt x="497" y="304"/>
                  </a:lnTo>
                  <a:lnTo>
                    <a:pt x="489" y="317"/>
                  </a:lnTo>
                  <a:lnTo>
                    <a:pt x="482" y="314"/>
                  </a:lnTo>
                  <a:lnTo>
                    <a:pt x="473" y="314"/>
                  </a:lnTo>
                  <a:lnTo>
                    <a:pt x="464" y="314"/>
                  </a:lnTo>
                  <a:lnTo>
                    <a:pt x="460" y="316"/>
                  </a:lnTo>
                  <a:lnTo>
                    <a:pt x="460" y="298"/>
                  </a:lnTo>
                  <a:lnTo>
                    <a:pt x="464" y="282"/>
                  </a:lnTo>
                  <a:lnTo>
                    <a:pt x="467" y="265"/>
                  </a:lnTo>
                  <a:lnTo>
                    <a:pt x="465" y="248"/>
                  </a:lnTo>
                  <a:lnTo>
                    <a:pt x="458" y="251"/>
                  </a:lnTo>
                  <a:lnTo>
                    <a:pt x="450" y="253"/>
                  </a:lnTo>
                  <a:lnTo>
                    <a:pt x="443" y="256"/>
                  </a:lnTo>
                  <a:lnTo>
                    <a:pt x="435" y="258"/>
                  </a:lnTo>
                  <a:lnTo>
                    <a:pt x="427" y="260"/>
                  </a:lnTo>
                  <a:lnTo>
                    <a:pt x="419" y="261"/>
                  </a:lnTo>
                  <a:lnTo>
                    <a:pt x="411" y="261"/>
                  </a:lnTo>
                  <a:lnTo>
                    <a:pt x="403" y="261"/>
                  </a:lnTo>
                  <a:lnTo>
                    <a:pt x="409" y="251"/>
                  </a:lnTo>
                  <a:lnTo>
                    <a:pt x="416" y="236"/>
                  </a:lnTo>
                  <a:lnTo>
                    <a:pt x="423" y="220"/>
                  </a:lnTo>
                  <a:lnTo>
                    <a:pt x="428" y="203"/>
                  </a:lnTo>
                  <a:lnTo>
                    <a:pt x="433" y="188"/>
                  </a:lnTo>
                  <a:lnTo>
                    <a:pt x="436" y="175"/>
                  </a:lnTo>
                  <a:lnTo>
                    <a:pt x="438" y="166"/>
                  </a:lnTo>
                  <a:lnTo>
                    <a:pt x="439" y="162"/>
                  </a:lnTo>
                  <a:lnTo>
                    <a:pt x="424" y="179"/>
                  </a:lnTo>
                  <a:lnTo>
                    <a:pt x="407" y="191"/>
                  </a:lnTo>
                  <a:lnTo>
                    <a:pt x="390" y="203"/>
                  </a:lnTo>
                  <a:lnTo>
                    <a:pt x="371" y="212"/>
                  </a:lnTo>
                  <a:lnTo>
                    <a:pt x="352" y="220"/>
                  </a:lnTo>
                  <a:lnTo>
                    <a:pt x="331" y="226"/>
                  </a:lnTo>
                  <a:lnTo>
                    <a:pt x="310" y="229"/>
                  </a:lnTo>
                  <a:lnTo>
                    <a:pt x="288" y="232"/>
                  </a:lnTo>
                  <a:lnTo>
                    <a:pt x="267" y="233"/>
                  </a:lnTo>
                  <a:lnTo>
                    <a:pt x="246" y="232"/>
                  </a:lnTo>
                  <a:lnTo>
                    <a:pt x="224" y="230"/>
                  </a:lnTo>
                  <a:lnTo>
                    <a:pt x="202" y="228"/>
                  </a:lnTo>
                  <a:lnTo>
                    <a:pt x="180" y="223"/>
                  </a:lnTo>
                  <a:lnTo>
                    <a:pt x="159" y="219"/>
                  </a:lnTo>
                  <a:lnTo>
                    <a:pt x="139" y="213"/>
                  </a:lnTo>
                  <a:lnTo>
                    <a:pt x="119" y="207"/>
                  </a:lnTo>
                  <a:lnTo>
                    <a:pt x="121" y="191"/>
                  </a:lnTo>
                  <a:lnTo>
                    <a:pt x="126" y="173"/>
                  </a:lnTo>
                  <a:lnTo>
                    <a:pt x="127" y="155"/>
                  </a:lnTo>
                  <a:lnTo>
                    <a:pt x="119" y="139"/>
                  </a:lnTo>
                  <a:lnTo>
                    <a:pt x="99" y="154"/>
                  </a:lnTo>
                  <a:lnTo>
                    <a:pt x="82" y="173"/>
                  </a:lnTo>
                  <a:lnTo>
                    <a:pt x="66" y="194"/>
                  </a:lnTo>
                  <a:lnTo>
                    <a:pt x="53" y="213"/>
                  </a:lnTo>
                  <a:lnTo>
                    <a:pt x="42" y="232"/>
                  </a:lnTo>
                  <a:lnTo>
                    <a:pt x="34" y="246"/>
                  </a:lnTo>
                  <a:lnTo>
                    <a:pt x="28" y="257"/>
                  </a:lnTo>
                  <a:lnTo>
                    <a:pt x="26" y="261"/>
                  </a:lnTo>
                  <a:lnTo>
                    <a:pt x="20" y="257"/>
                  </a:lnTo>
                  <a:lnTo>
                    <a:pt x="13" y="251"/>
                  </a:lnTo>
                  <a:lnTo>
                    <a:pt x="7" y="248"/>
                  </a:lnTo>
                  <a:lnTo>
                    <a:pt x="0" y="245"/>
                  </a:lnTo>
                  <a:lnTo>
                    <a:pt x="1" y="227"/>
                  </a:lnTo>
                  <a:lnTo>
                    <a:pt x="5" y="210"/>
                  </a:lnTo>
                  <a:lnTo>
                    <a:pt x="11" y="192"/>
                  </a:lnTo>
                  <a:lnTo>
                    <a:pt x="18" y="175"/>
                  </a:lnTo>
                  <a:lnTo>
                    <a:pt x="26" y="159"/>
                  </a:lnTo>
                  <a:lnTo>
                    <a:pt x="35" y="144"/>
                  </a:lnTo>
                  <a:lnTo>
                    <a:pt x="44" y="128"/>
                  </a:lnTo>
                  <a:lnTo>
                    <a:pt x="52" y="112"/>
                  </a:lnTo>
                  <a:lnTo>
                    <a:pt x="63" y="99"/>
                  </a:lnTo>
                  <a:lnTo>
                    <a:pt x="73" y="86"/>
                  </a:lnTo>
                  <a:lnTo>
                    <a:pt x="84" y="74"/>
                  </a:lnTo>
                  <a:lnTo>
                    <a:pt x="96" y="62"/>
                  </a:lnTo>
                  <a:lnTo>
                    <a:pt x="109" y="52"/>
                  </a:lnTo>
                  <a:lnTo>
                    <a:pt x="121" y="41"/>
                  </a:lnTo>
                  <a:lnTo>
                    <a:pt x="135" y="32"/>
                  </a:lnTo>
                  <a:lnTo>
                    <a:pt x="149" y="23"/>
                  </a:lnTo>
                  <a:lnTo>
                    <a:pt x="163" y="16"/>
                  </a:lnTo>
                  <a:lnTo>
                    <a:pt x="178" y="10"/>
                  </a:lnTo>
                  <a:lnTo>
                    <a:pt x="193" y="6"/>
                  </a:lnTo>
                  <a:lnTo>
                    <a:pt x="209" y="2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7" y="2"/>
                  </a:lnTo>
                  <a:lnTo>
                    <a:pt x="275" y="6"/>
                  </a:lnTo>
                  <a:lnTo>
                    <a:pt x="285" y="9"/>
                  </a:lnTo>
                  <a:lnTo>
                    <a:pt x="294" y="13"/>
                  </a:lnTo>
                  <a:lnTo>
                    <a:pt x="305" y="15"/>
                  </a:lnTo>
                  <a:lnTo>
                    <a:pt x="315" y="17"/>
                  </a:lnTo>
                  <a:lnTo>
                    <a:pt x="325" y="18"/>
                  </a:lnTo>
                  <a:lnTo>
                    <a:pt x="336" y="21"/>
                  </a:lnTo>
                  <a:lnTo>
                    <a:pt x="347" y="21"/>
                  </a:lnTo>
                  <a:lnTo>
                    <a:pt x="358" y="21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108680" y="2759760"/>
              <a:ext cx="978840" cy="833040"/>
            </a:xfrm>
            <a:custGeom>
              <a:avLst/>
              <a:gdLst/>
              <a:ahLst/>
              <a:rect l="l" t="t" r="r" b="b"/>
              <a:pathLst>
                <a:path w="509" h="435">
                  <a:moveTo>
                    <a:pt x="121" y="38"/>
                  </a:moveTo>
                  <a:lnTo>
                    <a:pt x="131" y="43"/>
                  </a:lnTo>
                  <a:lnTo>
                    <a:pt x="143" y="48"/>
                  </a:lnTo>
                  <a:lnTo>
                    <a:pt x="153" y="51"/>
                  </a:lnTo>
                  <a:lnTo>
                    <a:pt x="165" y="55"/>
                  </a:lnTo>
                  <a:lnTo>
                    <a:pt x="176" y="58"/>
                  </a:lnTo>
                  <a:lnTo>
                    <a:pt x="186" y="60"/>
                  </a:lnTo>
                  <a:lnTo>
                    <a:pt x="198" y="63"/>
                  </a:lnTo>
                  <a:lnTo>
                    <a:pt x="209" y="65"/>
                  </a:lnTo>
                  <a:lnTo>
                    <a:pt x="221" y="67"/>
                  </a:lnTo>
                  <a:lnTo>
                    <a:pt x="234" y="69"/>
                  </a:lnTo>
                  <a:lnTo>
                    <a:pt x="245" y="71"/>
                  </a:lnTo>
                  <a:lnTo>
                    <a:pt x="257" y="73"/>
                  </a:lnTo>
                  <a:lnTo>
                    <a:pt x="269" y="74"/>
                  </a:lnTo>
                  <a:lnTo>
                    <a:pt x="281" y="75"/>
                  </a:lnTo>
                  <a:lnTo>
                    <a:pt x="294" y="76"/>
                  </a:lnTo>
                  <a:lnTo>
                    <a:pt x="305" y="78"/>
                  </a:lnTo>
                  <a:lnTo>
                    <a:pt x="322" y="78"/>
                  </a:lnTo>
                  <a:lnTo>
                    <a:pt x="339" y="76"/>
                  </a:lnTo>
                  <a:lnTo>
                    <a:pt x="355" y="74"/>
                  </a:lnTo>
                  <a:lnTo>
                    <a:pt x="371" y="71"/>
                  </a:lnTo>
                  <a:lnTo>
                    <a:pt x="387" y="67"/>
                  </a:lnTo>
                  <a:lnTo>
                    <a:pt x="402" y="61"/>
                  </a:lnTo>
                  <a:lnTo>
                    <a:pt x="417" y="56"/>
                  </a:lnTo>
                  <a:lnTo>
                    <a:pt x="431" y="48"/>
                  </a:lnTo>
                  <a:lnTo>
                    <a:pt x="427" y="61"/>
                  </a:lnTo>
                  <a:lnTo>
                    <a:pt x="422" y="74"/>
                  </a:lnTo>
                  <a:lnTo>
                    <a:pt x="416" y="86"/>
                  </a:lnTo>
                  <a:lnTo>
                    <a:pt x="409" y="98"/>
                  </a:lnTo>
                  <a:lnTo>
                    <a:pt x="416" y="103"/>
                  </a:lnTo>
                  <a:lnTo>
                    <a:pt x="424" y="105"/>
                  </a:lnTo>
                  <a:lnTo>
                    <a:pt x="433" y="106"/>
                  </a:lnTo>
                  <a:lnTo>
                    <a:pt x="442" y="106"/>
                  </a:lnTo>
                  <a:lnTo>
                    <a:pt x="452" y="104"/>
                  </a:lnTo>
                  <a:lnTo>
                    <a:pt x="460" y="103"/>
                  </a:lnTo>
                  <a:lnTo>
                    <a:pt x="469" y="101"/>
                  </a:lnTo>
                  <a:lnTo>
                    <a:pt x="477" y="98"/>
                  </a:lnTo>
                  <a:lnTo>
                    <a:pt x="473" y="118"/>
                  </a:lnTo>
                  <a:lnTo>
                    <a:pt x="473" y="137"/>
                  </a:lnTo>
                  <a:lnTo>
                    <a:pt x="479" y="156"/>
                  </a:lnTo>
                  <a:lnTo>
                    <a:pt x="487" y="172"/>
                  </a:lnTo>
                  <a:lnTo>
                    <a:pt x="487" y="177"/>
                  </a:lnTo>
                  <a:lnTo>
                    <a:pt x="486" y="182"/>
                  </a:lnTo>
                  <a:lnTo>
                    <a:pt x="487" y="187"/>
                  </a:lnTo>
                  <a:lnTo>
                    <a:pt x="492" y="189"/>
                  </a:lnTo>
                  <a:lnTo>
                    <a:pt x="496" y="185"/>
                  </a:lnTo>
                  <a:lnTo>
                    <a:pt x="500" y="178"/>
                  </a:lnTo>
                  <a:lnTo>
                    <a:pt x="503" y="172"/>
                  </a:lnTo>
                  <a:lnTo>
                    <a:pt x="508" y="166"/>
                  </a:lnTo>
                  <a:lnTo>
                    <a:pt x="509" y="188"/>
                  </a:lnTo>
                  <a:lnTo>
                    <a:pt x="505" y="210"/>
                  </a:lnTo>
                  <a:lnTo>
                    <a:pt x="496" y="231"/>
                  </a:lnTo>
                  <a:lnTo>
                    <a:pt x="485" y="249"/>
                  </a:lnTo>
                  <a:lnTo>
                    <a:pt x="487" y="242"/>
                  </a:lnTo>
                  <a:lnTo>
                    <a:pt x="486" y="234"/>
                  </a:lnTo>
                  <a:lnTo>
                    <a:pt x="486" y="225"/>
                  </a:lnTo>
                  <a:lnTo>
                    <a:pt x="491" y="217"/>
                  </a:lnTo>
                  <a:lnTo>
                    <a:pt x="488" y="215"/>
                  </a:lnTo>
                  <a:lnTo>
                    <a:pt x="487" y="212"/>
                  </a:lnTo>
                  <a:lnTo>
                    <a:pt x="485" y="211"/>
                  </a:lnTo>
                  <a:lnTo>
                    <a:pt x="481" y="211"/>
                  </a:lnTo>
                  <a:lnTo>
                    <a:pt x="470" y="238"/>
                  </a:lnTo>
                  <a:lnTo>
                    <a:pt x="458" y="264"/>
                  </a:lnTo>
                  <a:lnTo>
                    <a:pt x="446" y="291"/>
                  </a:lnTo>
                  <a:lnTo>
                    <a:pt x="431" y="315"/>
                  </a:lnTo>
                  <a:lnTo>
                    <a:pt x="415" y="339"/>
                  </a:lnTo>
                  <a:lnTo>
                    <a:pt x="395" y="361"/>
                  </a:lnTo>
                  <a:lnTo>
                    <a:pt x="373" y="379"/>
                  </a:lnTo>
                  <a:lnTo>
                    <a:pt x="348" y="394"/>
                  </a:lnTo>
                  <a:lnTo>
                    <a:pt x="332" y="404"/>
                  </a:lnTo>
                  <a:lnTo>
                    <a:pt x="314" y="412"/>
                  </a:lnTo>
                  <a:lnTo>
                    <a:pt x="297" y="421"/>
                  </a:lnTo>
                  <a:lnTo>
                    <a:pt x="280" y="428"/>
                  </a:lnTo>
                  <a:lnTo>
                    <a:pt x="261" y="432"/>
                  </a:lnTo>
                  <a:lnTo>
                    <a:pt x="243" y="435"/>
                  </a:lnTo>
                  <a:lnTo>
                    <a:pt x="223" y="434"/>
                  </a:lnTo>
                  <a:lnTo>
                    <a:pt x="204" y="428"/>
                  </a:lnTo>
                  <a:lnTo>
                    <a:pt x="171" y="412"/>
                  </a:lnTo>
                  <a:lnTo>
                    <a:pt x="144" y="391"/>
                  </a:lnTo>
                  <a:lnTo>
                    <a:pt x="120" y="366"/>
                  </a:lnTo>
                  <a:lnTo>
                    <a:pt x="99" y="337"/>
                  </a:lnTo>
                  <a:lnTo>
                    <a:pt x="80" y="307"/>
                  </a:lnTo>
                  <a:lnTo>
                    <a:pt x="63" y="276"/>
                  </a:lnTo>
                  <a:lnTo>
                    <a:pt x="47" y="245"/>
                  </a:lnTo>
                  <a:lnTo>
                    <a:pt x="32" y="215"/>
                  </a:lnTo>
                  <a:lnTo>
                    <a:pt x="23" y="215"/>
                  </a:lnTo>
                  <a:lnTo>
                    <a:pt x="15" y="211"/>
                  </a:lnTo>
                  <a:lnTo>
                    <a:pt x="8" y="207"/>
                  </a:lnTo>
                  <a:lnTo>
                    <a:pt x="4" y="199"/>
                  </a:lnTo>
                  <a:lnTo>
                    <a:pt x="0" y="171"/>
                  </a:lnTo>
                  <a:lnTo>
                    <a:pt x="0" y="140"/>
                  </a:lnTo>
                  <a:lnTo>
                    <a:pt x="7" y="111"/>
                  </a:lnTo>
                  <a:lnTo>
                    <a:pt x="23" y="88"/>
                  </a:lnTo>
                  <a:lnTo>
                    <a:pt x="26" y="87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91"/>
                  </a:lnTo>
                  <a:lnTo>
                    <a:pt x="45" y="99"/>
                  </a:lnTo>
                  <a:lnTo>
                    <a:pt x="49" y="110"/>
                  </a:lnTo>
                  <a:lnTo>
                    <a:pt x="54" y="119"/>
                  </a:lnTo>
                  <a:lnTo>
                    <a:pt x="59" y="128"/>
                  </a:lnTo>
                  <a:lnTo>
                    <a:pt x="67" y="120"/>
                  </a:lnTo>
                  <a:lnTo>
                    <a:pt x="74" y="110"/>
                  </a:lnTo>
                  <a:lnTo>
                    <a:pt x="79" y="99"/>
                  </a:lnTo>
                  <a:lnTo>
                    <a:pt x="86" y="89"/>
                  </a:lnTo>
                  <a:lnTo>
                    <a:pt x="88" y="76"/>
                  </a:lnTo>
                  <a:lnTo>
                    <a:pt x="93" y="65"/>
                  </a:lnTo>
                  <a:lnTo>
                    <a:pt x="99" y="52"/>
                  </a:lnTo>
                  <a:lnTo>
                    <a:pt x="106" y="41"/>
                  </a:lnTo>
                  <a:lnTo>
                    <a:pt x="114" y="30"/>
                  </a:lnTo>
                  <a:lnTo>
                    <a:pt x="122" y="20"/>
                  </a:lnTo>
                  <a:lnTo>
                    <a:pt x="131" y="10"/>
                  </a:lnTo>
                  <a:lnTo>
                    <a:pt x="140" y="0"/>
                  </a:lnTo>
                  <a:lnTo>
                    <a:pt x="138" y="11"/>
                  </a:lnTo>
                  <a:lnTo>
                    <a:pt x="132" y="20"/>
                  </a:lnTo>
                  <a:lnTo>
                    <a:pt x="125" y="30"/>
                  </a:lnTo>
                  <a:lnTo>
                    <a:pt x="121" y="38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438440" y="2917080"/>
              <a:ext cx="184320" cy="9216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92" y="33"/>
                  </a:moveTo>
                  <a:lnTo>
                    <a:pt x="93" y="36"/>
                  </a:lnTo>
                  <a:lnTo>
                    <a:pt x="94" y="41"/>
                  </a:lnTo>
                  <a:lnTo>
                    <a:pt x="95" y="44"/>
                  </a:lnTo>
                  <a:lnTo>
                    <a:pt x="92" y="46"/>
                  </a:lnTo>
                  <a:lnTo>
                    <a:pt x="86" y="48"/>
                  </a:lnTo>
                  <a:lnTo>
                    <a:pt x="80" y="49"/>
                  </a:lnTo>
                  <a:lnTo>
                    <a:pt x="75" y="49"/>
                  </a:lnTo>
                  <a:lnTo>
                    <a:pt x="71" y="44"/>
                  </a:lnTo>
                  <a:lnTo>
                    <a:pt x="71" y="41"/>
                  </a:lnTo>
                  <a:lnTo>
                    <a:pt x="73" y="38"/>
                  </a:lnTo>
                  <a:lnTo>
                    <a:pt x="77" y="38"/>
                  </a:lnTo>
                  <a:lnTo>
                    <a:pt x="79" y="36"/>
                  </a:lnTo>
                  <a:lnTo>
                    <a:pt x="76" y="30"/>
                  </a:lnTo>
                  <a:lnTo>
                    <a:pt x="72" y="34"/>
                  </a:lnTo>
                  <a:lnTo>
                    <a:pt x="68" y="36"/>
                  </a:lnTo>
                  <a:lnTo>
                    <a:pt x="64" y="38"/>
                  </a:lnTo>
                  <a:lnTo>
                    <a:pt x="60" y="39"/>
                  </a:lnTo>
                  <a:lnTo>
                    <a:pt x="55" y="41"/>
                  </a:lnTo>
                  <a:lnTo>
                    <a:pt x="50" y="41"/>
                  </a:lnTo>
                  <a:lnTo>
                    <a:pt x="46" y="39"/>
                  </a:lnTo>
                  <a:lnTo>
                    <a:pt x="41" y="38"/>
                  </a:lnTo>
                  <a:lnTo>
                    <a:pt x="36" y="34"/>
                  </a:lnTo>
                  <a:lnTo>
                    <a:pt x="34" y="29"/>
                  </a:lnTo>
                  <a:lnTo>
                    <a:pt x="34" y="22"/>
                  </a:lnTo>
                  <a:lnTo>
                    <a:pt x="34" y="16"/>
                  </a:lnTo>
                  <a:lnTo>
                    <a:pt x="28" y="15"/>
                  </a:lnTo>
                  <a:lnTo>
                    <a:pt x="23" y="15"/>
                  </a:lnTo>
                  <a:lnTo>
                    <a:pt x="17" y="19"/>
                  </a:lnTo>
                  <a:lnTo>
                    <a:pt x="11" y="21"/>
                  </a:lnTo>
                  <a:lnTo>
                    <a:pt x="7" y="23"/>
                  </a:lnTo>
                  <a:lnTo>
                    <a:pt x="2" y="23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7" y="8"/>
                  </a:lnTo>
                  <a:lnTo>
                    <a:pt x="12" y="6"/>
                  </a:lnTo>
                  <a:lnTo>
                    <a:pt x="19" y="4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6" y="3"/>
                  </a:lnTo>
                  <a:lnTo>
                    <a:pt x="62" y="5"/>
                  </a:lnTo>
                  <a:lnTo>
                    <a:pt x="66" y="7"/>
                  </a:lnTo>
                  <a:lnTo>
                    <a:pt x="71" y="11"/>
                  </a:lnTo>
                  <a:lnTo>
                    <a:pt x="76" y="15"/>
                  </a:lnTo>
                  <a:lnTo>
                    <a:pt x="80" y="20"/>
                  </a:lnTo>
                  <a:lnTo>
                    <a:pt x="85" y="25"/>
                  </a:lnTo>
                  <a:lnTo>
                    <a:pt x="88" y="28"/>
                  </a:lnTo>
                  <a:lnTo>
                    <a:pt x="9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30600" y="2947680"/>
              <a:ext cx="23400" cy="190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4"/>
                  </a:moveTo>
                  <a:lnTo>
                    <a:pt x="11" y="6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2" y="0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18880" y="2993760"/>
              <a:ext cx="65160" cy="153000"/>
            </a:xfrm>
            <a:custGeom>
              <a:avLst/>
              <a:gdLst/>
              <a:ahLst/>
              <a:rect l="l" t="t" r="r" b="b"/>
              <a:pathLst>
                <a:path w="34" h="81">
                  <a:moveTo>
                    <a:pt x="15" y="80"/>
                  </a:moveTo>
                  <a:lnTo>
                    <a:pt x="11" y="81"/>
                  </a:lnTo>
                  <a:lnTo>
                    <a:pt x="9" y="81"/>
                  </a:lnTo>
                  <a:lnTo>
                    <a:pt x="6" y="81"/>
                  </a:lnTo>
                  <a:lnTo>
                    <a:pt x="2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1" y="63"/>
                  </a:lnTo>
                  <a:lnTo>
                    <a:pt x="2" y="56"/>
                  </a:lnTo>
                  <a:lnTo>
                    <a:pt x="8" y="41"/>
                  </a:lnTo>
                  <a:lnTo>
                    <a:pt x="17" y="27"/>
                  </a:lnTo>
                  <a:lnTo>
                    <a:pt x="26" y="14"/>
                  </a:lnTo>
                  <a:lnTo>
                    <a:pt x="34" y="0"/>
                  </a:lnTo>
                  <a:lnTo>
                    <a:pt x="33" y="10"/>
                  </a:lnTo>
                  <a:lnTo>
                    <a:pt x="26" y="30"/>
                  </a:lnTo>
                  <a:lnTo>
                    <a:pt x="19" y="57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811040" y="2997360"/>
              <a:ext cx="176400" cy="8064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29"/>
                  </a:moveTo>
                  <a:lnTo>
                    <a:pt x="92" y="32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7"/>
                  </a:lnTo>
                  <a:lnTo>
                    <a:pt x="83" y="37"/>
                  </a:lnTo>
                  <a:lnTo>
                    <a:pt x="81" y="35"/>
                  </a:lnTo>
                  <a:lnTo>
                    <a:pt x="79" y="31"/>
                  </a:lnTo>
                  <a:lnTo>
                    <a:pt x="75" y="29"/>
                  </a:lnTo>
                  <a:lnTo>
                    <a:pt x="73" y="32"/>
                  </a:lnTo>
                  <a:lnTo>
                    <a:pt x="71" y="36"/>
                  </a:lnTo>
                  <a:lnTo>
                    <a:pt x="67" y="39"/>
                  </a:lnTo>
                  <a:lnTo>
                    <a:pt x="64" y="41"/>
                  </a:lnTo>
                  <a:lnTo>
                    <a:pt x="57" y="41"/>
                  </a:lnTo>
                  <a:lnTo>
                    <a:pt x="49" y="41"/>
                  </a:lnTo>
                  <a:lnTo>
                    <a:pt x="43" y="38"/>
                  </a:lnTo>
                  <a:lnTo>
                    <a:pt x="39" y="32"/>
                  </a:lnTo>
                  <a:lnTo>
                    <a:pt x="41" y="16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4" y="17"/>
                  </a:lnTo>
                  <a:lnTo>
                    <a:pt x="20" y="20"/>
                  </a:lnTo>
                  <a:lnTo>
                    <a:pt x="14" y="21"/>
                  </a:lnTo>
                  <a:lnTo>
                    <a:pt x="9" y="22"/>
                  </a:lnTo>
                  <a:lnTo>
                    <a:pt x="5" y="22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2" y="8"/>
                  </a:lnTo>
                  <a:lnTo>
                    <a:pt x="16" y="6"/>
                  </a:lnTo>
                  <a:lnTo>
                    <a:pt x="27" y="2"/>
                  </a:lnTo>
                  <a:lnTo>
                    <a:pt x="37" y="0"/>
                  </a:lnTo>
                  <a:lnTo>
                    <a:pt x="47" y="1"/>
                  </a:lnTo>
                  <a:lnTo>
                    <a:pt x="58" y="3"/>
                  </a:lnTo>
                  <a:lnTo>
                    <a:pt x="68" y="7"/>
                  </a:lnTo>
                  <a:lnTo>
                    <a:pt x="77" y="13"/>
                  </a:lnTo>
                  <a:lnTo>
                    <a:pt x="86" y="21"/>
                  </a:lnTo>
                  <a:lnTo>
                    <a:pt x="9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151160" y="2989440"/>
              <a:ext cx="38160" cy="123480"/>
            </a:xfrm>
            <a:custGeom>
              <a:avLst/>
              <a:gdLst/>
              <a:ahLst/>
              <a:rect l="l" t="t" r="r" b="b"/>
              <a:pathLst>
                <a:path w="18" h="66">
                  <a:moveTo>
                    <a:pt x="15" y="23"/>
                  </a:moveTo>
                  <a:lnTo>
                    <a:pt x="17" y="34"/>
                  </a:lnTo>
                  <a:lnTo>
                    <a:pt x="18" y="45"/>
                  </a:lnTo>
                  <a:lnTo>
                    <a:pt x="17" y="57"/>
                  </a:lnTo>
                  <a:lnTo>
                    <a:pt x="11" y="66"/>
                  </a:lnTo>
                  <a:lnTo>
                    <a:pt x="1" y="60"/>
                  </a:lnTo>
                  <a:lnTo>
                    <a:pt x="2" y="51"/>
                  </a:lnTo>
                  <a:lnTo>
                    <a:pt x="6" y="38"/>
                  </a:lnTo>
                  <a:lnTo>
                    <a:pt x="6" y="26"/>
                  </a:lnTo>
                  <a:lnTo>
                    <a:pt x="4" y="19"/>
                  </a:lnTo>
                  <a:lnTo>
                    <a:pt x="3" y="13"/>
                  </a:lnTo>
                  <a:lnTo>
                    <a:pt x="1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9" y="9"/>
                  </a:lnTo>
                  <a:lnTo>
                    <a:pt x="12" y="16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14360" y="3035520"/>
              <a:ext cx="15480" cy="154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1"/>
                  </a:moveTo>
                  <a:lnTo>
                    <a:pt x="9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1"/>
                  </a:lnTo>
                  <a:lnTo>
                    <a:pt x="5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11520" y="3193200"/>
              <a:ext cx="95400" cy="42480"/>
            </a:xfrm>
            <a:custGeom>
              <a:avLst/>
              <a:gdLst/>
              <a:ahLst/>
              <a:rect l="l" t="t" r="r" b="b"/>
              <a:pathLst>
                <a:path w="49" h="22">
                  <a:moveTo>
                    <a:pt x="49" y="14"/>
                  </a:moveTo>
                  <a:lnTo>
                    <a:pt x="45" y="16"/>
                  </a:lnTo>
                  <a:lnTo>
                    <a:pt x="40" y="17"/>
                  </a:lnTo>
                  <a:lnTo>
                    <a:pt x="35" y="20"/>
                  </a:lnTo>
                  <a:lnTo>
                    <a:pt x="30" y="21"/>
                  </a:lnTo>
                  <a:lnTo>
                    <a:pt x="25" y="22"/>
                  </a:lnTo>
                  <a:lnTo>
                    <a:pt x="20" y="22"/>
                  </a:lnTo>
                  <a:lnTo>
                    <a:pt x="15" y="21"/>
                  </a:lnTo>
                  <a:lnTo>
                    <a:pt x="10" y="20"/>
                  </a:lnTo>
                  <a:lnTo>
                    <a:pt x="7" y="15"/>
                  </a:lnTo>
                  <a:lnTo>
                    <a:pt x="2" y="11"/>
                  </a:lnTo>
                  <a:lnTo>
                    <a:pt x="0" y="6"/>
                  </a:lnTo>
                  <a:lnTo>
                    <a:pt x="1" y="0"/>
                  </a:lnTo>
                  <a:lnTo>
                    <a:pt x="7" y="6"/>
                  </a:lnTo>
                  <a:lnTo>
                    <a:pt x="13" y="8"/>
                  </a:lnTo>
                  <a:lnTo>
                    <a:pt x="20" y="7"/>
                  </a:lnTo>
                  <a:lnTo>
                    <a:pt x="28" y="5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6" y="6"/>
                  </a:lnTo>
                  <a:lnTo>
                    <a:pt x="4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30680" y="3208680"/>
              <a:ext cx="111240" cy="4932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58" y="4"/>
                  </a:moveTo>
                  <a:lnTo>
                    <a:pt x="56" y="13"/>
                  </a:lnTo>
                  <a:lnTo>
                    <a:pt x="51" y="19"/>
                  </a:lnTo>
                  <a:lnTo>
                    <a:pt x="43" y="24"/>
                  </a:lnTo>
                  <a:lnTo>
                    <a:pt x="34" y="28"/>
                  </a:lnTo>
                  <a:lnTo>
                    <a:pt x="29" y="28"/>
                  </a:lnTo>
                  <a:lnTo>
                    <a:pt x="24" y="28"/>
                  </a:lnTo>
                  <a:lnTo>
                    <a:pt x="18" y="27"/>
                  </a:lnTo>
                  <a:lnTo>
                    <a:pt x="14" y="26"/>
                  </a:lnTo>
                  <a:lnTo>
                    <a:pt x="9" y="24"/>
                  </a:lnTo>
                  <a:lnTo>
                    <a:pt x="6" y="22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4" y="12"/>
                  </a:lnTo>
                  <a:lnTo>
                    <a:pt x="9" y="11"/>
                  </a:lnTo>
                  <a:lnTo>
                    <a:pt x="15" y="11"/>
                  </a:lnTo>
                  <a:lnTo>
                    <a:pt x="19" y="12"/>
                  </a:lnTo>
                  <a:lnTo>
                    <a:pt x="24" y="13"/>
                  </a:lnTo>
                  <a:lnTo>
                    <a:pt x="30" y="13"/>
                  </a:lnTo>
                  <a:lnTo>
                    <a:pt x="34" y="13"/>
                  </a:lnTo>
                  <a:lnTo>
                    <a:pt x="39" y="11"/>
                  </a:lnTo>
                  <a:lnTo>
                    <a:pt x="45" y="8"/>
                  </a:lnTo>
                  <a:lnTo>
                    <a:pt x="48" y="3"/>
                  </a:lnTo>
                  <a:lnTo>
                    <a:pt x="52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154760" y="3243600"/>
              <a:ext cx="99720" cy="21060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16" y="27"/>
                  </a:moveTo>
                  <a:lnTo>
                    <a:pt x="20" y="37"/>
                  </a:lnTo>
                  <a:lnTo>
                    <a:pt x="24" y="46"/>
                  </a:lnTo>
                  <a:lnTo>
                    <a:pt x="28" y="54"/>
                  </a:lnTo>
                  <a:lnTo>
                    <a:pt x="33" y="63"/>
                  </a:lnTo>
                  <a:lnTo>
                    <a:pt x="38" y="71"/>
                  </a:lnTo>
                  <a:lnTo>
                    <a:pt x="43" y="80"/>
                  </a:lnTo>
                  <a:lnTo>
                    <a:pt x="48" y="89"/>
                  </a:lnTo>
                  <a:lnTo>
                    <a:pt x="53" y="98"/>
                  </a:lnTo>
                  <a:lnTo>
                    <a:pt x="53" y="109"/>
                  </a:lnTo>
                  <a:lnTo>
                    <a:pt x="46" y="107"/>
                  </a:lnTo>
                  <a:lnTo>
                    <a:pt x="39" y="105"/>
                  </a:lnTo>
                  <a:lnTo>
                    <a:pt x="32" y="100"/>
                  </a:lnTo>
                  <a:lnTo>
                    <a:pt x="25" y="95"/>
                  </a:lnTo>
                  <a:lnTo>
                    <a:pt x="20" y="91"/>
                  </a:lnTo>
                  <a:lnTo>
                    <a:pt x="15" y="84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3" y="54"/>
                  </a:lnTo>
                  <a:lnTo>
                    <a:pt x="2" y="36"/>
                  </a:lnTo>
                  <a:lnTo>
                    <a:pt x="0" y="18"/>
                  </a:lnTo>
                  <a:lnTo>
                    <a:pt x="0" y="0"/>
                  </a:lnTo>
                  <a:lnTo>
                    <a:pt x="8" y="2"/>
                  </a:lnTo>
                  <a:lnTo>
                    <a:pt x="11" y="10"/>
                  </a:lnTo>
                  <a:lnTo>
                    <a:pt x="13" y="19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38440" y="3293280"/>
              <a:ext cx="322560" cy="130320"/>
            </a:xfrm>
            <a:custGeom>
              <a:avLst/>
              <a:gdLst/>
              <a:ahLst/>
              <a:rect l="l" t="t" r="r" b="b"/>
              <a:pathLst>
                <a:path w="169" h="68">
                  <a:moveTo>
                    <a:pt x="157" y="34"/>
                  </a:moveTo>
                  <a:lnTo>
                    <a:pt x="161" y="34"/>
                  </a:lnTo>
                  <a:lnTo>
                    <a:pt x="164" y="34"/>
                  </a:lnTo>
                  <a:lnTo>
                    <a:pt x="168" y="35"/>
                  </a:lnTo>
                  <a:lnTo>
                    <a:pt x="169" y="38"/>
                  </a:lnTo>
                  <a:lnTo>
                    <a:pt x="165" y="44"/>
                  </a:lnTo>
                  <a:lnTo>
                    <a:pt x="161" y="47"/>
                  </a:lnTo>
                  <a:lnTo>
                    <a:pt x="155" y="52"/>
                  </a:lnTo>
                  <a:lnTo>
                    <a:pt x="149" y="54"/>
                  </a:lnTo>
                  <a:lnTo>
                    <a:pt x="136" y="61"/>
                  </a:lnTo>
                  <a:lnTo>
                    <a:pt x="124" y="66"/>
                  </a:lnTo>
                  <a:lnTo>
                    <a:pt x="110" y="68"/>
                  </a:lnTo>
                  <a:lnTo>
                    <a:pt x="95" y="68"/>
                  </a:lnTo>
                  <a:lnTo>
                    <a:pt x="81" y="67"/>
                  </a:lnTo>
                  <a:lnTo>
                    <a:pt x="67" y="65"/>
                  </a:lnTo>
                  <a:lnTo>
                    <a:pt x="53" y="60"/>
                  </a:lnTo>
                  <a:lnTo>
                    <a:pt x="41" y="54"/>
                  </a:lnTo>
                  <a:lnTo>
                    <a:pt x="34" y="49"/>
                  </a:lnTo>
                  <a:lnTo>
                    <a:pt x="28" y="43"/>
                  </a:lnTo>
                  <a:lnTo>
                    <a:pt x="21" y="37"/>
                  </a:lnTo>
                  <a:lnTo>
                    <a:pt x="15" y="31"/>
                  </a:lnTo>
                  <a:lnTo>
                    <a:pt x="11" y="26"/>
                  </a:lnTo>
                  <a:lnTo>
                    <a:pt x="6" y="19"/>
                  </a:lnTo>
                  <a:lnTo>
                    <a:pt x="3" y="11"/>
                  </a:lnTo>
                  <a:lnTo>
                    <a:pt x="0" y="2"/>
                  </a:lnTo>
                  <a:lnTo>
                    <a:pt x="9" y="0"/>
                  </a:lnTo>
                  <a:lnTo>
                    <a:pt x="17" y="2"/>
                  </a:lnTo>
                  <a:lnTo>
                    <a:pt x="26" y="6"/>
                  </a:lnTo>
                  <a:lnTo>
                    <a:pt x="34" y="8"/>
                  </a:lnTo>
                  <a:lnTo>
                    <a:pt x="50" y="8"/>
                  </a:lnTo>
                  <a:lnTo>
                    <a:pt x="66" y="11"/>
                  </a:lnTo>
                  <a:lnTo>
                    <a:pt x="82" y="13"/>
                  </a:lnTo>
                  <a:lnTo>
                    <a:pt x="97" y="16"/>
                  </a:lnTo>
                  <a:lnTo>
                    <a:pt x="113" y="20"/>
                  </a:lnTo>
                  <a:lnTo>
                    <a:pt x="128" y="24"/>
                  </a:lnTo>
                  <a:lnTo>
                    <a:pt x="142" y="29"/>
                  </a:lnTo>
                  <a:lnTo>
                    <a:pt x="15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92440" y="3331440"/>
              <a:ext cx="207000" cy="65160"/>
            </a:xfrm>
            <a:custGeom>
              <a:avLst/>
              <a:gdLst/>
              <a:ahLst/>
              <a:rect l="l" t="t" r="r" b="b"/>
              <a:pathLst>
                <a:path w="108" h="34">
                  <a:moveTo>
                    <a:pt x="99" y="20"/>
                  </a:moveTo>
                  <a:lnTo>
                    <a:pt x="108" y="23"/>
                  </a:lnTo>
                  <a:lnTo>
                    <a:pt x="99" y="29"/>
                  </a:lnTo>
                  <a:lnTo>
                    <a:pt x="90" y="32"/>
                  </a:lnTo>
                  <a:lnTo>
                    <a:pt x="80" y="34"/>
                  </a:lnTo>
                  <a:lnTo>
                    <a:pt x="69" y="34"/>
                  </a:lnTo>
                  <a:lnTo>
                    <a:pt x="59" y="33"/>
                  </a:lnTo>
                  <a:lnTo>
                    <a:pt x="49" y="31"/>
                  </a:lnTo>
                  <a:lnTo>
                    <a:pt x="38" y="29"/>
                  </a:lnTo>
                  <a:lnTo>
                    <a:pt x="28" y="25"/>
                  </a:lnTo>
                  <a:lnTo>
                    <a:pt x="20" y="19"/>
                  </a:lnTo>
                  <a:lnTo>
                    <a:pt x="13" y="14"/>
                  </a:lnTo>
                  <a:lnTo>
                    <a:pt x="6" y="7"/>
                  </a:lnTo>
                  <a:lnTo>
                    <a:pt x="0" y="0"/>
                  </a:lnTo>
                  <a:lnTo>
                    <a:pt x="13" y="2"/>
                  </a:lnTo>
                  <a:lnTo>
                    <a:pt x="25" y="3"/>
                  </a:lnTo>
                  <a:lnTo>
                    <a:pt x="39" y="4"/>
                  </a:lnTo>
                  <a:lnTo>
                    <a:pt x="52" y="6"/>
                  </a:lnTo>
                  <a:lnTo>
                    <a:pt x="65" y="8"/>
                  </a:lnTo>
                  <a:lnTo>
                    <a:pt x="77" y="10"/>
                  </a:lnTo>
                  <a:lnTo>
                    <a:pt x="89" y="15"/>
                  </a:lnTo>
                  <a:lnTo>
                    <a:pt x="99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88840" y="3416040"/>
              <a:ext cx="114840" cy="5364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60" y="19"/>
                  </a:moveTo>
                  <a:lnTo>
                    <a:pt x="60" y="23"/>
                  </a:lnTo>
                  <a:lnTo>
                    <a:pt x="58" y="26"/>
                  </a:lnTo>
                  <a:lnTo>
                    <a:pt x="53" y="27"/>
                  </a:lnTo>
                  <a:lnTo>
                    <a:pt x="50" y="28"/>
                  </a:lnTo>
                  <a:lnTo>
                    <a:pt x="44" y="28"/>
                  </a:lnTo>
                  <a:lnTo>
                    <a:pt x="38" y="28"/>
                  </a:lnTo>
                  <a:lnTo>
                    <a:pt x="32" y="27"/>
                  </a:lnTo>
                  <a:lnTo>
                    <a:pt x="26" y="27"/>
                  </a:lnTo>
                  <a:lnTo>
                    <a:pt x="22" y="26"/>
                  </a:lnTo>
                  <a:lnTo>
                    <a:pt x="16" y="25"/>
                  </a:lnTo>
                  <a:lnTo>
                    <a:pt x="11" y="23"/>
                  </a:lnTo>
                  <a:lnTo>
                    <a:pt x="7" y="20"/>
                  </a:lnTo>
                  <a:lnTo>
                    <a:pt x="3" y="16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1"/>
                  </a:lnTo>
                  <a:lnTo>
                    <a:pt x="10" y="4"/>
                  </a:lnTo>
                  <a:lnTo>
                    <a:pt x="16" y="8"/>
                  </a:lnTo>
                  <a:lnTo>
                    <a:pt x="23" y="10"/>
                  </a:lnTo>
                  <a:lnTo>
                    <a:pt x="28" y="11"/>
                  </a:lnTo>
                  <a:lnTo>
                    <a:pt x="32" y="13"/>
                  </a:lnTo>
                  <a:lnTo>
                    <a:pt x="37" y="15"/>
                  </a:lnTo>
                  <a:lnTo>
                    <a:pt x="41" y="16"/>
                  </a:lnTo>
                  <a:lnTo>
                    <a:pt x="46" y="17"/>
                  </a:lnTo>
                  <a:lnTo>
                    <a:pt x="51" y="18"/>
                  </a:lnTo>
                  <a:lnTo>
                    <a:pt x="55" y="19"/>
                  </a:lnTo>
                  <a:lnTo>
                    <a:pt x="6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293000" y="3484800"/>
              <a:ext cx="468000" cy="226080"/>
            </a:xfrm>
            <a:custGeom>
              <a:avLst/>
              <a:gdLst/>
              <a:ahLst/>
              <a:rect l="l" t="t" r="r" b="b"/>
              <a:pathLst>
                <a:path w="245" h="118">
                  <a:moveTo>
                    <a:pt x="166" y="79"/>
                  </a:moveTo>
                  <a:lnTo>
                    <a:pt x="171" y="76"/>
                  </a:lnTo>
                  <a:lnTo>
                    <a:pt x="177" y="76"/>
                  </a:lnTo>
                  <a:lnTo>
                    <a:pt x="182" y="76"/>
                  </a:lnTo>
                  <a:lnTo>
                    <a:pt x="188" y="75"/>
                  </a:lnTo>
                  <a:lnTo>
                    <a:pt x="196" y="73"/>
                  </a:lnTo>
                  <a:lnTo>
                    <a:pt x="203" y="71"/>
                  </a:lnTo>
                  <a:lnTo>
                    <a:pt x="210" y="66"/>
                  </a:lnTo>
                  <a:lnTo>
                    <a:pt x="217" y="63"/>
                  </a:lnTo>
                  <a:lnTo>
                    <a:pt x="224" y="58"/>
                  </a:lnTo>
                  <a:lnTo>
                    <a:pt x="231" y="53"/>
                  </a:lnTo>
                  <a:lnTo>
                    <a:pt x="238" y="50"/>
                  </a:lnTo>
                  <a:lnTo>
                    <a:pt x="245" y="45"/>
                  </a:lnTo>
                  <a:lnTo>
                    <a:pt x="244" y="60"/>
                  </a:lnTo>
                  <a:lnTo>
                    <a:pt x="240" y="76"/>
                  </a:lnTo>
                  <a:lnTo>
                    <a:pt x="236" y="94"/>
                  </a:lnTo>
                  <a:lnTo>
                    <a:pt x="230" y="109"/>
                  </a:lnTo>
                  <a:lnTo>
                    <a:pt x="216" y="112"/>
                  </a:lnTo>
                  <a:lnTo>
                    <a:pt x="202" y="114"/>
                  </a:lnTo>
                  <a:lnTo>
                    <a:pt x="187" y="117"/>
                  </a:lnTo>
                  <a:lnTo>
                    <a:pt x="173" y="118"/>
                  </a:lnTo>
                  <a:lnTo>
                    <a:pt x="158" y="118"/>
                  </a:lnTo>
                  <a:lnTo>
                    <a:pt x="143" y="118"/>
                  </a:lnTo>
                  <a:lnTo>
                    <a:pt x="127" y="117"/>
                  </a:lnTo>
                  <a:lnTo>
                    <a:pt x="112" y="114"/>
                  </a:lnTo>
                  <a:lnTo>
                    <a:pt x="97" y="112"/>
                  </a:lnTo>
                  <a:lnTo>
                    <a:pt x="83" y="109"/>
                  </a:lnTo>
                  <a:lnTo>
                    <a:pt x="68" y="105"/>
                  </a:lnTo>
                  <a:lnTo>
                    <a:pt x="55" y="101"/>
                  </a:lnTo>
                  <a:lnTo>
                    <a:pt x="42" y="95"/>
                  </a:lnTo>
                  <a:lnTo>
                    <a:pt x="28" y="88"/>
                  </a:lnTo>
                  <a:lnTo>
                    <a:pt x="17" y="80"/>
                  </a:lnTo>
                  <a:lnTo>
                    <a:pt x="5" y="72"/>
                  </a:lnTo>
                  <a:lnTo>
                    <a:pt x="2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2" y="0"/>
                  </a:lnTo>
                  <a:lnTo>
                    <a:pt x="19" y="18"/>
                  </a:lnTo>
                  <a:lnTo>
                    <a:pt x="37" y="33"/>
                  </a:lnTo>
                  <a:lnTo>
                    <a:pt x="57" y="46"/>
                  </a:lnTo>
                  <a:lnTo>
                    <a:pt x="76" y="58"/>
                  </a:lnTo>
                  <a:lnTo>
                    <a:pt x="97" y="67"/>
                  </a:lnTo>
                  <a:lnTo>
                    <a:pt x="119" y="74"/>
                  </a:lnTo>
                  <a:lnTo>
                    <a:pt x="142" y="79"/>
                  </a:lnTo>
                  <a:lnTo>
                    <a:pt x="166" y="79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250520" y="3661560"/>
              <a:ext cx="15480" cy="5724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5" y="30"/>
                  </a:moveTo>
                  <a:lnTo>
                    <a:pt x="0" y="2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1" y="0"/>
                  </a:lnTo>
                  <a:lnTo>
                    <a:pt x="4" y="6"/>
                  </a:lnTo>
                  <a:lnTo>
                    <a:pt x="5" y="14"/>
                  </a:lnTo>
                  <a:lnTo>
                    <a:pt x="7" y="22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288680" y="3688560"/>
              <a:ext cx="15480" cy="3816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2"/>
                  </a:moveTo>
                  <a:lnTo>
                    <a:pt x="7" y="6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5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23200" y="3746160"/>
              <a:ext cx="14760" cy="3024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8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84680" y="3750480"/>
              <a:ext cx="19080" cy="4608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9" y="3"/>
                  </a:moveTo>
                  <a:lnTo>
                    <a:pt x="9" y="9"/>
                  </a:lnTo>
                  <a:lnTo>
                    <a:pt x="9" y="13"/>
                  </a:lnTo>
                  <a:lnTo>
                    <a:pt x="8" y="19"/>
                  </a:lnTo>
                  <a:lnTo>
                    <a:pt x="5" y="24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6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761360" y="4687200"/>
              <a:ext cx="713520" cy="283680"/>
            </a:xfrm>
            <a:custGeom>
              <a:avLst/>
              <a:gdLst/>
              <a:ahLst/>
              <a:rect l="l" t="t" r="r" b="b"/>
              <a:pathLst>
                <a:path w="371" h="147">
                  <a:moveTo>
                    <a:pt x="364" y="53"/>
                  </a:moveTo>
                  <a:lnTo>
                    <a:pt x="371" y="68"/>
                  </a:lnTo>
                  <a:lnTo>
                    <a:pt x="364" y="62"/>
                  </a:lnTo>
                  <a:lnTo>
                    <a:pt x="356" y="58"/>
                  </a:lnTo>
                  <a:lnTo>
                    <a:pt x="348" y="54"/>
                  </a:lnTo>
                  <a:lnTo>
                    <a:pt x="339" y="52"/>
                  </a:lnTo>
                  <a:lnTo>
                    <a:pt x="331" y="48"/>
                  </a:lnTo>
                  <a:lnTo>
                    <a:pt x="323" y="44"/>
                  </a:lnTo>
                  <a:lnTo>
                    <a:pt x="315" y="39"/>
                  </a:lnTo>
                  <a:lnTo>
                    <a:pt x="308" y="32"/>
                  </a:lnTo>
                  <a:lnTo>
                    <a:pt x="301" y="38"/>
                  </a:lnTo>
                  <a:lnTo>
                    <a:pt x="308" y="46"/>
                  </a:lnTo>
                  <a:lnTo>
                    <a:pt x="315" y="52"/>
                  </a:lnTo>
                  <a:lnTo>
                    <a:pt x="323" y="58"/>
                  </a:lnTo>
                  <a:lnTo>
                    <a:pt x="332" y="61"/>
                  </a:lnTo>
                  <a:lnTo>
                    <a:pt x="340" y="66"/>
                  </a:lnTo>
                  <a:lnTo>
                    <a:pt x="349" y="70"/>
                  </a:lnTo>
                  <a:lnTo>
                    <a:pt x="357" y="74"/>
                  </a:lnTo>
                  <a:lnTo>
                    <a:pt x="365" y="78"/>
                  </a:lnTo>
                  <a:lnTo>
                    <a:pt x="366" y="83"/>
                  </a:lnTo>
                  <a:lnTo>
                    <a:pt x="368" y="88"/>
                  </a:lnTo>
                  <a:lnTo>
                    <a:pt x="369" y="93"/>
                  </a:lnTo>
                  <a:lnTo>
                    <a:pt x="368" y="98"/>
                  </a:lnTo>
                  <a:lnTo>
                    <a:pt x="358" y="92"/>
                  </a:lnTo>
                  <a:lnTo>
                    <a:pt x="349" y="88"/>
                  </a:lnTo>
                  <a:lnTo>
                    <a:pt x="340" y="83"/>
                  </a:lnTo>
                  <a:lnTo>
                    <a:pt x="331" y="77"/>
                  </a:lnTo>
                  <a:lnTo>
                    <a:pt x="321" y="73"/>
                  </a:lnTo>
                  <a:lnTo>
                    <a:pt x="312" y="67"/>
                  </a:lnTo>
                  <a:lnTo>
                    <a:pt x="303" y="61"/>
                  </a:lnTo>
                  <a:lnTo>
                    <a:pt x="294" y="55"/>
                  </a:lnTo>
                  <a:lnTo>
                    <a:pt x="290" y="59"/>
                  </a:lnTo>
                  <a:lnTo>
                    <a:pt x="291" y="63"/>
                  </a:lnTo>
                  <a:lnTo>
                    <a:pt x="294" y="68"/>
                  </a:lnTo>
                  <a:lnTo>
                    <a:pt x="295" y="73"/>
                  </a:lnTo>
                  <a:lnTo>
                    <a:pt x="303" y="77"/>
                  </a:lnTo>
                  <a:lnTo>
                    <a:pt x="311" y="83"/>
                  </a:lnTo>
                  <a:lnTo>
                    <a:pt x="319" y="88"/>
                  </a:lnTo>
                  <a:lnTo>
                    <a:pt x="328" y="92"/>
                  </a:lnTo>
                  <a:lnTo>
                    <a:pt x="336" y="97"/>
                  </a:lnTo>
                  <a:lnTo>
                    <a:pt x="344" y="101"/>
                  </a:lnTo>
                  <a:lnTo>
                    <a:pt x="354" y="106"/>
                  </a:lnTo>
                  <a:lnTo>
                    <a:pt x="362" y="111"/>
                  </a:lnTo>
                  <a:lnTo>
                    <a:pt x="365" y="115"/>
                  </a:lnTo>
                  <a:lnTo>
                    <a:pt x="365" y="120"/>
                  </a:lnTo>
                  <a:lnTo>
                    <a:pt x="365" y="126"/>
                  </a:lnTo>
                  <a:lnTo>
                    <a:pt x="365" y="131"/>
                  </a:lnTo>
                  <a:lnTo>
                    <a:pt x="355" y="123"/>
                  </a:lnTo>
                  <a:lnTo>
                    <a:pt x="344" y="117"/>
                  </a:lnTo>
                  <a:lnTo>
                    <a:pt x="333" y="113"/>
                  </a:lnTo>
                  <a:lnTo>
                    <a:pt x="320" y="108"/>
                  </a:lnTo>
                  <a:lnTo>
                    <a:pt x="309" y="105"/>
                  </a:lnTo>
                  <a:lnTo>
                    <a:pt x="297" y="100"/>
                  </a:lnTo>
                  <a:lnTo>
                    <a:pt x="286" y="94"/>
                  </a:lnTo>
                  <a:lnTo>
                    <a:pt x="275" y="86"/>
                  </a:lnTo>
                  <a:lnTo>
                    <a:pt x="270" y="91"/>
                  </a:lnTo>
                  <a:lnTo>
                    <a:pt x="278" y="100"/>
                  </a:lnTo>
                  <a:lnTo>
                    <a:pt x="287" y="107"/>
                  </a:lnTo>
                  <a:lnTo>
                    <a:pt x="296" y="114"/>
                  </a:lnTo>
                  <a:lnTo>
                    <a:pt x="305" y="120"/>
                  </a:lnTo>
                  <a:lnTo>
                    <a:pt x="316" y="126"/>
                  </a:lnTo>
                  <a:lnTo>
                    <a:pt x="326" y="130"/>
                  </a:lnTo>
                  <a:lnTo>
                    <a:pt x="335" y="137"/>
                  </a:lnTo>
                  <a:lnTo>
                    <a:pt x="344" y="144"/>
                  </a:lnTo>
                  <a:lnTo>
                    <a:pt x="328" y="147"/>
                  </a:lnTo>
                  <a:lnTo>
                    <a:pt x="313" y="146"/>
                  </a:lnTo>
                  <a:lnTo>
                    <a:pt x="297" y="145"/>
                  </a:lnTo>
                  <a:lnTo>
                    <a:pt x="282" y="142"/>
                  </a:lnTo>
                  <a:lnTo>
                    <a:pt x="267" y="139"/>
                  </a:lnTo>
                  <a:lnTo>
                    <a:pt x="253" y="138"/>
                  </a:lnTo>
                  <a:lnTo>
                    <a:pt x="238" y="141"/>
                  </a:lnTo>
                  <a:lnTo>
                    <a:pt x="223" y="145"/>
                  </a:lnTo>
                  <a:lnTo>
                    <a:pt x="208" y="144"/>
                  </a:lnTo>
                  <a:lnTo>
                    <a:pt x="192" y="145"/>
                  </a:lnTo>
                  <a:lnTo>
                    <a:pt x="175" y="146"/>
                  </a:lnTo>
                  <a:lnTo>
                    <a:pt x="159" y="146"/>
                  </a:lnTo>
                  <a:lnTo>
                    <a:pt x="143" y="146"/>
                  </a:lnTo>
                  <a:lnTo>
                    <a:pt x="128" y="144"/>
                  </a:lnTo>
                  <a:lnTo>
                    <a:pt x="113" y="139"/>
                  </a:lnTo>
                  <a:lnTo>
                    <a:pt x="100" y="131"/>
                  </a:lnTo>
                  <a:lnTo>
                    <a:pt x="94" y="129"/>
                  </a:lnTo>
                  <a:lnTo>
                    <a:pt x="87" y="126"/>
                  </a:lnTo>
                  <a:lnTo>
                    <a:pt x="82" y="122"/>
                  </a:lnTo>
                  <a:lnTo>
                    <a:pt x="76" y="120"/>
                  </a:lnTo>
                  <a:lnTo>
                    <a:pt x="69" y="117"/>
                  </a:lnTo>
                  <a:lnTo>
                    <a:pt x="63" y="116"/>
                  </a:lnTo>
                  <a:lnTo>
                    <a:pt x="56" y="117"/>
                  </a:lnTo>
                  <a:lnTo>
                    <a:pt x="49" y="120"/>
                  </a:lnTo>
                  <a:lnTo>
                    <a:pt x="49" y="126"/>
                  </a:lnTo>
                  <a:lnTo>
                    <a:pt x="54" y="128"/>
                  </a:lnTo>
                  <a:lnTo>
                    <a:pt x="59" y="130"/>
                  </a:lnTo>
                  <a:lnTo>
                    <a:pt x="62" y="134"/>
                  </a:lnTo>
                  <a:lnTo>
                    <a:pt x="56" y="135"/>
                  </a:lnTo>
                  <a:lnTo>
                    <a:pt x="49" y="135"/>
                  </a:lnTo>
                  <a:lnTo>
                    <a:pt x="43" y="136"/>
                  </a:lnTo>
                  <a:lnTo>
                    <a:pt x="34" y="136"/>
                  </a:lnTo>
                  <a:lnTo>
                    <a:pt x="26" y="136"/>
                  </a:lnTo>
                  <a:lnTo>
                    <a:pt x="18" y="136"/>
                  </a:lnTo>
                  <a:lnTo>
                    <a:pt x="10" y="134"/>
                  </a:lnTo>
                  <a:lnTo>
                    <a:pt x="4" y="131"/>
                  </a:lnTo>
                  <a:lnTo>
                    <a:pt x="1" y="111"/>
                  </a:lnTo>
                  <a:lnTo>
                    <a:pt x="0" y="89"/>
                  </a:lnTo>
                  <a:lnTo>
                    <a:pt x="2" y="68"/>
                  </a:lnTo>
                  <a:lnTo>
                    <a:pt x="9" y="48"/>
                  </a:lnTo>
                  <a:lnTo>
                    <a:pt x="21" y="47"/>
                  </a:lnTo>
                  <a:lnTo>
                    <a:pt x="32" y="44"/>
                  </a:lnTo>
                  <a:lnTo>
                    <a:pt x="43" y="39"/>
                  </a:lnTo>
                  <a:lnTo>
                    <a:pt x="53" y="35"/>
                  </a:lnTo>
                  <a:lnTo>
                    <a:pt x="63" y="30"/>
                  </a:lnTo>
                  <a:lnTo>
                    <a:pt x="74" y="28"/>
                  </a:lnTo>
                  <a:lnTo>
                    <a:pt x="85" y="26"/>
                  </a:lnTo>
                  <a:lnTo>
                    <a:pt x="98" y="30"/>
                  </a:lnTo>
                  <a:lnTo>
                    <a:pt x="120" y="31"/>
                  </a:lnTo>
                  <a:lnTo>
                    <a:pt x="140" y="29"/>
                  </a:lnTo>
                  <a:lnTo>
                    <a:pt x="161" y="26"/>
                  </a:lnTo>
                  <a:lnTo>
                    <a:pt x="182" y="22"/>
                  </a:lnTo>
                  <a:lnTo>
                    <a:pt x="202" y="17"/>
                  </a:lnTo>
                  <a:lnTo>
                    <a:pt x="222" y="11"/>
                  </a:lnTo>
                  <a:lnTo>
                    <a:pt x="242" y="6"/>
                  </a:lnTo>
                  <a:lnTo>
                    <a:pt x="261" y="0"/>
                  </a:lnTo>
                  <a:lnTo>
                    <a:pt x="276" y="2"/>
                  </a:lnTo>
                  <a:lnTo>
                    <a:pt x="290" y="6"/>
                  </a:lnTo>
                  <a:lnTo>
                    <a:pt x="304" y="11"/>
                  </a:lnTo>
                  <a:lnTo>
                    <a:pt x="317" y="18"/>
                  </a:lnTo>
                  <a:lnTo>
                    <a:pt x="328" y="26"/>
                  </a:lnTo>
                  <a:lnTo>
                    <a:pt x="341" y="35"/>
                  </a:lnTo>
                  <a:lnTo>
                    <a:pt x="353" y="44"/>
                  </a:lnTo>
                  <a:lnTo>
                    <a:pt x="364" y="53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444640" y="4740120"/>
              <a:ext cx="46080" cy="2664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15"/>
                  </a:moveTo>
                  <a:lnTo>
                    <a:pt x="17" y="11"/>
                  </a:lnTo>
                  <a:lnTo>
                    <a:pt x="10" y="9"/>
                  </a:lnTo>
                  <a:lnTo>
                    <a:pt x="4" y="4"/>
                  </a:lnTo>
                  <a:lnTo>
                    <a:pt x="0" y="0"/>
                  </a:lnTo>
                  <a:lnTo>
                    <a:pt x="8" y="2"/>
                  </a:lnTo>
                  <a:lnTo>
                    <a:pt x="18" y="2"/>
                  </a:lnTo>
                  <a:lnTo>
                    <a:pt x="24" y="5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619520" y="4732560"/>
              <a:ext cx="149400" cy="238320"/>
            </a:xfrm>
            <a:custGeom>
              <a:avLst/>
              <a:gdLst/>
              <a:ahLst/>
              <a:rect l="l" t="t" r="r" b="b"/>
              <a:pathLst>
                <a:path w="78" h="123">
                  <a:moveTo>
                    <a:pt x="58" y="122"/>
                  </a:moveTo>
                  <a:lnTo>
                    <a:pt x="50" y="121"/>
                  </a:lnTo>
                  <a:lnTo>
                    <a:pt x="40" y="122"/>
                  </a:lnTo>
                  <a:lnTo>
                    <a:pt x="30" y="122"/>
                  </a:lnTo>
                  <a:lnTo>
                    <a:pt x="21" y="123"/>
                  </a:lnTo>
                  <a:lnTo>
                    <a:pt x="11" y="122"/>
                  </a:lnTo>
                  <a:lnTo>
                    <a:pt x="5" y="119"/>
                  </a:lnTo>
                  <a:lnTo>
                    <a:pt x="0" y="113"/>
                  </a:lnTo>
                  <a:lnTo>
                    <a:pt x="0" y="104"/>
                  </a:lnTo>
                  <a:lnTo>
                    <a:pt x="0" y="89"/>
                  </a:lnTo>
                  <a:lnTo>
                    <a:pt x="1" y="75"/>
                  </a:lnTo>
                  <a:lnTo>
                    <a:pt x="3" y="61"/>
                  </a:lnTo>
                  <a:lnTo>
                    <a:pt x="7" y="49"/>
                  </a:lnTo>
                  <a:lnTo>
                    <a:pt x="11" y="36"/>
                  </a:lnTo>
                  <a:lnTo>
                    <a:pt x="18" y="24"/>
                  </a:lnTo>
                  <a:lnTo>
                    <a:pt x="25" y="13"/>
                  </a:lnTo>
                  <a:lnTo>
                    <a:pt x="36" y="4"/>
                  </a:lnTo>
                  <a:lnTo>
                    <a:pt x="78" y="0"/>
                  </a:lnTo>
                  <a:lnTo>
                    <a:pt x="66" y="28"/>
                  </a:lnTo>
                  <a:lnTo>
                    <a:pt x="58" y="59"/>
                  </a:lnTo>
                  <a:lnTo>
                    <a:pt x="54" y="90"/>
                  </a:lnTo>
                  <a:lnTo>
                    <a:pt x="58" y="122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672440" y="4767120"/>
              <a:ext cx="65160" cy="1548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0"/>
                  </a:moveTo>
                  <a:lnTo>
                    <a:pt x="34" y="4"/>
                  </a:lnTo>
                  <a:lnTo>
                    <a:pt x="31" y="5"/>
                  </a:lnTo>
                  <a:lnTo>
                    <a:pt x="27" y="7"/>
                  </a:lnTo>
                  <a:lnTo>
                    <a:pt x="24" y="8"/>
                  </a:lnTo>
                  <a:lnTo>
                    <a:pt x="18" y="7"/>
                  </a:lnTo>
                  <a:lnTo>
                    <a:pt x="10" y="7"/>
                  </a:lnTo>
                  <a:lnTo>
                    <a:pt x="3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657680" y="4797720"/>
              <a:ext cx="52920" cy="15480"/>
            </a:xfrm>
            <a:custGeom>
              <a:avLst/>
              <a:gdLst/>
              <a:ahLst/>
              <a:rect l="l" t="t" r="r" b="b"/>
              <a:pathLst>
                <a:path w="27" h="8">
                  <a:moveTo>
                    <a:pt x="27" y="0"/>
                  </a:moveTo>
                  <a:lnTo>
                    <a:pt x="27" y="5"/>
                  </a:lnTo>
                  <a:lnTo>
                    <a:pt x="23" y="8"/>
                  </a:lnTo>
                  <a:lnTo>
                    <a:pt x="17" y="8"/>
                  </a:lnTo>
                  <a:lnTo>
                    <a:pt x="11" y="8"/>
                  </a:lnTo>
                  <a:lnTo>
                    <a:pt x="0" y="8"/>
                  </a:lnTo>
                  <a:lnTo>
                    <a:pt x="3" y="1"/>
                  </a:lnTo>
                  <a:lnTo>
                    <a:pt x="11" y="0"/>
                  </a:lnTo>
                  <a:lnTo>
                    <a:pt x="19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645440" y="4832640"/>
              <a:ext cx="65160" cy="1908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33" y="1"/>
                  </a:moveTo>
                  <a:lnTo>
                    <a:pt x="29" y="8"/>
                  </a:lnTo>
                  <a:lnTo>
                    <a:pt x="21" y="9"/>
                  </a:lnTo>
                  <a:lnTo>
                    <a:pt x="10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1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95240" y="5001480"/>
              <a:ext cx="2398320" cy="57240"/>
            </a:xfrm>
            <a:custGeom>
              <a:avLst/>
              <a:gdLst/>
              <a:ahLst/>
              <a:rect l="l" t="t" r="r" b="b"/>
              <a:pathLst>
                <a:path w="1252" h="31">
                  <a:moveTo>
                    <a:pt x="1251" y="4"/>
                  </a:moveTo>
                  <a:lnTo>
                    <a:pt x="1252" y="11"/>
                  </a:lnTo>
                  <a:lnTo>
                    <a:pt x="1252" y="18"/>
                  </a:lnTo>
                  <a:lnTo>
                    <a:pt x="1250" y="25"/>
                  </a:lnTo>
                  <a:lnTo>
                    <a:pt x="1245" y="30"/>
                  </a:lnTo>
                  <a:lnTo>
                    <a:pt x="1242" y="30"/>
                  </a:lnTo>
                  <a:lnTo>
                    <a:pt x="1231" y="30"/>
                  </a:lnTo>
                  <a:lnTo>
                    <a:pt x="1214" y="30"/>
                  </a:lnTo>
                  <a:lnTo>
                    <a:pt x="1192" y="30"/>
                  </a:lnTo>
                  <a:lnTo>
                    <a:pt x="1163" y="30"/>
                  </a:lnTo>
                  <a:lnTo>
                    <a:pt x="1131" y="30"/>
                  </a:lnTo>
                  <a:lnTo>
                    <a:pt x="1093" y="30"/>
                  </a:lnTo>
                  <a:lnTo>
                    <a:pt x="1051" y="30"/>
                  </a:lnTo>
                  <a:lnTo>
                    <a:pt x="1005" y="30"/>
                  </a:lnTo>
                  <a:lnTo>
                    <a:pt x="957" y="30"/>
                  </a:lnTo>
                  <a:lnTo>
                    <a:pt x="905" y="30"/>
                  </a:lnTo>
                  <a:lnTo>
                    <a:pt x="852" y="30"/>
                  </a:lnTo>
                  <a:lnTo>
                    <a:pt x="797" y="30"/>
                  </a:lnTo>
                  <a:lnTo>
                    <a:pt x="739" y="30"/>
                  </a:lnTo>
                  <a:lnTo>
                    <a:pt x="681" y="30"/>
                  </a:lnTo>
                  <a:lnTo>
                    <a:pt x="624" y="30"/>
                  </a:lnTo>
                  <a:lnTo>
                    <a:pt x="565" y="31"/>
                  </a:lnTo>
                  <a:lnTo>
                    <a:pt x="507" y="31"/>
                  </a:lnTo>
                  <a:lnTo>
                    <a:pt x="451" y="31"/>
                  </a:lnTo>
                  <a:lnTo>
                    <a:pt x="396" y="31"/>
                  </a:lnTo>
                  <a:lnTo>
                    <a:pt x="341" y="31"/>
                  </a:lnTo>
                  <a:lnTo>
                    <a:pt x="291" y="31"/>
                  </a:lnTo>
                  <a:lnTo>
                    <a:pt x="241" y="31"/>
                  </a:lnTo>
                  <a:lnTo>
                    <a:pt x="196" y="31"/>
                  </a:lnTo>
                  <a:lnTo>
                    <a:pt x="155" y="31"/>
                  </a:lnTo>
                  <a:lnTo>
                    <a:pt x="117" y="31"/>
                  </a:lnTo>
                  <a:lnTo>
                    <a:pt x="83" y="31"/>
                  </a:lnTo>
                  <a:lnTo>
                    <a:pt x="56" y="31"/>
                  </a:lnTo>
                  <a:lnTo>
                    <a:pt x="33" y="31"/>
                  </a:lnTo>
                  <a:lnTo>
                    <a:pt x="15" y="31"/>
                  </a:lnTo>
                  <a:lnTo>
                    <a:pt x="5" y="31"/>
                  </a:lnTo>
                  <a:lnTo>
                    <a:pt x="2" y="31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5" y="2"/>
                  </a:lnTo>
                  <a:lnTo>
                    <a:pt x="8" y="2"/>
                  </a:lnTo>
                  <a:lnTo>
                    <a:pt x="19" y="2"/>
                  </a:lnTo>
                  <a:lnTo>
                    <a:pt x="36" y="2"/>
                  </a:lnTo>
                  <a:lnTo>
                    <a:pt x="58" y="2"/>
                  </a:lnTo>
                  <a:lnTo>
                    <a:pt x="86" y="2"/>
                  </a:lnTo>
                  <a:lnTo>
                    <a:pt x="119" y="1"/>
                  </a:lnTo>
                  <a:lnTo>
                    <a:pt x="157" y="1"/>
                  </a:lnTo>
                  <a:lnTo>
                    <a:pt x="199" y="1"/>
                  </a:lnTo>
                  <a:lnTo>
                    <a:pt x="244" y="1"/>
                  </a:lnTo>
                  <a:lnTo>
                    <a:pt x="292" y="1"/>
                  </a:lnTo>
                  <a:lnTo>
                    <a:pt x="344" y="1"/>
                  </a:lnTo>
                  <a:lnTo>
                    <a:pt x="397" y="1"/>
                  </a:lnTo>
                  <a:lnTo>
                    <a:pt x="452" y="0"/>
                  </a:lnTo>
                  <a:lnTo>
                    <a:pt x="509" y="0"/>
                  </a:lnTo>
                  <a:lnTo>
                    <a:pt x="566" y="0"/>
                  </a:lnTo>
                  <a:lnTo>
                    <a:pt x="625" y="0"/>
                  </a:lnTo>
                  <a:lnTo>
                    <a:pt x="683" y="0"/>
                  </a:lnTo>
                  <a:lnTo>
                    <a:pt x="740" y="0"/>
                  </a:lnTo>
                  <a:lnTo>
                    <a:pt x="797" y="0"/>
                  </a:lnTo>
                  <a:lnTo>
                    <a:pt x="852" y="0"/>
                  </a:lnTo>
                  <a:lnTo>
                    <a:pt x="906" y="0"/>
                  </a:lnTo>
                  <a:lnTo>
                    <a:pt x="958" y="0"/>
                  </a:lnTo>
                  <a:lnTo>
                    <a:pt x="1006" y="0"/>
                  </a:lnTo>
                  <a:lnTo>
                    <a:pt x="1053" y="0"/>
                  </a:lnTo>
                  <a:lnTo>
                    <a:pt x="1094" y="1"/>
                  </a:lnTo>
                  <a:lnTo>
                    <a:pt x="1132" y="1"/>
                  </a:lnTo>
                  <a:lnTo>
                    <a:pt x="1166" y="1"/>
                  </a:lnTo>
                  <a:lnTo>
                    <a:pt x="1194" y="2"/>
                  </a:lnTo>
                  <a:lnTo>
                    <a:pt x="1217" y="2"/>
                  </a:lnTo>
                  <a:lnTo>
                    <a:pt x="1236" y="3"/>
                  </a:lnTo>
                  <a:lnTo>
                    <a:pt x="1246" y="3"/>
                  </a:lnTo>
                  <a:lnTo>
                    <a:pt x="1251" y="4"/>
                  </a:lnTo>
                  <a:close/>
                </a:path>
              </a:pathLst>
            </a:custGeom>
            <a:solidFill>
              <a:srgbClr val="c6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571560" y="5101560"/>
              <a:ext cx="2259720" cy="372600"/>
            </a:xfrm>
            <a:custGeom>
              <a:avLst/>
              <a:gdLst/>
              <a:ahLst/>
              <a:rect l="l" t="t" r="r" b="b"/>
              <a:pathLst>
                <a:path w="1178" h="193">
                  <a:moveTo>
                    <a:pt x="1178" y="0"/>
                  </a:moveTo>
                  <a:lnTo>
                    <a:pt x="1175" y="24"/>
                  </a:lnTo>
                  <a:lnTo>
                    <a:pt x="1173" y="49"/>
                  </a:lnTo>
                  <a:lnTo>
                    <a:pt x="1170" y="73"/>
                  </a:lnTo>
                  <a:lnTo>
                    <a:pt x="1165" y="99"/>
                  </a:lnTo>
                  <a:lnTo>
                    <a:pt x="1160" y="123"/>
                  </a:lnTo>
                  <a:lnTo>
                    <a:pt x="1156" y="147"/>
                  </a:lnTo>
                  <a:lnTo>
                    <a:pt x="1149" y="170"/>
                  </a:lnTo>
                  <a:lnTo>
                    <a:pt x="1142" y="193"/>
                  </a:lnTo>
                  <a:lnTo>
                    <a:pt x="1138" y="193"/>
                  </a:lnTo>
                  <a:lnTo>
                    <a:pt x="1129" y="193"/>
                  </a:lnTo>
                  <a:lnTo>
                    <a:pt x="1115" y="193"/>
                  </a:lnTo>
                  <a:lnTo>
                    <a:pt x="1095" y="193"/>
                  </a:lnTo>
                  <a:lnTo>
                    <a:pt x="1071" y="193"/>
                  </a:lnTo>
                  <a:lnTo>
                    <a:pt x="1042" y="193"/>
                  </a:lnTo>
                  <a:lnTo>
                    <a:pt x="1008" y="193"/>
                  </a:lnTo>
                  <a:lnTo>
                    <a:pt x="971" y="193"/>
                  </a:lnTo>
                  <a:lnTo>
                    <a:pt x="932" y="193"/>
                  </a:lnTo>
                  <a:lnTo>
                    <a:pt x="890" y="193"/>
                  </a:lnTo>
                  <a:lnTo>
                    <a:pt x="845" y="193"/>
                  </a:lnTo>
                  <a:lnTo>
                    <a:pt x="797" y="193"/>
                  </a:lnTo>
                  <a:lnTo>
                    <a:pt x="749" y="193"/>
                  </a:lnTo>
                  <a:lnTo>
                    <a:pt x="698" y="193"/>
                  </a:lnTo>
                  <a:lnTo>
                    <a:pt x="648" y="193"/>
                  </a:lnTo>
                  <a:lnTo>
                    <a:pt x="597" y="193"/>
                  </a:lnTo>
                  <a:lnTo>
                    <a:pt x="546" y="193"/>
                  </a:lnTo>
                  <a:lnTo>
                    <a:pt x="495" y="193"/>
                  </a:lnTo>
                  <a:lnTo>
                    <a:pt x="445" y="193"/>
                  </a:lnTo>
                  <a:lnTo>
                    <a:pt x="396" y="193"/>
                  </a:lnTo>
                  <a:lnTo>
                    <a:pt x="349" y="193"/>
                  </a:lnTo>
                  <a:lnTo>
                    <a:pt x="304" y="193"/>
                  </a:lnTo>
                  <a:lnTo>
                    <a:pt x="260" y="193"/>
                  </a:lnTo>
                  <a:lnTo>
                    <a:pt x="221" y="193"/>
                  </a:lnTo>
                  <a:lnTo>
                    <a:pt x="183" y="193"/>
                  </a:lnTo>
                  <a:lnTo>
                    <a:pt x="150" y="192"/>
                  </a:lnTo>
                  <a:lnTo>
                    <a:pt x="121" y="192"/>
                  </a:lnTo>
                  <a:lnTo>
                    <a:pt x="96" y="192"/>
                  </a:lnTo>
                  <a:lnTo>
                    <a:pt x="75" y="192"/>
                  </a:lnTo>
                  <a:lnTo>
                    <a:pt x="60" y="192"/>
                  </a:lnTo>
                  <a:lnTo>
                    <a:pt x="49" y="192"/>
                  </a:lnTo>
                  <a:lnTo>
                    <a:pt x="46" y="192"/>
                  </a:lnTo>
                  <a:lnTo>
                    <a:pt x="0" y="3"/>
                  </a:lnTo>
                  <a:lnTo>
                    <a:pt x="1178" y="0"/>
                  </a:lnTo>
                  <a:close/>
                </a:path>
              </a:pathLst>
            </a:custGeom>
            <a:solidFill>
              <a:srgbClr val="c6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800" spc="-1" strike="noStrike">
                <a:solidFill>
                  <a:srgbClr val="000000"/>
                </a:solidFill>
                <a:latin typeface="Arial"/>
              </a:rPr>
              <a:t>www.php.ne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3E41-A072-4616-B2C0-A9D6BA3777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7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640560" y="2306520"/>
            <a:ext cx="641160" cy="630360"/>
            <a:chOff x="6640560" y="2306520"/>
            <a:chExt cx="641160" cy="630360"/>
          </a:xfrm>
        </p:grpSpPr>
        <p:sp>
          <p:nvSpPr>
            <p:cNvPr id="50" name=""/>
            <p:cNvSpPr/>
            <p:nvPr/>
          </p:nvSpPr>
          <p:spPr>
            <a:xfrm>
              <a:off x="6741720" y="2321640"/>
              <a:ext cx="351720" cy="3484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784560" y="2369880"/>
              <a:ext cx="244800" cy="2462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21280" y="2685600"/>
              <a:ext cx="216360" cy="4068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03280" y="2409480"/>
              <a:ext cx="88560" cy="7776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39720" y="2505600"/>
              <a:ext cx="55440" cy="73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5280" y="2803320"/>
              <a:ext cx="132120" cy="9360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45280" y="2820600"/>
              <a:ext cx="134640" cy="8172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47800" y="2857680"/>
              <a:ext cx="127800" cy="4464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8880" y="2826720"/>
              <a:ext cx="31680" cy="1908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46800" y="2838600"/>
              <a:ext cx="34920" cy="6084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40960" y="2802600"/>
              <a:ext cx="114480" cy="990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20160" y="2848320"/>
              <a:ext cx="32400" cy="4248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82360" y="2816280"/>
              <a:ext cx="50760" cy="3024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66880" y="2809800"/>
              <a:ext cx="33480" cy="828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15760" y="2863800"/>
              <a:ext cx="158040" cy="7308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48840" y="2775960"/>
              <a:ext cx="474480" cy="10224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42800" y="2716560"/>
              <a:ext cx="363600" cy="997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37480" y="2669400"/>
              <a:ext cx="197280" cy="439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93360" y="2383560"/>
              <a:ext cx="92160" cy="2944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22360" y="2623320"/>
              <a:ext cx="175680" cy="288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63680" y="2351520"/>
              <a:ext cx="271800" cy="2548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74640" y="2733120"/>
              <a:ext cx="116640" cy="4248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19280" y="2753280"/>
              <a:ext cx="57240" cy="259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44520" y="2849040"/>
              <a:ext cx="473040" cy="30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737040" y="2702160"/>
              <a:ext cx="374760" cy="302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92720" y="2705400"/>
              <a:ext cx="23760" cy="1148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71760" y="2736000"/>
              <a:ext cx="10800" cy="38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76080" y="2730960"/>
              <a:ext cx="117000" cy="97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2751840"/>
              <a:ext cx="65880" cy="190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14360" y="2763360"/>
              <a:ext cx="357840" cy="25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60720" y="2839680"/>
              <a:ext cx="326160" cy="1944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82280" y="2784600"/>
              <a:ext cx="43200" cy="644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02080" y="2855520"/>
              <a:ext cx="24840" cy="241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52440" y="2864520"/>
              <a:ext cx="457920" cy="183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38480" y="2787840"/>
              <a:ext cx="244080" cy="255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26240" y="2810880"/>
              <a:ext cx="177480" cy="187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17120" y="2805480"/>
              <a:ext cx="53640" cy="1008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29000" y="2819160"/>
              <a:ext cx="54000" cy="900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33680" y="2835000"/>
              <a:ext cx="62280" cy="1080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29840" y="2306520"/>
              <a:ext cx="333360" cy="9108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74720" y="2313720"/>
              <a:ext cx="34200" cy="514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52040" y="2358000"/>
              <a:ext cx="57600" cy="3027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36560" y="2333520"/>
              <a:ext cx="37080" cy="2743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29480" y="2404800"/>
              <a:ext cx="64080" cy="25560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00040" y="2662200"/>
              <a:ext cx="209520" cy="1296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14240" y="2662920"/>
              <a:ext cx="39600" cy="144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21280" y="2665440"/>
              <a:ext cx="32040" cy="4320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02920" y="2705400"/>
              <a:ext cx="15480" cy="1980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77880" y="2664720"/>
              <a:ext cx="46080" cy="280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30440" y="2685600"/>
              <a:ext cx="7560" cy="25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17320" y="2632680"/>
              <a:ext cx="9720" cy="2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18040" y="2619720"/>
              <a:ext cx="184680" cy="180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98040" y="2620440"/>
              <a:ext cx="7200" cy="241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59880" y="2630160"/>
              <a:ext cx="6840" cy="183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24960" y="262980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5000" y="2628720"/>
              <a:ext cx="7920" cy="194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50080" y="2630520"/>
              <a:ext cx="8640" cy="2052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51960" y="2370240"/>
              <a:ext cx="66240" cy="280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66920" y="2457720"/>
              <a:ext cx="53280" cy="1515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19480" y="2586960"/>
              <a:ext cx="190440" cy="277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97680" y="2362680"/>
              <a:ext cx="39240" cy="235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43440" y="2772360"/>
              <a:ext cx="66960" cy="7704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40560" y="2844360"/>
              <a:ext cx="19440" cy="2700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66560" y="2360520"/>
              <a:ext cx="260280" cy="7128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83480" y="2381400"/>
              <a:ext cx="106200" cy="11916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34880" y="2727360"/>
              <a:ext cx="9360" cy="3996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763640" y="3068640"/>
            <a:ext cx="1326960" cy="1303200"/>
            <a:chOff x="1763640" y="3068640"/>
            <a:chExt cx="1326960" cy="1303200"/>
          </a:xfrm>
        </p:grpSpPr>
        <p:sp>
          <p:nvSpPr>
            <p:cNvPr id="117" name=""/>
            <p:cNvSpPr/>
            <p:nvPr/>
          </p:nvSpPr>
          <p:spPr>
            <a:xfrm>
              <a:off x="1973160" y="3099960"/>
              <a:ext cx="728280" cy="7200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1720" y="3199680"/>
              <a:ext cx="507240" cy="5090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7680" y="3852360"/>
              <a:ext cx="447840" cy="8388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00960" y="3282120"/>
              <a:ext cx="183600" cy="1609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83200" y="3480480"/>
              <a:ext cx="114840" cy="1526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08720" y="4095720"/>
              <a:ext cx="273240" cy="19368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08720" y="4131000"/>
              <a:ext cx="279000" cy="16920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13760" y="4208400"/>
              <a:ext cx="264600" cy="9216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16280" y="4143600"/>
              <a:ext cx="65520" cy="3960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18240" y="4168440"/>
              <a:ext cx="72360" cy="12636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99000" y="4093920"/>
              <a:ext cx="236880" cy="2052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63160" y="4188600"/>
              <a:ext cx="67320" cy="8820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85040" y="4122360"/>
              <a:ext cx="105120" cy="6300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53360" y="4109040"/>
              <a:ext cx="69480" cy="1692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7160" y="4220280"/>
              <a:ext cx="327240" cy="15156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81280" y="4038840"/>
              <a:ext cx="982440" cy="2113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5320" y="3916440"/>
              <a:ext cx="752400" cy="20628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1160" y="3818880"/>
              <a:ext cx="408600" cy="907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94080" y="3228120"/>
              <a:ext cx="190800" cy="60876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40200" y="3723840"/>
              <a:ext cx="363600" cy="597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18880" y="3161880"/>
              <a:ext cx="562680" cy="5266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55560" y="3950640"/>
              <a:ext cx="241920" cy="882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47720" y="3992040"/>
              <a:ext cx="118440" cy="536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72280" y="4190040"/>
              <a:ext cx="979200" cy="63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63800" y="3886560"/>
              <a:ext cx="775800" cy="622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9280" y="3893040"/>
              <a:ext cx="48960" cy="237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49080" y="3956760"/>
              <a:ext cx="22680" cy="79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58440" y="3945960"/>
              <a:ext cx="242280" cy="2016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42680" y="3989160"/>
              <a:ext cx="136800" cy="3960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16640" y="4012920"/>
              <a:ext cx="740880" cy="52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05760" y="4170960"/>
              <a:ext cx="675360" cy="4032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77680" y="4057200"/>
              <a:ext cx="89640" cy="1332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18720" y="4203360"/>
              <a:ext cx="51480" cy="504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88120" y="4222080"/>
              <a:ext cx="947520" cy="3852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66320" y="4063680"/>
              <a:ext cx="505440" cy="5292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1120" y="4111560"/>
              <a:ext cx="367560" cy="3924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43040" y="4100040"/>
              <a:ext cx="110880" cy="2124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7880" y="4128480"/>
              <a:ext cx="112320" cy="187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77240" y="4161240"/>
              <a:ext cx="129240" cy="2268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48680" y="3068640"/>
              <a:ext cx="689760" cy="1879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61840" y="3083400"/>
              <a:ext cx="70560" cy="10656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15400" y="3175200"/>
              <a:ext cx="119160" cy="6260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83720" y="3124800"/>
              <a:ext cx="77040" cy="56736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47960" y="3272040"/>
              <a:ext cx="132480" cy="52884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94120" y="3803760"/>
              <a:ext cx="433800" cy="2700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36920" y="3805200"/>
              <a:ext cx="82080" cy="2952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37680" y="3810960"/>
              <a:ext cx="66240" cy="896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99520" y="3893040"/>
              <a:ext cx="32040" cy="410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61680" y="3808800"/>
              <a:ext cx="95760" cy="586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71120" y="3852360"/>
              <a:ext cx="15480" cy="52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29400" y="3743280"/>
              <a:ext cx="20520" cy="439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1200" y="3715920"/>
              <a:ext cx="382680" cy="378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3440" y="3718080"/>
              <a:ext cx="15120" cy="504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24600" y="3737520"/>
              <a:ext cx="14400" cy="3852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52240" y="3736800"/>
              <a:ext cx="18000" cy="3852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69800" y="3734280"/>
              <a:ext cx="16920" cy="4032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97440" y="3738600"/>
              <a:ext cx="18000" cy="428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08760" y="3200400"/>
              <a:ext cx="137520" cy="586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25000" y="3381120"/>
              <a:ext cx="110520" cy="31320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34440" y="3648600"/>
              <a:ext cx="394200" cy="5796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02720" y="3185280"/>
              <a:ext cx="81360" cy="487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69760" y="4032000"/>
              <a:ext cx="138960" cy="15912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63640" y="4180320"/>
              <a:ext cx="40320" cy="5616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24640" y="3180240"/>
              <a:ext cx="538560" cy="1476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59920" y="3223800"/>
              <a:ext cx="219600" cy="2462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58760" y="3938400"/>
              <a:ext cx="19440" cy="8280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640560" y="3144960"/>
            <a:ext cx="641160" cy="630000"/>
            <a:chOff x="6640560" y="3144960"/>
            <a:chExt cx="641160" cy="630000"/>
          </a:xfrm>
        </p:grpSpPr>
        <p:sp>
          <p:nvSpPr>
            <p:cNvPr id="184" name=""/>
            <p:cNvSpPr/>
            <p:nvPr/>
          </p:nvSpPr>
          <p:spPr>
            <a:xfrm>
              <a:off x="6741720" y="3160080"/>
              <a:ext cx="351720" cy="34812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84560" y="3208320"/>
              <a:ext cx="244800" cy="2462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21280" y="3524040"/>
              <a:ext cx="216360" cy="4032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03280" y="3247920"/>
              <a:ext cx="88560" cy="7776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9720" y="3344040"/>
              <a:ext cx="55440" cy="73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45280" y="3641400"/>
              <a:ext cx="132120" cy="9360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45280" y="3658680"/>
              <a:ext cx="134640" cy="8172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47800" y="3696120"/>
              <a:ext cx="127800" cy="4428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48880" y="3664800"/>
              <a:ext cx="31680" cy="1908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46800" y="3676680"/>
              <a:ext cx="34920" cy="6084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40960" y="3640680"/>
              <a:ext cx="114480" cy="990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20160" y="3686400"/>
              <a:ext cx="32400" cy="4248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82360" y="3654360"/>
              <a:ext cx="50760" cy="3024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66880" y="3647880"/>
              <a:ext cx="33480" cy="828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15760" y="3701880"/>
              <a:ext cx="158040" cy="7308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48840" y="3614040"/>
              <a:ext cx="474480" cy="10224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42800" y="3554640"/>
              <a:ext cx="363600" cy="997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37480" y="3507840"/>
              <a:ext cx="197280" cy="439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93360" y="3222000"/>
              <a:ext cx="92160" cy="2944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22360" y="3461760"/>
              <a:ext cx="175680" cy="288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63680" y="3189960"/>
              <a:ext cx="271800" cy="25452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74640" y="3571200"/>
              <a:ext cx="116640" cy="4248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19280" y="3591360"/>
              <a:ext cx="57240" cy="259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44520" y="3687120"/>
              <a:ext cx="473040" cy="30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37040" y="3540240"/>
              <a:ext cx="374760" cy="302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92720" y="3543480"/>
              <a:ext cx="23760" cy="1148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71760" y="3574440"/>
              <a:ext cx="10800" cy="38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76080" y="3569040"/>
              <a:ext cx="117000" cy="97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16760" y="3589920"/>
              <a:ext cx="65880" cy="190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14360" y="3601440"/>
              <a:ext cx="357840" cy="25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60720" y="3677760"/>
              <a:ext cx="326160" cy="1944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82280" y="3623040"/>
              <a:ext cx="43200" cy="6408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02080" y="3693600"/>
              <a:ext cx="24840" cy="241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52440" y="3702600"/>
              <a:ext cx="457920" cy="183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38480" y="3625920"/>
              <a:ext cx="244080" cy="255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26240" y="3649320"/>
              <a:ext cx="177480" cy="187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7120" y="3643560"/>
              <a:ext cx="53640" cy="1008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29000" y="3657600"/>
              <a:ext cx="54000" cy="900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33680" y="3673440"/>
              <a:ext cx="62280" cy="1080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29840" y="3144960"/>
              <a:ext cx="333360" cy="907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74720" y="3152160"/>
              <a:ext cx="34200" cy="514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52040" y="3196440"/>
              <a:ext cx="57600" cy="3027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36560" y="3171960"/>
              <a:ext cx="37080" cy="2743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9480" y="3243240"/>
              <a:ext cx="64080" cy="25560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0040" y="3500280"/>
              <a:ext cx="209520" cy="1296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14240" y="3501000"/>
              <a:ext cx="39600" cy="144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21280" y="3503880"/>
              <a:ext cx="32040" cy="4320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02920" y="3543480"/>
              <a:ext cx="15480" cy="1980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77880" y="3502800"/>
              <a:ext cx="46080" cy="280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30440" y="3524040"/>
              <a:ext cx="7560" cy="25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17320" y="3471120"/>
              <a:ext cx="9720" cy="2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8040" y="3457800"/>
              <a:ext cx="184680" cy="180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98040" y="3458880"/>
              <a:ext cx="7200" cy="241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59880" y="3468240"/>
              <a:ext cx="6840" cy="183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24960" y="346788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85000" y="3466800"/>
              <a:ext cx="7920" cy="194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50080" y="3468960"/>
              <a:ext cx="8640" cy="2052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51960" y="3208680"/>
              <a:ext cx="66240" cy="280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66920" y="3295800"/>
              <a:ext cx="53280" cy="1515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19480" y="3425400"/>
              <a:ext cx="190440" cy="277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97680" y="3201120"/>
              <a:ext cx="39240" cy="235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43440" y="3610800"/>
              <a:ext cx="66960" cy="7704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40560" y="3682440"/>
              <a:ext cx="19440" cy="2700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66560" y="3198960"/>
              <a:ext cx="260280" cy="7128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83480" y="3219840"/>
              <a:ext cx="106200" cy="11916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34880" y="3565440"/>
              <a:ext cx="9360" cy="3996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640560" y="3983040"/>
            <a:ext cx="641160" cy="630360"/>
            <a:chOff x="6640560" y="3983040"/>
            <a:chExt cx="641160" cy="630360"/>
          </a:xfrm>
        </p:grpSpPr>
        <p:sp>
          <p:nvSpPr>
            <p:cNvPr id="251" name=""/>
            <p:cNvSpPr/>
            <p:nvPr/>
          </p:nvSpPr>
          <p:spPr>
            <a:xfrm>
              <a:off x="6741720" y="3998160"/>
              <a:ext cx="351720" cy="3484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84560" y="4046400"/>
              <a:ext cx="244800" cy="2462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21280" y="4362120"/>
              <a:ext cx="216360" cy="4068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03280" y="4086000"/>
              <a:ext cx="88560" cy="7776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39720" y="4182120"/>
              <a:ext cx="55440" cy="73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45280" y="4479840"/>
              <a:ext cx="132120" cy="9360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45280" y="4497120"/>
              <a:ext cx="134640" cy="8172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47800" y="4534200"/>
              <a:ext cx="127800" cy="4464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48880" y="4503240"/>
              <a:ext cx="31680" cy="1908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46800" y="4515120"/>
              <a:ext cx="34920" cy="6084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40960" y="4479120"/>
              <a:ext cx="114480" cy="990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20160" y="4524840"/>
              <a:ext cx="32400" cy="4248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82360" y="4492800"/>
              <a:ext cx="50760" cy="3024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66880" y="4486320"/>
              <a:ext cx="33480" cy="828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15760" y="4540320"/>
              <a:ext cx="158040" cy="7308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48840" y="4452480"/>
              <a:ext cx="474480" cy="10224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42800" y="4393080"/>
              <a:ext cx="363600" cy="997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37480" y="4345920"/>
              <a:ext cx="197280" cy="439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93360" y="4060080"/>
              <a:ext cx="92160" cy="2944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22360" y="4299840"/>
              <a:ext cx="175680" cy="288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63680" y="4028040"/>
              <a:ext cx="271800" cy="2548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74640" y="4409640"/>
              <a:ext cx="116640" cy="4248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19280" y="4429800"/>
              <a:ext cx="57240" cy="259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44520" y="4525560"/>
              <a:ext cx="473040" cy="30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37040" y="4378680"/>
              <a:ext cx="374760" cy="302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92720" y="4381920"/>
              <a:ext cx="23760" cy="1148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71760" y="4412520"/>
              <a:ext cx="10800" cy="38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76080" y="4407480"/>
              <a:ext cx="117000" cy="97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16760" y="4428360"/>
              <a:ext cx="65880" cy="190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14360" y="4439880"/>
              <a:ext cx="357840" cy="25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60720" y="4516200"/>
              <a:ext cx="326160" cy="1944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82280" y="4461120"/>
              <a:ext cx="43200" cy="644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02080" y="4532040"/>
              <a:ext cx="24840" cy="241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52440" y="4541040"/>
              <a:ext cx="457920" cy="183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38480" y="4464360"/>
              <a:ext cx="244080" cy="255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26240" y="4487400"/>
              <a:ext cx="177480" cy="187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17120" y="4482000"/>
              <a:ext cx="53640" cy="1008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29000" y="4495680"/>
              <a:ext cx="54000" cy="900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33680" y="4511520"/>
              <a:ext cx="62280" cy="1080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29840" y="3983040"/>
              <a:ext cx="333360" cy="9108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74720" y="3990240"/>
              <a:ext cx="34200" cy="514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2040" y="4034520"/>
              <a:ext cx="57600" cy="3027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36560" y="4010040"/>
              <a:ext cx="37080" cy="2743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29480" y="4081320"/>
              <a:ext cx="64080" cy="25560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00040" y="4338720"/>
              <a:ext cx="209520" cy="1296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14240" y="4339440"/>
              <a:ext cx="39600" cy="144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21280" y="4341960"/>
              <a:ext cx="32040" cy="4320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02920" y="4381920"/>
              <a:ext cx="15480" cy="1980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77880" y="4341240"/>
              <a:ext cx="46080" cy="280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0440" y="4362120"/>
              <a:ext cx="7560" cy="25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17320" y="4309200"/>
              <a:ext cx="9720" cy="2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18040" y="4296240"/>
              <a:ext cx="184680" cy="180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98040" y="4296960"/>
              <a:ext cx="7200" cy="241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59880" y="4306680"/>
              <a:ext cx="6840" cy="183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24960" y="430632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85000" y="4305240"/>
              <a:ext cx="7920" cy="194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50080" y="4307040"/>
              <a:ext cx="8640" cy="2052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51960" y="4046760"/>
              <a:ext cx="66240" cy="280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66920" y="4134240"/>
              <a:ext cx="53280" cy="1515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19480" y="4263480"/>
              <a:ext cx="190440" cy="277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97680" y="4039200"/>
              <a:ext cx="39240" cy="235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43440" y="4448880"/>
              <a:ext cx="66960" cy="7704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40560" y="4520880"/>
              <a:ext cx="19440" cy="2700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766560" y="4037040"/>
              <a:ext cx="260280" cy="7128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83480" y="4057920"/>
              <a:ext cx="106200" cy="11916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34880" y="4403880"/>
              <a:ext cx="9360" cy="3996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6338160" y="46753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13160" y="43704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"/>
          <p:cNvCxnSpPr>
            <a:stCxn id="108" idx="0"/>
            <a:endCxn id="148" idx="0"/>
          </p:cNvCxnSpPr>
          <p:nvPr/>
        </p:nvCxnSpPr>
        <p:spPr>
          <a:xfrm rot="5400000">
            <a:off x="3985560" y="1252080"/>
            <a:ext cx="1508760" cy="4109400"/>
          </a:xfrm>
          <a:prstGeom prst="curvedConnector5">
            <a:avLst>
              <a:gd name="adj1" fmla="val 51789"/>
              <a:gd name="adj2" fmla="val 50000"/>
              <a:gd name="adj3" fmla="val 51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131" idx="0"/>
            <a:endCxn id="112" idx="0"/>
          </p:cNvCxnSpPr>
          <p:nvPr/>
        </p:nvCxnSpPr>
        <p:spPr>
          <a:xfrm flipV="1">
            <a:off x="3063600" y="2871360"/>
            <a:ext cx="3594600" cy="137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3823560" y="30733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32680" y="4064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268-0968-4CE2-A5F1-458940DA83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684920" y="2209680"/>
            <a:ext cx="641520" cy="630360"/>
            <a:chOff x="7684920" y="2209680"/>
            <a:chExt cx="641520" cy="630360"/>
          </a:xfrm>
        </p:grpSpPr>
        <p:sp>
          <p:nvSpPr>
            <p:cNvPr id="325" name=""/>
            <p:cNvSpPr/>
            <p:nvPr/>
          </p:nvSpPr>
          <p:spPr>
            <a:xfrm>
              <a:off x="7786080" y="2224800"/>
              <a:ext cx="352080" cy="3484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28920" y="2273040"/>
              <a:ext cx="245160" cy="2462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65640" y="2588760"/>
              <a:ext cx="216360" cy="4068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848000" y="2312640"/>
              <a:ext cx="88560" cy="7776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84440" y="2408760"/>
              <a:ext cx="55440" cy="73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190000" y="2706480"/>
              <a:ext cx="132120" cy="9360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190000" y="2723760"/>
              <a:ext cx="135000" cy="8172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92520" y="2760840"/>
              <a:ext cx="127800" cy="4464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93600" y="2729880"/>
              <a:ext cx="31680" cy="1908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91520" y="2741760"/>
              <a:ext cx="34920" cy="6084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85320" y="2705760"/>
              <a:ext cx="114480" cy="990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64880" y="2751480"/>
              <a:ext cx="32400" cy="4248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27080" y="2719440"/>
              <a:ext cx="50760" cy="3024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11600" y="2712960"/>
              <a:ext cx="33480" cy="828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160480" y="2766960"/>
              <a:ext cx="158040" cy="7308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93200" y="2679120"/>
              <a:ext cx="474840" cy="10224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87160" y="2619720"/>
              <a:ext cx="363600" cy="997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81840" y="2572560"/>
              <a:ext cx="197280" cy="439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37720" y="2286720"/>
              <a:ext cx="92160" cy="2944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66720" y="2526480"/>
              <a:ext cx="175680" cy="288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08040" y="2254680"/>
              <a:ext cx="272160" cy="2548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19360" y="2636280"/>
              <a:ext cx="117000" cy="4248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64000" y="2656440"/>
              <a:ext cx="57240" cy="259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88880" y="2752200"/>
              <a:ext cx="473400" cy="30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81760" y="2605320"/>
              <a:ext cx="374760" cy="302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137080" y="2608560"/>
              <a:ext cx="23760" cy="1148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16120" y="2639160"/>
              <a:ext cx="10800" cy="38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20800" y="2634120"/>
              <a:ext cx="117000" cy="97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061480" y="2655000"/>
              <a:ext cx="65880" cy="190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758720" y="2666520"/>
              <a:ext cx="358200" cy="25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05080" y="2742840"/>
              <a:ext cx="326520" cy="1944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26640" y="2687760"/>
              <a:ext cx="43200" cy="644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46800" y="2758680"/>
              <a:ext cx="24840" cy="241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96800" y="2767680"/>
              <a:ext cx="457920" cy="183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82840" y="2691000"/>
              <a:ext cx="244080" cy="255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70600" y="2714040"/>
              <a:ext cx="177480" cy="187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061840" y="2708640"/>
              <a:ext cx="53640" cy="1008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73720" y="2722320"/>
              <a:ext cx="54360" cy="900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078040" y="2738160"/>
              <a:ext cx="62280" cy="1080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774200" y="2209680"/>
              <a:ext cx="333360" cy="9108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19080" y="2216880"/>
              <a:ext cx="34200" cy="514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96400" y="2261160"/>
              <a:ext cx="57600" cy="3027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081280" y="2236680"/>
              <a:ext cx="37080" cy="2743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3840" y="2307960"/>
              <a:ext cx="64080" cy="25560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44400" y="2565360"/>
              <a:ext cx="209520" cy="1296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58600" y="2566080"/>
              <a:ext cx="39600" cy="144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865640" y="2568600"/>
              <a:ext cx="32040" cy="4320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47280" y="2608560"/>
              <a:ext cx="15480" cy="1980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22240" y="2567880"/>
              <a:ext cx="46080" cy="280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75160" y="2588760"/>
              <a:ext cx="7560" cy="25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61680" y="2535840"/>
              <a:ext cx="9720" cy="2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62400" y="2522880"/>
              <a:ext cx="185040" cy="180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42400" y="2523600"/>
              <a:ext cx="7200" cy="241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04240" y="2533320"/>
              <a:ext cx="6840" cy="183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69320" y="253296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29360" y="2531880"/>
              <a:ext cx="7920" cy="194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894800" y="2533680"/>
              <a:ext cx="8640" cy="2052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96680" y="2273400"/>
              <a:ext cx="66240" cy="280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11280" y="2360880"/>
              <a:ext cx="53280" cy="1515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864200" y="2490120"/>
              <a:ext cx="190440" cy="277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42040" y="2265840"/>
              <a:ext cx="39240" cy="235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87800" y="2675520"/>
              <a:ext cx="66960" cy="7704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84920" y="2747520"/>
              <a:ext cx="19440" cy="2700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810920" y="2263680"/>
              <a:ext cx="260280" cy="7128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28200" y="2284560"/>
              <a:ext cx="106200" cy="11916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79240" y="2630520"/>
              <a:ext cx="9360" cy="3996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522360" y="3048120"/>
            <a:ext cx="1293840" cy="1293840"/>
          </a:xfrm>
          <a:prstGeom prst="rect">
            <a:avLst/>
          </a:prstGeom>
          <a:ln w="0">
            <a:noFill/>
          </a:ln>
        </p:spPr>
      </p:pic>
      <p:grpSp>
        <p:nvGrpSpPr>
          <p:cNvPr id="392" name=""/>
          <p:cNvGrpSpPr/>
          <p:nvPr/>
        </p:nvGrpSpPr>
        <p:grpSpPr>
          <a:xfrm>
            <a:off x="2808360" y="2971800"/>
            <a:ext cx="1326600" cy="1303200"/>
            <a:chOff x="2808360" y="2971800"/>
            <a:chExt cx="1326600" cy="1303200"/>
          </a:xfrm>
        </p:grpSpPr>
        <p:sp>
          <p:nvSpPr>
            <p:cNvPr id="393" name=""/>
            <p:cNvSpPr/>
            <p:nvPr/>
          </p:nvSpPr>
          <p:spPr>
            <a:xfrm>
              <a:off x="3017880" y="3003120"/>
              <a:ext cx="728280" cy="7200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06440" y="3102840"/>
              <a:ext cx="506880" cy="5090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82040" y="3755520"/>
              <a:ext cx="447480" cy="8388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45680" y="3185280"/>
              <a:ext cx="183600" cy="1609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27920" y="3383640"/>
              <a:ext cx="114840" cy="1526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53080" y="3998880"/>
              <a:ext cx="273240" cy="19368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53080" y="4034160"/>
              <a:ext cx="279000" cy="16920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58120" y="4111560"/>
              <a:ext cx="264600" cy="9216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60640" y="4046760"/>
              <a:ext cx="65520" cy="3960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62600" y="4071600"/>
              <a:ext cx="72360" cy="12636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43720" y="3997080"/>
              <a:ext cx="236880" cy="2052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07880" y="4091760"/>
              <a:ext cx="67320" cy="8820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29400" y="4025520"/>
              <a:ext cx="105120" cy="6300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97720" y="4012200"/>
              <a:ext cx="69120" cy="1692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91880" y="4123440"/>
              <a:ext cx="327240" cy="15156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26000" y="3942000"/>
              <a:ext cx="982080" cy="2113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20040" y="3819600"/>
              <a:ext cx="752040" cy="20628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15880" y="3722040"/>
              <a:ext cx="408600" cy="907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38440" y="3131280"/>
              <a:ext cx="190800" cy="60876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4920" y="3627000"/>
              <a:ext cx="363600" cy="597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63600" y="3065040"/>
              <a:ext cx="562680" cy="5266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99920" y="3853800"/>
              <a:ext cx="241920" cy="882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92080" y="3895200"/>
              <a:ext cx="118440" cy="536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817000" y="4093200"/>
              <a:ext cx="978840" cy="63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08520" y="3789720"/>
              <a:ext cx="775440" cy="622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43640" y="3796200"/>
              <a:ext cx="48960" cy="237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93440" y="3859920"/>
              <a:ext cx="22680" cy="79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03160" y="3849120"/>
              <a:ext cx="242280" cy="2016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87040" y="3892320"/>
              <a:ext cx="136800" cy="3960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961000" y="3916080"/>
              <a:ext cx="740520" cy="52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50480" y="4074120"/>
              <a:ext cx="675000" cy="4032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22400" y="3960360"/>
              <a:ext cx="89640" cy="1332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63440" y="4106520"/>
              <a:ext cx="51480" cy="504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32840" y="4125240"/>
              <a:ext cx="947520" cy="3852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11040" y="3966840"/>
              <a:ext cx="505080" cy="5292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985840" y="4014720"/>
              <a:ext cx="367560" cy="3924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7760" y="4003200"/>
              <a:ext cx="110880" cy="2124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12240" y="4031640"/>
              <a:ext cx="112320" cy="187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21960" y="4064400"/>
              <a:ext cx="129240" cy="2268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93400" y="2971800"/>
              <a:ext cx="689760" cy="1879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06560" y="2986560"/>
              <a:ext cx="70560" cy="10656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59760" y="3078360"/>
              <a:ext cx="119160" cy="6260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28080" y="3027960"/>
              <a:ext cx="77040" cy="56736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92680" y="3175200"/>
              <a:ext cx="132480" cy="52884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38480" y="3706920"/>
              <a:ext cx="433800" cy="2700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1280" y="3708360"/>
              <a:ext cx="82080" cy="2952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82040" y="3714120"/>
              <a:ext cx="66240" cy="896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44240" y="3796200"/>
              <a:ext cx="32040" cy="410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06040" y="3711960"/>
              <a:ext cx="95760" cy="586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15480" y="3755520"/>
              <a:ext cx="15480" cy="52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74120" y="3646440"/>
              <a:ext cx="20520" cy="439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75920" y="3619080"/>
              <a:ext cx="382680" cy="378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47800" y="3621240"/>
              <a:ext cx="15120" cy="504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68960" y="3640680"/>
              <a:ext cx="14400" cy="3852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96960" y="3639960"/>
              <a:ext cx="18000" cy="3852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14160" y="3637440"/>
              <a:ext cx="16920" cy="4032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42160" y="3641760"/>
              <a:ext cx="18000" cy="428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53120" y="3103560"/>
              <a:ext cx="137520" cy="586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69720" y="3284280"/>
              <a:ext cx="110520" cy="31320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79160" y="3551760"/>
              <a:ext cx="394200" cy="5796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547440" y="3088440"/>
              <a:ext cx="81360" cy="487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14480" y="3935160"/>
              <a:ext cx="138960" cy="15912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08360" y="4083480"/>
              <a:ext cx="40320" cy="5616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69000" y="3083400"/>
              <a:ext cx="538560" cy="1476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04640" y="3126960"/>
              <a:ext cx="219600" cy="2462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03480" y="3841560"/>
              <a:ext cx="19440" cy="8280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7684920" y="3048120"/>
            <a:ext cx="641520" cy="630000"/>
            <a:chOff x="7684920" y="3048120"/>
            <a:chExt cx="641520" cy="630000"/>
          </a:xfrm>
        </p:grpSpPr>
        <p:sp>
          <p:nvSpPr>
            <p:cNvPr id="460" name=""/>
            <p:cNvSpPr/>
            <p:nvPr/>
          </p:nvSpPr>
          <p:spPr>
            <a:xfrm>
              <a:off x="7786080" y="3063240"/>
              <a:ext cx="352080" cy="34812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828920" y="3111480"/>
              <a:ext cx="245160" cy="2462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65640" y="3427200"/>
              <a:ext cx="216360" cy="4032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48000" y="3151080"/>
              <a:ext cx="88560" cy="7776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84440" y="3247200"/>
              <a:ext cx="55440" cy="73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90000" y="3544560"/>
              <a:ext cx="132120" cy="9360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190000" y="3561840"/>
              <a:ext cx="135000" cy="8172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92520" y="3599280"/>
              <a:ext cx="127800" cy="4428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193600" y="3567960"/>
              <a:ext cx="31680" cy="1908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291520" y="3579840"/>
              <a:ext cx="34920" cy="6084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85320" y="3543840"/>
              <a:ext cx="114480" cy="990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264880" y="3589560"/>
              <a:ext cx="32400" cy="4248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27080" y="3557520"/>
              <a:ext cx="50760" cy="3024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11600" y="3551040"/>
              <a:ext cx="33480" cy="828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160480" y="3605040"/>
              <a:ext cx="158040" cy="7308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93200" y="3517200"/>
              <a:ext cx="474840" cy="10224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787160" y="3457800"/>
              <a:ext cx="363600" cy="997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81840" y="3411000"/>
              <a:ext cx="197280" cy="439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037720" y="3125160"/>
              <a:ext cx="92160" cy="2944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866720" y="3364920"/>
              <a:ext cx="175680" cy="288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08040" y="3093120"/>
              <a:ext cx="272160" cy="25452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9360" y="3474360"/>
              <a:ext cx="117000" cy="4248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64000" y="3494520"/>
              <a:ext cx="57240" cy="259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88880" y="3590280"/>
              <a:ext cx="473400" cy="30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81760" y="3443400"/>
              <a:ext cx="374760" cy="302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37080" y="3446640"/>
              <a:ext cx="23760" cy="1148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016120" y="3477600"/>
              <a:ext cx="10800" cy="38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20800" y="3472200"/>
              <a:ext cx="117000" cy="97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061480" y="3493080"/>
              <a:ext cx="65880" cy="190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758720" y="3504600"/>
              <a:ext cx="358200" cy="25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05080" y="3580920"/>
              <a:ext cx="326520" cy="1944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26640" y="3526200"/>
              <a:ext cx="43200" cy="6408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46800" y="3596760"/>
              <a:ext cx="24840" cy="241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96800" y="3605760"/>
              <a:ext cx="457920" cy="183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82840" y="3529080"/>
              <a:ext cx="244080" cy="255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70600" y="3552480"/>
              <a:ext cx="177480" cy="187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61840" y="3546720"/>
              <a:ext cx="53640" cy="1008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073720" y="3560760"/>
              <a:ext cx="54360" cy="900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78040" y="3576600"/>
              <a:ext cx="62280" cy="1080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74200" y="3048120"/>
              <a:ext cx="333360" cy="907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119080" y="3055320"/>
              <a:ext cx="34200" cy="514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096400" y="3099600"/>
              <a:ext cx="57600" cy="3027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081280" y="3075120"/>
              <a:ext cx="37080" cy="2743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73840" y="3146400"/>
              <a:ext cx="64080" cy="25560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844400" y="3403440"/>
              <a:ext cx="209520" cy="1296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058600" y="3404160"/>
              <a:ext cx="39600" cy="144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865640" y="3407040"/>
              <a:ext cx="32040" cy="4320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847280" y="3446640"/>
              <a:ext cx="15480" cy="1980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022240" y="3405960"/>
              <a:ext cx="46080" cy="280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075160" y="3427200"/>
              <a:ext cx="7560" cy="25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861680" y="3374280"/>
              <a:ext cx="9720" cy="2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62400" y="3360960"/>
              <a:ext cx="185040" cy="180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42400" y="3362040"/>
              <a:ext cx="7200" cy="241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004240" y="3371400"/>
              <a:ext cx="6840" cy="183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69320" y="3371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929360" y="3369960"/>
              <a:ext cx="7920" cy="194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894800" y="3372120"/>
              <a:ext cx="8640" cy="2052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96680" y="3111840"/>
              <a:ext cx="66240" cy="280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11280" y="3198960"/>
              <a:ext cx="53280" cy="1515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864200" y="3328560"/>
              <a:ext cx="190440" cy="277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042040" y="3104280"/>
              <a:ext cx="39240" cy="235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87800" y="3513960"/>
              <a:ext cx="66960" cy="7704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684920" y="3585600"/>
              <a:ext cx="19440" cy="2700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10920" y="3102120"/>
              <a:ext cx="260280" cy="7128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28200" y="3123000"/>
              <a:ext cx="106200" cy="11916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79240" y="3468600"/>
              <a:ext cx="9360" cy="3996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7684920" y="3886200"/>
            <a:ext cx="641520" cy="630360"/>
            <a:chOff x="7684920" y="3886200"/>
            <a:chExt cx="641520" cy="630360"/>
          </a:xfrm>
        </p:grpSpPr>
        <p:sp>
          <p:nvSpPr>
            <p:cNvPr id="527" name=""/>
            <p:cNvSpPr/>
            <p:nvPr/>
          </p:nvSpPr>
          <p:spPr>
            <a:xfrm>
              <a:off x="7786080" y="3901320"/>
              <a:ext cx="352080" cy="3484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828920" y="3949560"/>
              <a:ext cx="245160" cy="2462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65640" y="4265280"/>
              <a:ext cx="216360" cy="4068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848000" y="3989160"/>
              <a:ext cx="88560" cy="7776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84440" y="4085280"/>
              <a:ext cx="55440" cy="73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190000" y="4383000"/>
              <a:ext cx="132120" cy="9360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190000" y="4400280"/>
              <a:ext cx="135000" cy="8172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192520" y="4437360"/>
              <a:ext cx="127800" cy="4464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93600" y="4406400"/>
              <a:ext cx="31680" cy="1908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291520" y="4418280"/>
              <a:ext cx="34920" cy="6084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185320" y="4382280"/>
              <a:ext cx="114480" cy="990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264880" y="4428000"/>
              <a:ext cx="32400" cy="4248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27080" y="4395960"/>
              <a:ext cx="50760" cy="3024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11600" y="4389480"/>
              <a:ext cx="33480" cy="828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160480" y="4443480"/>
              <a:ext cx="158040" cy="7308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93200" y="4355640"/>
              <a:ext cx="474840" cy="10224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87160" y="4296240"/>
              <a:ext cx="363600" cy="997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81840" y="4249080"/>
              <a:ext cx="197280" cy="439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37720" y="3963240"/>
              <a:ext cx="92160" cy="2944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866720" y="4203000"/>
              <a:ext cx="175680" cy="288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808040" y="3931200"/>
              <a:ext cx="272160" cy="2548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019360" y="4312800"/>
              <a:ext cx="117000" cy="4248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64000" y="4332960"/>
              <a:ext cx="57240" cy="259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88880" y="4428720"/>
              <a:ext cx="473400" cy="30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81760" y="4281840"/>
              <a:ext cx="374760" cy="302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137080" y="4285080"/>
              <a:ext cx="23760" cy="1148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16120" y="4315680"/>
              <a:ext cx="10800" cy="38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20800" y="4310640"/>
              <a:ext cx="117000" cy="97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061480" y="4331520"/>
              <a:ext cx="65880" cy="190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758720" y="4343040"/>
              <a:ext cx="358200" cy="25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05080" y="4419360"/>
              <a:ext cx="326520" cy="1944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126640" y="4364280"/>
              <a:ext cx="43200" cy="644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46800" y="4435200"/>
              <a:ext cx="24840" cy="241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96800" y="4444200"/>
              <a:ext cx="457920" cy="183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82840" y="4367520"/>
              <a:ext cx="244080" cy="255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70600" y="4390560"/>
              <a:ext cx="177480" cy="187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061840" y="4385160"/>
              <a:ext cx="53640" cy="1008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73720" y="4398840"/>
              <a:ext cx="54360" cy="900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078040" y="4414680"/>
              <a:ext cx="62280" cy="1080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74200" y="3886200"/>
              <a:ext cx="333360" cy="9108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19080" y="3893400"/>
              <a:ext cx="34200" cy="514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096400" y="3937680"/>
              <a:ext cx="57600" cy="3027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081280" y="3913200"/>
              <a:ext cx="37080" cy="2743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773840" y="3984480"/>
              <a:ext cx="64080" cy="25560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44400" y="4241880"/>
              <a:ext cx="209520" cy="1296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058600" y="4242600"/>
              <a:ext cx="39600" cy="144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65640" y="4245120"/>
              <a:ext cx="32040" cy="4320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47280" y="4285080"/>
              <a:ext cx="15480" cy="1980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022240" y="4244400"/>
              <a:ext cx="46080" cy="280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075160" y="4265280"/>
              <a:ext cx="7560" cy="25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861680" y="4212360"/>
              <a:ext cx="9720" cy="2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62400" y="4199400"/>
              <a:ext cx="185040" cy="180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042400" y="4200120"/>
              <a:ext cx="7200" cy="241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004240" y="4209840"/>
              <a:ext cx="6840" cy="183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69320" y="420948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29360" y="4208400"/>
              <a:ext cx="7920" cy="194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894800" y="4210200"/>
              <a:ext cx="8640" cy="2052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96680" y="3949920"/>
              <a:ext cx="66240" cy="280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11280" y="4037400"/>
              <a:ext cx="53280" cy="1515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864200" y="4166640"/>
              <a:ext cx="190440" cy="277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042040" y="3942360"/>
              <a:ext cx="39240" cy="235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87800" y="4352040"/>
              <a:ext cx="66960" cy="7704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684920" y="4424040"/>
              <a:ext cx="19440" cy="2700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810920" y="3940200"/>
              <a:ext cx="260280" cy="7128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828200" y="3961080"/>
              <a:ext cx="106200" cy="11916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779240" y="4307040"/>
              <a:ext cx="9360" cy="3996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7382880" y="45784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657880" y="42735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77520" y="45021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6" name=""/>
          <p:cNvCxnSpPr>
            <a:stCxn id="383" idx="0"/>
            <a:endCxn id="424" idx="0"/>
          </p:cNvCxnSpPr>
          <p:nvPr/>
        </p:nvCxnSpPr>
        <p:spPr>
          <a:xfrm rot="5400000">
            <a:off x="5030280" y="1155600"/>
            <a:ext cx="1508760" cy="4109040"/>
          </a:xfrm>
          <a:prstGeom prst="curvedConnector5">
            <a:avLst>
              <a:gd name="adj1" fmla="val 51789"/>
              <a:gd name="adj2" fmla="val 49995"/>
              <a:gd name="adj3" fmla="val 51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7" name=""/>
          <p:cNvCxnSpPr>
            <a:stCxn id="436" idx="0"/>
            <a:endCxn id="391" idx="1"/>
          </p:cNvCxnSpPr>
          <p:nvPr/>
        </p:nvCxnSpPr>
        <p:spPr>
          <a:xfrm flipH="1" flipV="1">
            <a:off x="1167840" y="3047760"/>
            <a:ext cx="184212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stCxn id="391" idx="3"/>
            <a:endCxn id="455" idx="0"/>
          </p:cNvCxnSpPr>
          <p:nvPr/>
        </p:nvCxnSpPr>
        <p:spPr>
          <a:xfrm flipV="1">
            <a:off x="1168560" y="4136400"/>
            <a:ext cx="166104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"/>
          <p:cNvCxnSpPr>
            <a:stCxn id="407" idx="0"/>
            <a:endCxn id="387" idx="0"/>
          </p:cNvCxnSpPr>
          <p:nvPr/>
        </p:nvCxnSpPr>
        <p:spPr>
          <a:xfrm flipV="1">
            <a:off x="4108320" y="2774520"/>
            <a:ext cx="3594960" cy="137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"/>
          <p:cNvSpPr/>
          <p:nvPr/>
        </p:nvSpPr>
        <p:spPr>
          <a:xfrm>
            <a:off x="4867920" y="2976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477040" y="39672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839600" y="248436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591200" y="42721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2BF5-F7BB-4006-A82A-ABC115BBD3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ando info al serv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ww.server.cl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cgi-bin/cgiwrap/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gin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archivo_cgi?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server.cl/cgi-bin/cgiwrap/login/archivo_c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sando parametros al C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ver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cgi-bin/archivo_cgi?arg1+arg2+arg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server.cl/cgi-bin/archivo_cgi?name=yo&amp;id=ccesp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ios 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cipres.cec.uchile.cl/~ccesp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RLs para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ilto:direccion_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A48-A131-4848-88DE-2553E90B7D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es PH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HP, acrónimo de "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", es un lenguaje interpretado de alto nivel embebido en páginas HTML. La mayoría de su sintaxis es similar a C, Java y Perl, con solamente un par de caracteristicas PHP específicas. La meta de este lenguaje es permitir escribir a los creadores de páginas web, páginas dinámicas de una manera rápida y fác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uente: manual de 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F0D-4E0C-4805-A5D7-3539BBA629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es necesaria la definición explicita del tipo de dato. Este viene dado por el contex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be anteponer un signo ‘$’ delante del no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928C-AA5B-47BC-99E6-D4F05E8E82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. Veamos el comportamiento de $nu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$num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“1”;   #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26560" y="4084560"/>
            <a:ext cx="429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veces=$numero+1;   #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E37-B608-4E31-98F6-86A7BDDDE6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1739880" y="3340080"/>
            <a:ext cx="6400800" cy="457200"/>
            <a:chOff x="1739880" y="3340080"/>
            <a:chExt cx="6400800" cy="457200"/>
          </a:xfrm>
        </p:grpSpPr>
        <p:sp>
          <p:nvSpPr>
            <p:cNvPr id="615" name=""/>
            <p:cNvSpPr/>
            <p:nvPr/>
          </p:nvSpPr>
          <p:spPr>
            <a:xfrm>
              <a:off x="1739880" y="334008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654280" y="334008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568680" y="334008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483080" y="334008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97480" y="334008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11880" y="334008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26280" y="334008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2657160" y="334656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818720" y="334656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75400" y="3346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61000" y="448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75400" y="448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046600" y="448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8" name=""/>
          <p:cNvCxnSpPr>
            <a:stCxn id="627" idx="0"/>
            <a:endCxn id="623" idx="2"/>
          </p:cNvCxnSpPr>
          <p:nvPr/>
        </p:nvCxnSpPr>
        <p:spPr>
          <a:xfrm flipV="1" rot="16200000">
            <a:off x="1866240" y="4133160"/>
            <a:ext cx="686520" cy="26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9" name=""/>
          <p:cNvCxnSpPr>
            <a:stCxn id="625" idx="0"/>
            <a:endCxn id="622" idx="2"/>
          </p:cNvCxnSpPr>
          <p:nvPr/>
        </p:nvCxnSpPr>
        <p:spPr>
          <a:xfrm flipH="1" flipV="1">
            <a:off x="3118680" y="3803040"/>
            <a:ext cx="183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0" name=""/>
          <p:cNvCxnSpPr>
            <a:stCxn id="626" idx="0"/>
            <a:endCxn id="624" idx="2"/>
          </p:cNvCxnSpPr>
          <p:nvPr/>
        </p:nvCxnSpPr>
        <p:spPr>
          <a:xfrm flipV="1">
            <a:off x="4051080" y="38030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1" name=""/>
          <p:cNvSpPr/>
          <p:nvPr/>
        </p:nvSpPr>
        <p:spPr>
          <a:xfrm>
            <a:off x="904320" y="2813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990-EC08-4AF0-8974-5EA882876C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3:41:08Z</dcterms:created>
  <dc:creator>user</dc:creator>
  <dc:description/>
  <dc:language>en-US</dc:language>
  <cp:lastModifiedBy>Victor Ramiro</cp:lastModifiedBy>
  <dcterms:modified xsi:type="dcterms:W3CDTF">2004-08-24T03:16:49Z</dcterms:modified>
  <cp:revision>42</cp:revision>
  <dc:subject/>
  <dc:title>Diapositiva 1</dc:title>
</cp:coreProperties>
</file>