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1BC-6CBE-4D1A-A8C1-59E92A6E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E2B-723A-40AB-8EB1-89EBA89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184-BCF9-46B7-9A27-4F9A51B9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C42-E1C8-4B42-8201-9498E35D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9D36-2D50-40D4-B27F-128E3B36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033D-2D08-48B6-889B-DCC6D669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BF78-56C9-4B55-B1B0-B96B7F1C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0298-C5D4-4FED-BD3A-0FC781F6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EB96-93DE-4CBF-941B-1F06E00A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E76F-E9AA-411F-96F4-7F46F083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403E-A38F-45B4-9F1F-DF2F306A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187-2360-4C15-8C00-CAE26B26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AFD1-4594-408F-B03C-CD4C86F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F899-C351-4435-B95F-BC394B39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DE7D-D685-4E2F-88CA-0C0E5E76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40D8-2F4E-49B1-A715-5B08E55A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2DD2-407B-4F23-A683-B19B0875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EA5-3291-4329-A767-01BEE929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68F-F6E1-4299-9027-02B79089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6C1-DA64-4B2E-A34C-00FF1A7A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030-38F4-4B6C-8443-D46DE2E4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331-0ED4-458A-A708-6B5CE744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9C1-B3E5-4F79-B533-8C6FDD4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E12-FEFE-49DC-8C6E-91743A01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42CA-E0BE-40CA-850B-7CD82C2F1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49E1-B000-4110-AFE6-CD828427D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hyperlink" Target="http://www.w3.org/" TargetMode="External"/><Relationship Id="rId3" Type="http://schemas.openxmlformats.org/officeDocument/2006/relationships/hyperlink" Target="http://www.w3.org/" TargetMode="External"/><Relationship Id="rId4" Type="http://schemas.openxmlformats.org/officeDocument/2006/relationships/hyperlink" Target="http://www.w3.org/" TargetMode="External"/><Relationship Id="rId5" Type="http://schemas.openxmlformats.org/officeDocument/2006/relationships/hyperlink" Target="http://www.w3.org/" TargetMode="External"/><Relationship Id="rId6" Type="http://schemas.openxmlformats.org/officeDocument/2006/relationships/hyperlink" Target="http://www.php.net/" TargetMode="External"/><Relationship Id="rId7" Type="http://schemas.openxmlformats.org/officeDocument/2006/relationships/hyperlink" Target="http://www.php.net/" TargetMode="External"/><Relationship Id="rId8" Type="http://schemas.openxmlformats.org/officeDocument/2006/relationships/hyperlink" Target="http://www.php.net/" TargetMode="External"/><Relationship Id="rId9" Type="http://schemas.openxmlformats.org/officeDocument/2006/relationships/hyperlink" Target="http://www.php.net/" TargetMode="External"/><Relationship Id="rId10" Type="http://schemas.openxmlformats.org/officeDocument/2006/relationships/hyperlink" Target="http://www.php.net/" TargetMode="External"/><Relationship Id="rId11" Type="http://schemas.openxmlformats.org/officeDocument/2006/relationships/hyperlink" Target="http://www.php.net/" TargetMode="External"/><Relationship Id="rId12" Type="http://schemas.openxmlformats.org/officeDocument/2006/relationships/hyperlink" Target="http://www.php.net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9000" y="2819520"/>
            <a:ext cx="50292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plicaciones web y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Victor A. Ramiro 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vramiro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guía practica para el  usuario Editorial Universit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cionario de Internet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ristian Crumlish, Ed MacGraw-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.w3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8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9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0"/>
              </a:rPr>
              <a:t>ph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Red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d: Grupo de computadores u otros  dispositivos, conectados por un canal  de comunicación, que hace posible el  uso compartido de archivos y  recursos entre l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Intranet, LAN,  W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Cliente/Servid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 que se ejecutan bajo el  soporte físico y lógico de una red.  Constan de dos par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Aplicación Residente en el  computador “usuario”, que ocupa  servicios del Servi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Aplicación que “Ofrece”  servicios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Ejemplos C/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Web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nternet Explorer, Netscape, Oper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Apache, Jackarta, I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Corre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Outlook Express, Eudora, Pin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Sendmail, Ex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Más ejemplo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Noticia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tin, 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ftp, WS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wuftpd, ProFTP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RC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rc, Mirc, Bitch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Servicio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(www) !=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permite alojar en su disco  duro las paginas web del Usuario.  Luego ofrece mediante un nombre  (www.foo.bar) la pagina web a los  cl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Típico navegador que  mediante un nombre identifica a una  pagina en part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agina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HTML para construir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Universitarias, Estatales,  Empresas Privadas,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Web =&gt; Mucha info “Grati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áginas Web == Panacea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roblemas del HTM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Está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co intercambio de información del  Cliente al Serv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 de Dinamismo para crear  apl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Nuevas Solucion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s de Programación que  modifican el contenido de una pagina  web (html) dinámicamente,  dependiendo de parámetros  específicos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l, CGI, ASP, PHP, Servlets,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aprenderemos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5:51:01Z</dcterms:created>
  <dc:creator>Victor Ramiro</dc:creator>
  <dc:description/>
  <dc:language>en-US</dc:language>
  <cp:lastModifiedBy>Victor Ramiro</cp:lastModifiedBy>
  <cp:lastPrinted>1904-01-01T00:00:00Z</cp:lastPrinted>
  <dcterms:modified xsi:type="dcterms:W3CDTF">2004-08-24T03:14:43Z</dcterms:modified>
  <cp:revision>26</cp:revision>
  <dc:subject/>
  <dc:title>Servicios de Internet</dc:title>
</cp:coreProperties>
</file>