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193-ED4F-4F5B-AA6D-79A6472C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029-FA3D-44FB-A514-76AC0955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240-4DB8-44AF-9443-BBF8710B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C35-3790-44D3-88F0-6C18BB5F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912-D4C3-412C-AA64-8408B2AA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3507-1C8F-426A-9984-79359620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D342-A4F9-446C-88F7-E529430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46F0-3D02-4AD2-BF3C-BDFF5ED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D3DC-A48B-4931-8798-DCFF773B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DE62-2393-4B8C-91D8-C6B281A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218-E2CE-444C-BB31-56DD9333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458-CDCD-432B-A2B5-405F513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19A2-9468-496D-BDE0-DFBC548B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70B5-0D63-4D3D-8BC7-6984304F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C3AD-CA8F-4DE1-9696-493839F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38C3-7851-4AC4-9857-DB2EE408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88F5-A464-4D9D-A58D-711F4182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2E0-5671-4587-89F8-B5D80E2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A93-A846-4144-876D-F34FD187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1BC-21D1-4004-8D03-7E1E6F12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BF8-498A-4B69-9052-4B46ACF8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802-1BDB-4B5B-AC22-584B6E62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99D-435C-41DB-8EB5-8F9FD06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69D-5DDA-4EF2-BEFE-6F47D7D2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59CA-F214-4798-935F-F9CAE87D8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6A5-57BC-4490-B8FA-476D0339C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lorena.cerda@sii.c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álisis descriptivo de dat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1142640"/>
            <a:ext cx="7696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y día serán evaluados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uena generación de planilla Excel, la cuál les fue dada de tarea la semana pas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nálisis descriptivo de las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Generación de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Sugerencia de cómo comprobar con las herramientas que tienen las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Buena generación de planilla Excel, </a:t>
            </a:r>
            <a:br>
              <a:rPr sz="2900"/>
            </a:b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la cuál les fue dada de tarea la semana pasada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 inicio del laboratorio el auxiliar irá a ver su planilla excel y pondrá una nota por 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olviden mostrarsela al inicio, sino su nota en este ítem será u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Análisis descriptivo de las variables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objetivo de este punto es que mediante las herramientas descriptivas estadísticas que conocen y apoyándose en la matriz que hicieron la clase pasada conozcan miren como se comportan sus variables d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o el nombre del análisis lo dice deberán describir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Generación de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bservando los resultados del análisis descriptivo deberán generar hipótesis tales que sus respuestas permitan concluir sobre su objetivo de enc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m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Obj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tender la distribución de ingresos en Santi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Análisis descrip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Hipótesis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4800600"/>
                <a:ext cx="1946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m</m:t>
                        </m:r>
                        <m:r>
                          <m:rPr>
                            <m:lit/>
                            <m:nor/>
                          </m:rPr>
                          <m:t xml:space="preserve">b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705720" y="4800600"/>
                <a:ext cx="18669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je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Sugerencia de cómo comprobar con las herramientas que tienen las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rán pensar que herramienta de las aprendidas pueden utilizar para comprobar cada hípót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inuando con el ejemplo en esta parte deberían po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ipótesis: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 comprobación: test de comparación de medias, intervalo para diferencia de me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No olvid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treguen su trabajo con el formato del archivo word entre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víen su trabajo al mail </a:t>
            </a:r>
            <a:r>
              <a:rPr b="0" lang="es-C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orena.cerda@sii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erden que una vez terminado el laboratorio la auxiliar me enviará un mail indicando hora de cierre de recepción de traba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ntengan una copia de lo que me enví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ner el nombre de todos los integrantes en el arch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Soporte Técnico</cp:lastModifiedBy>
  <dcterms:modified xsi:type="dcterms:W3CDTF">2005-01-06T18:27:56Z</dcterms:modified>
  <cp:revision>21</cp:revision>
  <dc:subject/>
  <dc:title>ESTADISTICA MA34B 02</dc:title>
</cp:coreProperties>
</file>