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955-8AA2-4996-BC50-10F43361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AD6-EE82-4CD9-9E72-2EE7E24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B7A-A3DE-42EA-A645-FF971ADB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554-C8C1-448C-9C71-1CFD77C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C179-A406-4350-B920-170CEC13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4126-01E8-4EE8-B965-63E6350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C4F9-5E87-409B-B58A-95E5B9F6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DD1C-B60A-41C8-A4C4-2521B0DD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4C51-3511-415F-9ECB-DBE1C129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C5A9-2E77-40A8-9B51-5972C785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458F-C3D4-4BE0-BC27-CE7C3AF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370-887A-4668-8E71-6143FD21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6B4-35F6-4097-BF60-96DAD51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5F6-1055-4220-A970-8AFC449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6F6-38E8-40D9-BCE2-6EFD2FE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5F5E-051B-4678-8762-3F24C627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C33-AE00-4AF3-99CB-21CD25EE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C02-CF09-4838-84EC-C89E49F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8A0-D1A2-4B0A-B4B6-08FDCC19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F49-6094-433C-AEE7-B612D77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7F5-F88D-47A1-9541-FDB171EE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F68-C74F-42E9-A43E-B0B3F7C3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AA5-B686-44F1-A347-C4C25B7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176-0E25-4154-B252-76D2AA9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9971-4C78-42AA-B298-A92C2993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9D6-D24A-4F5A-AC02-E7E675A7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orena.cerda@sii.c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álisis descriptivo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696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y día serán evaluad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uena generación de planilla Excel, la cuál les fue dada de tarea la semana pas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nálisis descriptivo de la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Generación de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Sugerencia de cómo comprobar con las herramientas que tienen las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Buena generación de planilla Excel, </a:t>
            </a:r>
            <a:br>
              <a:rPr sz="2900"/>
            </a:b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la cuál les fue dada de tarea la semana pasada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 inicio del laboratorio el auxiliar irá a ver su planilla excel y pondrá una nota por 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olviden mostrarsela al inicio, sino su nota en este ítem será u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Análisis descriptivo de las variables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objetivo de este punto es que mediante las herramientas descriptivas estadísticas que conocen y apoyándose en la matriz que hicieron la clase pasada conozcan miren como se comportan sus variables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o el nombre del análisis lo dice deberán describir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Generación de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bservando los resultados del análisis descriptivo deberán generar hipótesis tales que sus respuestas permitan concluir sobre su objetivo de enc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m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Obj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tender la distribución de ingresos en Santi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Análisis descrip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Hipótesis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4800600"/>
                <a:ext cx="1946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m</m:t>
                        </m:r>
                        <m:r>
                          <m:rPr>
                            <m:lit/>
                            <m:nor/>
                          </m:rPr>
                          <m:t xml:space="preserve">b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705720" y="4800600"/>
                <a:ext cx="186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je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Sugerencia de cómo comprobar con las herramientas que tienen las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rán pensar que herramienta de las aprendidas pueden utilizar para comprobar cada hípót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inuando con el ejemplo en esta parte deberían po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ipótesis: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 comprobación: test de comparación de medias, intervalo para diferencia de me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No olvid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treguen su trabajo con el formato del archivo word ent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víen su trabajo al mail </a:t>
            </a:r>
            <a:r>
              <a:rPr b="0" lang="es-C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orena.cerda@sii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erden que una vez terminado el laboratorio la auxiliar me enviará un mail indicando hora de cierre de recepción de tra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ntengan una copia de lo que me enví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ner el nombre de todos los integrantes en el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Soporte Técnico</cp:lastModifiedBy>
  <dcterms:modified xsi:type="dcterms:W3CDTF">2005-01-06T18:27:56Z</dcterms:modified>
  <cp:revision>21</cp:revision>
  <dc:subject/>
  <dc:title>ESTADISTICA MA34B 02</dc:title>
</cp:coreProperties>
</file>