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535-0014-45FC-B733-0BCF14AC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B60-96D0-4281-AEB1-713EE86D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FD4-DE46-469D-9F78-DBD96CFD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473-0DE5-4426-A4A9-F8B7E5CE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EB8F-BA52-4D2C-85BC-3FD58263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AFC0-C007-4D79-BBE2-0F91501C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8C77-5067-40CD-860B-D9D20110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FA92-D891-4926-9BF2-076FA711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E598-0FB3-4795-A0EF-18A5EF1F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5CD-C258-43CB-B98E-E9342590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E73A-7097-4A6B-9B1D-6CF918C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7F8-4EBC-4E38-B21A-6EE5C7DE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F307-6798-436C-AC1A-6D9CCB7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600A-916B-4263-AF69-D9A3E79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7DC1-609F-412F-9100-7F7DAAEF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8C83-29D1-4117-8758-BDF544F3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F83A-8DED-4263-AE66-660DD90F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2C3-705A-43A2-A6DB-79F4135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7AF-4DD7-4DA6-8686-D2F549C3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843-C46E-4CC5-BB13-84034082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2B3-EEA7-4FC1-AC21-B506197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436-5453-457E-A7F3-ED468E3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1C2-6B2D-45E0-810B-8E6F176D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F62-CBA5-4C1B-9191-486223A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071-0547-49A6-AD62-52D2831D7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11F-B9F7-4D7B-A79C-CF2A2C62D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lorena.cerda@sii.c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álisis descriptivo de dat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1142640"/>
            <a:ext cx="7696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y día serán evaluados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uena generación de planilla Excel, la cuál les fue dada de tarea la semana pas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nálisis descriptivo de las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Generación de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Sugerencia de cómo comprobar con las herramientas que tienen las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Buena generación de planilla Excel, </a:t>
            </a:r>
            <a:br>
              <a:rPr sz="2900"/>
            </a:b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la cuál les fue dada de tarea la semana pasada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 inicio del laboratorio el auxiliar irá a ver su planilla excel y pondrá una nota por 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olviden mostrarsela al inicio, sino su nota en este ítem será u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Análisis descriptivo de las variables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objetivo de este punto es que mediante las herramientas descriptivas estadísticas que conocen y apoyándose en la matriz que hicieron la clase pasada conozcan miren como se comportan sus variables d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o el nombre del análisis lo dice deberán describir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Generación de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bservando los resultados del análisis descriptivo deberán generar hipótesis tales que sus respuestas permitan concluir sobre su objetivo de enc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m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Obj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tender la distribución de ingresos en Santi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Análisis descrip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Hipótesis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4800600"/>
                <a:ext cx="1946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m</m:t>
                        </m:r>
                        <m:r>
                          <m:rPr>
                            <m:lit/>
                            <m:nor/>
                          </m:rPr>
                          <m:t xml:space="preserve">b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705720" y="4800600"/>
                <a:ext cx="18669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je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Sugerencia de cómo comprobar con las herramientas que tienen las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rán pensar que herramienta de las aprendidas pueden utilizar para comprobar cada hípót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inuando con el ejemplo en esta parte deberían po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ipótesis: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 comprobación: test de comparación de medias, intervalo para diferencia de me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No olvid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treguen su trabajo con el formato del archivo word entre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víen su trabajo al mail </a:t>
            </a:r>
            <a:r>
              <a:rPr b="0" lang="es-C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orena.cerda@sii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erden que una vez terminado el laboratorio la auxiliar me enviará un mail indicando hora de cierre de recepción de traba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ntengan una copia de lo que me enví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ner el nombre de todos los integrantes en el arch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Soporte Técnico</cp:lastModifiedBy>
  <dcterms:modified xsi:type="dcterms:W3CDTF">2005-01-06T18:27:56Z</dcterms:modified>
  <cp:revision>21</cp:revision>
  <dc:subject/>
  <dc:title>ESTADISTICA MA34B 02</dc:title>
</cp:coreProperties>
</file>