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1B0-CF0D-40A3-BC72-8E39BAAB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BF6-B6CE-4C2E-B850-961DFB8C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697-C8C1-4BDE-8C09-28DDF672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22B-B441-44EB-8C0B-8C40859D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A640-147E-4555-B304-26EC1E6C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BBC2-FB4A-4A23-9949-4C29D122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E763-0966-4F5F-B1B8-6944F213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28D2-01F3-4787-AA94-9B89CDF8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0945-05B8-4FA3-BF77-E944EC46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728E-432D-49DF-A4DC-5411107C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94CF-747D-4559-9C2C-C94E4812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F15-68C1-4A64-AB72-F949022F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D4EB-71BC-4A53-8432-92F30F9C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1147-0C2E-4ABE-A83F-52F481C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A35F-23BF-477B-98B9-81C9252D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C365-2702-4851-B963-CB24ADB1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54B8-E550-46C7-AEDA-AD0997D0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873-1D3E-42E6-9963-949FEDF2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8EC-D242-4FF4-AF1B-7A33798C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73C-5A6D-42DF-92D3-A4F3FAE7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7BF-130F-464E-961F-9C715509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7EE-FB51-4713-A6B5-DFC103F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F51-539B-4205-8C45-C7C9698F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D3A-4828-43CA-9EB5-22259633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C402-34AB-42F2-9117-ECC3E4AD5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E3A5-8DBE-443D-A411-4A06550FA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lorena.cerda@sii.c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Análisis descriptivo de dato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1142640"/>
            <a:ext cx="76960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y día serán evaluados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Buena generación de planilla Excel, la cuál les fue dada de tarea la semana pas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nálisis descriptivo de las vari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Generación de hipótesis de trabaj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Sugerencia de cómo comprobar con las herramientas que tienen las hipótesis de trabaj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Buena generación de planilla Excel, </a:t>
            </a:r>
            <a:br>
              <a:rPr sz="2900"/>
            </a:b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la cuál les fue dada de tarea la semana pasada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 inicio del laboratorio el auxiliar irá a ver su planilla excel y pondrá una nota por 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olviden mostrarsela al inicio, sino su nota en este ítem será u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Análisis descriptivo de las variables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objetivo de este punto es que mediante las herramientas descriptivas estadísticas que conocen y apoyándose en la matriz que hicieron la clase pasada conozcan miren como se comportan sus variables de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o el nombre del análisis lo dice deberán describir las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Generación de hipótesis de trabajo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bservando los resultados del análisis descriptivo deberán generar hipótesis tales que sus respuestas permitan concluir sobre su objetivo de enc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m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Obj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tender la distribución de ingresos en Santi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Análisis descrip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b1301"/>
                </a:solidFill>
                <a:latin typeface="Times New Roman"/>
              </a:rPr>
              <a:t>Hipótesis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Los hombres ganan más qu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4800600"/>
                <a:ext cx="19461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m</m:t>
                        </m:r>
                        <m:r>
                          <m:rPr>
                            <m:lit/>
                            <m:nor/>
                          </m:rPr>
                          <m:t xml:space="preserve">b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705720" y="4800600"/>
                <a:ext cx="18669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ujer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b1301"/>
                </a:solidFill>
                <a:latin typeface="Times New Roman"/>
              </a:rPr>
              <a:t>Sugerencia de cómo comprobar con las herramientas que tienen las hipótesis de trabajo.</a:t>
            </a:r>
            <a:br>
              <a:rPr sz="2900"/>
            </a:br>
            <a:endParaRPr b="0" lang="en-US" sz="29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rán pensar que herramienta de las aprendidas pueden utilizar para comprobar cada hípót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tinuando con el ejemplo en esta parte deberían po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ipótesis: Los hombres ganan más que las muj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 comprobación: test de comparación de medias, intervalo para diferencia de med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No olvid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treguen su trabajo con el formato del archivo word entre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víen su trabajo al mail </a:t>
            </a:r>
            <a:r>
              <a:rPr b="0" lang="es-C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orena.cerda@sii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erden que una vez terminado el laboratorio la auxiliar me enviará un mail indicando hora de cierre de recepción de traba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antengan una copia de lo que me enví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ner el nombre de todos los integrantes en el arch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Soporte Técnico</cp:lastModifiedBy>
  <dcterms:modified xsi:type="dcterms:W3CDTF">2005-01-06T18:27:56Z</dcterms:modified>
  <cp:revision>21</cp:revision>
  <dc:subject/>
  <dc:title>ESTADISTICA MA34B 02</dc:title>
</cp:coreProperties>
</file>