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F7E-8791-462F-8B5D-9625E891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8DA-4CAA-4417-B1CA-C2462674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962-98CA-4EEA-9C17-7B39538E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D70-2E9B-41DE-931E-D5886982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B9B5-7A76-4652-ADDC-C57C26E5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1810-A1D2-492A-9DAF-3272F378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8D66-49D4-441F-A1EC-970A40B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397E-3C19-4013-BBC9-16B5AD04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089F-8E80-40F1-9411-C0228CCA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96B5-C00A-48CF-99D0-15CB0A96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244-FFF1-4D00-830F-DA080FCE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964-C0FD-4D08-8816-4E56DD60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DCAD-29D1-4563-BAB4-E79AE0A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8CDC-1553-4E43-9CC8-EC91F56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854D-8A93-4126-8867-217959DE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C1C3-2211-409D-8BE2-47AC6215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4B6-C2C5-40A6-A408-66E990A7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DEA-3965-4C58-B27D-CC32210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84C-9EDE-4C9F-A308-8164DE00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403-8AFE-41C2-9FFA-3BC726CC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CD5-ABD0-4F2E-BF91-2350642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2A3-3AC2-4934-815D-505C9F7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7D3-99C7-4BD2-9CA7-505B9AD4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A3F-F2AE-44DD-A41A-A00AAFBD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A32A-E169-4EE2-B8A0-5915B0B365BB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2621-2FF4-4E26-901C-DECB8795FBAB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Propiedades de lo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Estimadores e Intervalos de confianz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alos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 sé exactamente cuál es el valor del pará metro pero puedo asegurar con una probabilidad              que se encuentra en este interva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09880" y="2895480"/>
                <a:ext cx="990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09680" y="3886200"/>
                <a:ext cx="57150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insesgado se define cóm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 sesgo queda definido entonces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2209680"/>
                <a:ext cx="16254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57800" y="4724280"/>
                <a:ext cx="2921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sgo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remos que un estimador es asintóticamente insesgado cuand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consistente cump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334120" y="4114800"/>
                <a:ext cx="28954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5600880"/>
                <a:ext cx="27432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486400" y="2286000"/>
                <a:ext cx="2666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∞</m:t>
                        </m:r>
                      </m:e>
                    </m:acc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CM: Error cuadrático medio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rve para comparar estimadores ¿porqué?¿Con cuál nos quedamo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81480" y="1981080"/>
                <a:ext cx="39625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sg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eficien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cantidad de información aportada por la muestra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mbién conocida cómo la cantidad de información de fis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3505320"/>
                <a:ext cx="3699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tra manera de expresar la información aportada por una muestra para un parámetro es a partir de la función de verosimilitud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52680" y="3581280"/>
                <a:ext cx="36990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5486400"/>
                <a:ext cx="2222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 define la cota de Cramer Rao para los estimadores insesgados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2971800"/>
                <a:ext cx="38098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in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es consistente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es estimadores son candidatos a cumplir la cota de Cramer Ra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Siempre es mejor un estimador insesgado a otro 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podemos inducir sesgo antes de hacer el estudi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21T01:44:10Z</dcterms:modified>
  <cp:revision>50</cp:revision>
  <dc:subject/>
  <dc:title>ESTADISTICA MA34B 02</dc:title>
</cp:coreProperties>
</file>