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5FED-4F83-4AC2-8133-9BB899D0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4E3-97F6-4C1F-AB16-341939FD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9D1B-8EF6-45D8-868E-6A86BD85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F509-294C-4D8E-B914-38A2A034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915C-CDDE-4C43-8A20-8927FB6C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F554-2EB9-4FD5-92D7-E6E6B94E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1646-DCF5-4FCD-BE3B-A0E700D1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21F0-EA57-418D-BA89-A131A628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165C-F8BE-49D2-AF3C-DB433F00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0AD4-5469-4E75-82F9-F9C2F64F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139D-3B2B-47FD-8390-80987BF1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AA8-51DB-4F29-B136-7688C97F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8B4D-2CBE-4814-AD54-ABBB2938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FEB3-4A84-4963-9F47-2E869EBC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6753-9FBA-4218-83EC-198D4E88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0B42-48C4-4516-A130-2D2B70B9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5A6A-2643-402B-856F-BBDEF3A6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4BA-79CC-45AE-BD97-7330219E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4079-A2E1-4C74-8A41-C98771C6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32E-E840-486E-8EE0-D428FC4A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E4A-8256-4670-9513-C2832108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BFA-2C4E-43E5-9970-5D1E128D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8E57-ABE3-470E-ACA0-29BAA1F0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FF07-4DFD-4071-8145-B2D6D310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D28C-14E1-483C-B04E-C5873BAA7BDA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7AD5-3578-4C92-886C-864D6E2FD2F6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ESTADISTICA MA34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5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ORENA CERDA M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cerda@dim.uchile.c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41972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Propiedades de lo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Estimadores e Intervalos de confianz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429000"/>
          <a:ext cx="42670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2900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alos de conf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o sé exactamente cuál es el valor del pará metro pero puedo asegurar con una probabilidad              que se encuentra en este interval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809880" y="2895480"/>
                <a:ext cx="9907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09680" y="3886200"/>
                <a:ext cx="57150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θ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imador insesgado se define cóm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l sesgo queda definido entonces có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791320" y="2209680"/>
                <a:ext cx="16254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257800" y="4724280"/>
                <a:ext cx="2921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sgo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remos que un estimador es asintóticamente insesgado cuand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imador consistente cumpl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334120" y="4114800"/>
                <a:ext cx="289548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34120" y="5600880"/>
                <a:ext cx="27432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486400" y="2286000"/>
                <a:ext cx="2666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∞</m:t>
                        </m:r>
                      </m:e>
                    </m:acc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CM: Error cuadrático medio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irve para comparar estimadores ¿porqué?¿Con cuál nos quedamos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181480" y="1981080"/>
                <a:ext cx="396252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sgo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imador eficient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finiremos la cantidad de información aportada por la muestra co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ambién conocida cómo la cantidad de información de fish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38280" y="3505320"/>
                <a:ext cx="369900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n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θ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tra manera de expresar la información aportada por una muestra para un parámetro es a partir de la función de verosimilitud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352680" y="3581280"/>
                <a:ext cx="369900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θ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14800" y="5486400"/>
                <a:ext cx="22226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I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 define la cota de Cramer Rao para los estimadores insesgados co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819520" y="2971800"/>
                <a:ext cx="380988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un estimador es insesg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es consistente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58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les estimadores son candidatos a cumplir la cota de Cramer Ra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5334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un estimador es mejor que otr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Siempre es mejor un estimador insesgado a otro sesg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ómo podemos inducir sesgo antes de hacer el estudi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4495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un estimador es mejor que otr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5:48:27Z</dcterms:created>
  <dc:creator>cmorales</dc:creator>
  <dc:description/>
  <dc:language>en-US</dc:language>
  <cp:lastModifiedBy>csimmonds</cp:lastModifiedBy>
  <dcterms:modified xsi:type="dcterms:W3CDTF">2004-12-21T01:44:10Z</dcterms:modified>
  <cp:revision>50</cp:revision>
  <dc:subject/>
  <dc:title>ESTADISTICA MA34B 02</dc:title>
</cp:coreProperties>
</file>