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15FB-E9E2-41C6-86C9-6DBE7FB07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9A19-5675-4C6F-AF9B-600D5087B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C198-CE0C-4A80-8362-BE9EF4B71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A60A-268C-45F9-934A-4FEEEAD66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E3B61-3082-4FF0-AB40-FAF05B8CA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7732F-7791-442E-B5FC-58A5889FD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24C80-50D4-4337-B882-87927625F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5C68B-09E0-420F-87DF-F636F12FB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B6A5A-4553-4933-B3B1-1ED674FBE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3EC18-1341-477C-8048-AAF44A212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82485-9205-4371-AF4D-476459360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9265-2414-4F45-9A4E-FB569DFC3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51EBC-F27A-46C3-8EF1-DFD12D444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49FE1-0B70-4CD1-B11E-C472885CA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B0749-B75B-4CC7-8AC7-D10DC4F51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CE8B5-0A53-4FDC-ABA8-610A9500B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C86BF-9142-45F3-ADC4-F9CA80ED6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727D-BE37-4BA0-91EB-9676C1A31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0912-2D44-4AD9-ADE2-902B59C5A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2D43-47F0-4014-82FC-44CA51EBC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CDA1-383A-4C12-A05A-F3D369B39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3CA5-3771-4201-A15D-8373E76B8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0267-297F-4580-9CFD-F6620054F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B111-8AF2-42C4-8907-87945D994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1" name="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03026"/>
                </a:gs>
                <a:gs pos="50000">
                  <a:srgbClr val="6a6954"/>
                </a:gs>
                <a:gs pos="100000">
                  <a:srgbClr val="3030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868B8-7F80-40A6-9564-27BA85BA5913}" type="slidenum">
              <a:rPr b="0" lang="es-E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-31680" y="0"/>
            <a:ext cx="9178560" cy="6924600"/>
            <a:chOff x="-31680" y="0"/>
            <a:chExt cx="9178560" cy="6924600"/>
          </a:xfrm>
        </p:grpSpPr>
        <p:sp>
          <p:nvSpPr>
            <p:cNvPr id="52" name=""/>
            <p:cNvSpPr/>
            <p:nvPr/>
          </p:nvSpPr>
          <p:spPr>
            <a:xfrm>
              <a:off x="-23760" y="7920"/>
              <a:ext cx="9167760" cy="6843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0"/>
              <a:ext cx="1179360" cy="6880320"/>
            </a:xfrm>
            <a:prstGeom prst="rect">
              <a:avLst/>
            </a:prstGeom>
            <a:gradFill rotWithShape="0">
              <a:gsLst>
                <a:gs pos="0">
                  <a:srgbClr val="6a6954"/>
                </a:gs>
                <a:gs pos="50000">
                  <a:srgbClr val="303026"/>
                </a:gs>
                <a:gs pos="100000">
                  <a:srgbClr val="6a695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103400" y="0"/>
              <a:ext cx="79200" cy="692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3"/>
            <a:srcRect l="0" t="15176" r="0" b="0"/>
            <a:stretch/>
          </p:blipFill>
          <p:spPr>
            <a:xfrm>
              <a:off x="0" y="270684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 rot="5400000">
              <a:off x="5086080" y="-628560"/>
              <a:ext cx="74520" cy="8040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rot="5400000">
              <a:off x="5086440" y="-1353240"/>
              <a:ext cx="74880" cy="8045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-31680" y="0"/>
              <a:ext cx="74520" cy="6892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57360" y="3362400"/>
              <a:ext cx="446040" cy="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42840" y="3359160"/>
              <a:ext cx="365040" cy="144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04640" y="3357720"/>
              <a:ext cx="103320" cy="136440"/>
            </a:xfrm>
            <a:custGeom>
              <a:avLst/>
              <a:gdLst/>
              <a:ahLst/>
              <a:rect l="l" t="t" r="r" b="b"/>
              <a:pathLst>
                <a:path w="65" h="86">
                  <a:moveTo>
                    <a:pt x="0" y="0"/>
                  </a:moveTo>
                  <a:cubicBezTo>
                    <a:pt x="9" y="4"/>
                    <a:pt x="6" y="10"/>
                    <a:pt x="15" y="12"/>
                  </a:cubicBezTo>
                  <a:cubicBezTo>
                    <a:pt x="18" y="20"/>
                    <a:pt x="19" y="20"/>
                    <a:pt x="27" y="23"/>
                  </a:cubicBezTo>
                  <a:cubicBezTo>
                    <a:pt x="29" y="29"/>
                    <a:pt x="30" y="32"/>
                    <a:pt x="36" y="35"/>
                  </a:cubicBezTo>
                  <a:cubicBezTo>
                    <a:pt x="40" y="40"/>
                    <a:pt x="43" y="40"/>
                    <a:pt x="47" y="45"/>
                  </a:cubicBezTo>
                  <a:cubicBezTo>
                    <a:pt x="49" y="71"/>
                    <a:pt x="49" y="52"/>
                    <a:pt x="56" y="66"/>
                  </a:cubicBezTo>
                  <a:cubicBezTo>
                    <a:pt x="57" y="74"/>
                    <a:pt x="56" y="77"/>
                    <a:pt x="63" y="80"/>
                  </a:cubicBezTo>
                  <a:cubicBezTo>
                    <a:pt x="65" y="85"/>
                    <a:pt x="65" y="83"/>
                    <a:pt x="65" y="86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46120" y="3362400"/>
              <a:ext cx="112680" cy="133200"/>
            </a:xfrm>
            <a:custGeom>
              <a:avLst/>
              <a:gdLst/>
              <a:ahLst/>
              <a:rect l="l" t="t" r="r" b="b"/>
              <a:pathLst>
                <a:path w="71" h="84">
                  <a:moveTo>
                    <a:pt x="69" y="0"/>
                  </a:moveTo>
                  <a:cubicBezTo>
                    <a:pt x="65" y="10"/>
                    <a:pt x="71" y="21"/>
                    <a:pt x="61" y="27"/>
                  </a:cubicBezTo>
                  <a:cubicBezTo>
                    <a:pt x="59" y="37"/>
                    <a:pt x="62" y="55"/>
                    <a:pt x="52" y="57"/>
                  </a:cubicBezTo>
                  <a:cubicBezTo>
                    <a:pt x="49" y="62"/>
                    <a:pt x="49" y="67"/>
                    <a:pt x="46" y="72"/>
                  </a:cubicBezTo>
                  <a:cubicBezTo>
                    <a:pt x="38" y="71"/>
                    <a:pt x="39" y="67"/>
                    <a:pt x="33" y="63"/>
                  </a:cubicBezTo>
                  <a:cubicBezTo>
                    <a:pt x="30" y="58"/>
                    <a:pt x="27" y="56"/>
                    <a:pt x="25" y="51"/>
                  </a:cubicBezTo>
                  <a:cubicBezTo>
                    <a:pt x="23" y="38"/>
                    <a:pt x="25" y="38"/>
                    <a:pt x="10" y="39"/>
                  </a:cubicBezTo>
                  <a:cubicBezTo>
                    <a:pt x="8" y="51"/>
                    <a:pt x="18" y="72"/>
                    <a:pt x="4" y="77"/>
                  </a:cubicBezTo>
                  <a:cubicBezTo>
                    <a:pt x="0" y="82"/>
                    <a:pt x="1" y="79"/>
                    <a:pt x="1" y="84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44520" y="124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dt" idx="4"/>
          </p:nvPr>
        </p:nvSpPr>
        <p:spPr>
          <a:xfrm>
            <a:off x="12618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5"/>
          </p:nvPr>
        </p:nvSpPr>
        <p:spPr>
          <a:xfrm>
            <a:off x="3700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6"/>
          </p:nvPr>
        </p:nvSpPr>
        <p:spPr>
          <a:xfrm>
            <a:off x="7129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007F0-5FC8-42DB-A878-A9BBF310B8CF}" type="slidenum">
              <a:rPr b="0" lang="es-E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33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400" spc="-1" strike="noStrike">
                <a:solidFill>
                  <a:srgbClr val="000000"/>
                </a:solidFill>
                <a:latin typeface="Arial"/>
              </a:rPr>
              <a:t>ESTADISTICA MA34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76520" y="1447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LORENA CERDA M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lcerda@dim.uchile.cl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638680" y="4419720"/>
            <a:ext cx="29718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333333"/>
                </a:solidFill>
                <a:latin typeface="Times New Roman"/>
              </a:rPr>
              <a:t>Propiedades de los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333333"/>
                </a:solidFill>
                <a:latin typeface="Times New Roman"/>
              </a:rPr>
              <a:t>Estimadores e Intervalos de confianza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219320" y="3429000"/>
          <a:ext cx="4267080" cy="284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3429000"/>
                    <a:ext cx="4267080" cy="284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valos de confianz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57120" y="1981080"/>
            <a:ext cx="7886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No sé exactamente cuál es el valor del pará metro pero puedo asegurar con una probabilidad              que se encuentra en este intervalo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3809880" y="2895480"/>
                <a:ext cx="990720" cy="3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2209680" y="3886200"/>
                <a:ext cx="5715000" cy="94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&lt;</m:t>
                    </m:r>
                    <m:r>
                      <m:t xml:space="preserve">θ</m:t>
                    </m:r>
                    <m:r>
                      <m:t xml:space="preserve">&lt;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iedades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571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Estimador insesgado se define cómo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El sesgo queda definido entonces cómo: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5791320" y="2209680"/>
                <a:ext cx="162540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θ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5257800" y="4724280"/>
                <a:ext cx="292104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esgo</m:t>
                    </m:r>
                    <m:r>
                      <m:t xml:space="preserve">=</m:t>
                    </m:r>
                    <m:r>
                      <m:t xml:space="preserve">E</m:t>
                    </m:r>
                    <m:r>
                      <m:t xml:space="preserve">(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θ</m:t>
                        </m:r>
                      </m:e>
                    </m:acc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iedades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571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Diremos que un estimador es asintóticamente insesgado cuando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Estimador consistente cumple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5334120" y="4114800"/>
                <a:ext cx="2895480" cy="12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E</m:t>
                        </m:r>
                        <m:r>
                          <m:t xml:space="preserve">(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θ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r>
                          <m:t xml:space="preserve">(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r>
                          <m:t xml:space="preserve">)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  <m:acc>
                              <m:accPr>
                                <m:chr m:val="⃗"/>
                              </m:accPr>
                              <m:e/>
                            </m:acc>
                            <m:r>
                              <m:t xml:space="preserve">∞</m:t>
                            </m:r>
                          </m:e>
                        </m:acc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5334120" y="5600880"/>
                <a:ext cx="2743200" cy="12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E</m:t>
                        </m:r>
                        <m:r>
                          <m:t xml:space="preserve">(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r>
                          <m:t xml:space="preserve">)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  <m:acc>
                              <m:accPr>
                                <m:chr m:val="⃗"/>
                              </m:accPr>
                              <m:e/>
                            </m:acc>
                            <m:r>
                              <m:t xml:space="preserve">∞</m:t>
                            </m:r>
                          </m:e>
                        </m:acc>
                        <m:r>
                          <m:t xml:space="preserve">θ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r>
                          <m:t xml:space="preserve">(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r>
                          <m:t xml:space="preserve">)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  <m:acc>
                              <m:accPr>
                                <m:chr m:val="⃗"/>
                              </m:accPr>
                              <m:e/>
                            </m:acc>
                            <m:r>
                              <m:t xml:space="preserve">∞</m:t>
                            </m:r>
                          </m:e>
                        </m:acc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5486400" y="2286000"/>
                <a:ext cx="266688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θ</m:t>
                        </m:r>
                      </m:e>
                    </m:acc>
                    <m:r>
                      <m:t xml:space="preserve">)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n</m:t>
                        </m:r>
                        <m:acc>
                          <m:accPr>
                            <m:chr m:val="⃗"/>
                          </m:accPr>
                          <m:e/>
                        </m:acc>
                        <m:r>
                          <m:t xml:space="preserve">∞</m:t>
                        </m:r>
                      </m:e>
                    </m:acc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iedades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571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ECM: Error cuadrático medio. 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Sirve para comparar estimadores ¿porqué?¿Con cuál nos quedamos?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5181480" y="1981080"/>
                <a:ext cx="3962520" cy="15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r>
                          <m:t xml:space="preserve">(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E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(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  <m:r>
                              <m:t xml:space="preserve">−</m:t>
                            </m:r>
                            <m:r>
                              <m:t xml:space="preserve">θ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t xml:space="preserve">−</m:t>
                        </m:r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E</m:t>
                                </m:r>
                                <m:r>
                                  <m:t xml:space="preserve">(</m:t>
                                </m:r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θ</m:t>
                                    </m:r>
                                  </m:e>
                                </m:acc>
                                <m:r>
                                  <m:t xml:space="preserve">)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θ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/>
                      <m:e>
                        <m:r>
                          <m:t xml:space="preserve">E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(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  <m:r>
                              <m:t xml:space="preserve">−</m:t>
                            </m:r>
                            <m:r>
                              <m:t xml:space="preserve">θ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r>
                          <m:t xml:space="preserve">(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r>
                          <m:t xml:space="preserve">)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esgo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iedades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20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Estimador eficiente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Definiremos la cantidad de información aportada por la muestra como: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También conocida cómo la cantidad de información de fisher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2438280" y="3505320"/>
                <a:ext cx="3699000" cy="15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E</m:t>
                    </m:r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ln</m:t>
                                    </m:r>
                                    <m:r>
                                      <m:t xml:space="preserve">f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r>
                                      <m:t xml:space="preserve">θ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iedades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20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Otra manera de expresar la información aportada por una muestra para un parámetro es a partir de la función de verosimilitud: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352680" y="3581280"/>
                <a:ext cx="3699000" cy="129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E</m:t>
                    </m:r>
                    <m:d>
                      <m:dPr>
                        <m:begChr m:val="["/>
                        <m:endChr m:val="]"/>
                      </m:dP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ln</m:t>
                                </m:r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θ</m:t>
                                </m:r>
                              </m:den>
                            </m:f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114800" y="5486400"/>
                <a:ext cx="2222640" cy="58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I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iedades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20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Se define la cota de Cramer Rao para los estimadores insesgados como: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2819520" y="2971800"/>
                <a:ext cx="3809880" cy="17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ar</m:t>
                    </m:r>
                    <m:r>
                      <m:t xml:space="preserve">(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θ</m:t>
                        </m:r>
                      </m:e>
                    </m:acc>
                    <m:r>
                      <m:t xml:space="preserve">)</m:t>
                    </m:r>
                    <m:r>
                      <m:t xml:space="preserve">≥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1257480" y="1981080"/>
            <a:ext cx="720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¿Cuándo un estimador es insesgad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371600" y="1828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¿Cuándo es consistente?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581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¿Cuáles estimadores son candidatos a cumplir la cota de Cramer Rao?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219320" y="5334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¿Cuándo un estimador es mejor que otro?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1257480" y="1981080"/>
            <a:ext cx="720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¿Siempre es mejor un estimador insesgado a otro sesgad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219320" y="2514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¿Cómo podemos inducir sesgo antes de hacer el estudio?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219320" y="44956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¿Cuándo un estimador es mejor que otro?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6T15:48:27Z</dcterms:created>
  <dc:creator>cmorales</dc:creator>
  <dc:description/>
  <dc:language>en-US</dc:language>
  <cp:lastModifiedBy>csimmonds</cp:lastModifiedBy>
  <dcterms:modified xsi:type="dcterms:W3CDTF">2004-12-21T01:44:10Z</dcterms:modified>
  <cp:revision>50</cp:revision>
  <dc:subject/>
  <dc:title>ESTADISTICA MA34B 02</dc:title>
</cp:coreProperties>
</file>