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9D3E-E95D-4843-91A7-8899FF05D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1664-1156-4178-8F6D-12C16BD2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9BD7-C58A-4EF6-A416-6B15EC74A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A340-FD5A-4F69-BAE4-40985D04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7AC6-E1E6-4226-AF3C-C2FDC00C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9F11-14A3-4C31-9E29-96E775B8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87F8-37D4-460F-8EBF-374AF400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C575-2C6E-4BF9-B817-0EF68F74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8DBF-6B7E-42A6-8ED2-3D5194F9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CE77-7779-4714-BE85-F514CD87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374C-04B0-437A-AF30-D29D5BAB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A15F-D90C-4180-82CC-467E5C84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CA08-1EC2-41B9-A130-14F160E4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7103-DDB7-46A9-AA03-6A6B9028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26DF-F558-4FCC-8325-4D88AA72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B9DA-BE98-4E32-B401-9319327B2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4132-045D-428A-B6FD-70DF2B52A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EB4F-EA90-4A18-AB7D-7596F786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7653-FFBF-4F1D-ADBF-5C7FDA8D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361F-8275-4941-836F-A26AF4A1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CC1E-DB08-4AB1-A21B-94BD907B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AA74-337D-4B96-A393-2DB554C7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48BB-A1EB-4488-9D1E-8F1879CF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4BBE-5535-4961-BBEC-57DD79FC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9EC8-CF4C-4DB8-9994-4FCA7E5AF969}" type="slidenum"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AEB5-73E7-48D0-8A3A-7571E23D8056}" type="slidenum"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ESTADISTICA MA34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7652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LORENA CERDA M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lcerda@dim.uchile.c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441972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333333"/>
                </a:solidFill>
                <a:latin typeface="Times New Roman"/>
              </a:rPr>
              <a:t>Propiedades de lo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333333"/>
                </a:solidFill>
                <a:latin typeface="Times New Roman"/>
              </a:rPr>
              <a:t>Estimadores e Intervalos de confianz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3429000"/>
          <a:ext cx="4267080" cy="28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429000"/>
                    <a:ext cx="4267080" cy="28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valos de confi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o sé exactamente cuál es el valor del pará metro pero puedo asegurar con una probabilidad              que se encuentra en este intervalo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809880" y="2895480"/>
                <a:ext cx="9907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209680" y="3886200"/>
                <a:ext cx="57150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θ</m:t>
                    </m:r>
                    <m:r>
                      <m:t xml:space="preserve">&lt;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stimador insesgado se define cómo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l sesgo queda definido entonces cómo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791320" y="2209680"/>
                <a:ext cx="16254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257800" y="4724280"/>
                <a:ext cx="29210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sgo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iremos que un estimador es asintóticamente insesgado cuando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stimador consistente cumpl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334120" y="4114800"/>
                <a:ext cx="289548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acc>
                              <m:accPr>
                                <m:chr m:val="⃗"/>
                              </m:accPr>
                              <m:e/>
                            </m:acc>
                            <m:r>
                              <m:t xml:space="preserve">∞</m:t>
                            </m:r>
                          </m:e>
                        </m:acc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334120" y="5600880"/>
                <a:ext cx="274320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acc>
                              <m:accPr>
                                <m:chr m:val="⃗"/>
                              </m:accPr>
                              <m:e/>
                            </m:acc>
                            <m:r>
                              <m:t xml:space="preserve">∞</m:t>
                            </m:r>
                          </m:e>
                        </m:acc>
                        <m:r>
                          <m:t xml:space="preserve">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acc>
                              <m:accPr>
                                <m:chr m:val="⃗"/>
                              </m:accPr>
                              <m:e/>
                            </m:acc>
                            <m:r>
                              <m:t xml:space="preserve">∞</m:t>
                            </m:r>
                          </m:e>
                        </m:acc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486400" y="2286000"/>
                <a:ext cx="26668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)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  <m:acc>
                          <m:accPr>
                            <m:chr m:val="⃗"/>
                          </m:accPr>
                          <m:e/>
                        </m:acc>
                        <m:r>
                          <m:t xml:space="preserve">∞</m:t>
                        </m:r>
                      </m:e>
                    </m:acc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CM: Error cuadrático medio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irve para comparar estimadores ¿porqué?¿Con cuál nos quedamos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181480" y="1981080"/>
                <a:ext cx="396252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E</m:t>
                                </m:r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  <m:e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sgo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stimador eficient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efiniremos la cantidad de información aportada por la muestra como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ambién conocida cómo la cantidad de información de fish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438280" y="3505320"/>
                <a:ext cx="369900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n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θ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Otra manera de expresar la información aportada por una muestra para un parámetro es a partir de la función de verosimilitud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352680" y="3581280"/>
                <a:ext cx="369900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θ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114800" y="5486400"/>
                <a:ext cx="222264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I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 define la cota de Cramer Rao para los estimadores insesgados como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819520" y="2971800"/>
                <a:ext cx="380988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57480" y="198108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ndo un estimador es insesga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1828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ndo es consistente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581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les estimadores son candidatos a cumplir la cota de Cramer Rao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5334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ndo un estimador es mejor que otro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257480" y="198108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Siempre es mejor un estimador insesgado a otro sesga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ómo podemos inducir sesgo antes de hacer el estudio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19320" y="4495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ndo un estimador es mejor que otro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5:48:27Z</dcterms:created>
  <dc:creator>cmorales</dc:creator>
  <dc:description/>
  <dc:language>en-US</dc:language>
  <cp:lastModifiedBy>csimmonds</cp:lastModifiedBy>
  <dcterms:modified xsi:type="dcterms:W3CDTF">2004-12-21T01:44:10Z</dcterms:modified>
  <cp:revision>50</cp:revision>
  <dc:subject/>
  <dc:title>ESTADISTICA MA34B 02</dc:title>
</cp:coreProperties>
</file>