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E21-2B5F-422D-BDC3-3E2FF39A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C05-E966-419C-B96B-D8E6F441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ECA-AC4B-4BE4-BD80-0817F357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332-EDF0-46D2-BC72-323D3C30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B72D-65E9-4C3E-9707-EB9FC768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AD9E-055A-4A36-8219-1A0A94E9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7E95-84F0-4B61-BE79-71657811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8593-0F89-4921-9E7C-D42581A9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2B02-7FD6-4472-903C-99FFD095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204C-11CF-4868-A493-8DC1B6D3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654C-6BF0-4A7A-B1AE-4C8CB85E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09E-3793-45ED-9306-0B14D78E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5303-8F21-4337-A2C2-68EED095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A5B2-0FA9-4B74-8217-60C93EE0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7D6F-5002-4ED5-BC98-52309BC1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0C4E-2C35-4683-ACD1-CE81FD9F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DAC4-A359-4427-BA3D-F7D060BE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4ED-2B0A-402B-B6A1-29ECE5B3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31D-EE56-49F6-A20B-E354FE9F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953-078B-4E87-BB60-656B08B3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AB7-8A95-4A1B-A4E5-76C3E88C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9AE-4758-4C7C-8196-C3326E0C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D4B-57DC-4296-8B2E-BD5BFF71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2D0-FC59-49B8-8B22-9F44BF5C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C821-2E65-4013-8EEA-181BEA71FD6C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7470-F5E6-4768-A1CA-46413938EDBA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Propiedades de lo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Estimadores e Intervalos de confianz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alos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 sé exactamente cuál es el valor del pará metro pero puedo asegurar con una probabilidad              que se encuentra en este interval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09880" y="2895480"/>
                <a:ext cx="990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09680" y="3886200"/>
                <a:ext cx="57150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insesgado se define cóm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 sesgo queda definido entonces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2209680"/>
                <a:ext cx="16254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57800" y="4724280"/>
                <a:ext cx="2921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sgo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remos que un estimador es asintóticamente insesgado cuand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consistente cump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334120" y="4114800"/>
                <a:ext cx="28954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4120" y="5600880"/>
                <a:ext cx="27432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486400" y="2286000"/>
                <a:ext cx="2666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∞</m:t>
                        </m:r>
                      </m:e>
                    </m:acc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CM: Error cuadrático medio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rve para comparar estimadores ¿porqué?¿Con cuál nos quedamo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181480" y="1981080"/>
                <a:ext cx="39625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sg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eficien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cantidad de información aportada por la muestra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mbién conocida cómo la cantidad de información de fis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3505320"/>
                <a:ext cx="36990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tra manera de expresar la información aportada por una muestra para un parámetro es a partir de la función de verosimilitud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52680" y="3581280"/>
                <a:ext cx="36990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5486400"/>
                <a:ext cx="2222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 define la cota de Cramer Rao para los estimadores insesgados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19520" y="2971800"/>
                <a:ext cx="38098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in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es consistente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es estimadores son candidatos a cumplir la cota de Cramer Ra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Siempre es mejor un estimador insesgado a otro 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podemos inducir sesgo antes de hacer el estudi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21T01:44:10Z</dcterms:modified>
  <cp:revision>50</cp:revision>
  <dc:subject/>
  <dc:title>ESTADISTICA MA34B 02</dc:title>
</cp:coreProperties>
</file>