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8E43-EA21-46D7-89D9-A109DF21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C4C5-A526-4EBB-A680-EEAE24F2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275F-34BE-4C53-89C8-E1144BB1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0CD7-087A-49B5-A04D-15760776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BA0E-3CA7-4E09-9284-D417769E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2772-184D-4039-BB53-1929527E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022C-7289-4701-9DCD-D0F662C0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B3B2-17F8-4477-AD0F-1ACA15C4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7CB1-46F9-400C-904B-5FBDC48F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2063-D218-4F0A-B811-5DCBD179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5CE8-836F-475A-AED3-9F87E513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5025-DC51-45BA-89E7-D6CD12A8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1426-8255-47C4-BC26-EA516D78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550D-46CA-465A-A4FF-FB4B4A1C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1098-10B7-413F-BA3A-F98DD108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7862-1427-48A6-80E3-BC6EF211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F2E6-D592-42CC-8341-BBADBE42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6A8E-2163-4E23-81D5-A6D2EB0C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13A9-384E-4A01-BFA0-98F2E1D7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BFCA-31C9-4399-9B8B-3B9E6725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5EA1-54A6-4D2B-A884-EE9AF6BD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361E-362C-43A3-B513-DECC1025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AC8E-B3FD-4680-BD8B-653C35EB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1DAC-EED9-4F90-AC85-5EF1FCDD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80F9-CE6A-4D9D-A5C9-E807EC239F57}" type="slidenum"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1B25-EB03-4539-AF3B-9EC8DAEC259E}" type="slidenum"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ESTADISTICA MA34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7652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LORENA CERDA M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lcerda@dim.uchile.c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441972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333333"/>
                </a:solidFill>
                <a:latin typeface="Times New Roman"/>
              </a:rPr>
              <a:t>Propiedades de lo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333333"/>
                </a:solidFill>
                <a:latin typeface="Times New Roman"/>
              </a:rPr>
              <a:t>Estimadores e Intervalos de confianz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3429000"/>
          <a:ext cx="4267080" cy="28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429000"/>
                    <a:ext cx="426708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valos de confi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o sé exactamente cuál es el valor del pará metro pero puedo asegurar con una probabilidad              que se encuentra en este intervalo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809880" y="2895480"/>
                <a:ext cx="9907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209680" y="3886200"/>
                <a:ext cx="57150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θ</m:t>
                    </m:r>
                    <m:r>
                      <m:t xml:space="preserve">&lt;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stimador insesgado se define cómo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l sesgo queda definido entonces cómo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791320" y="2209680"/>
                <a:ext cx="16254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257800" y="4724280"/>
                <a:ext cx="29210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sgo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iremos que un estimador es asintóticamente insesgado cuando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stimador consistente cumpl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334120" y="4114800"/>
                <a:ext cx="289548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acc>
                              <m:accPr>
                                <m:chr m:val="⃗"/>
                              </m:accPr>
                              <m:e/>
                            </m:acc>
                            <m:r>
                              <m:t xml:space="preserve">∞</m:t>
                            </m:r>
                          </m:e>
                        </m:acc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334120" y="5600880"/>
                <a:ext cx="274320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acc>
                              <m:accPr>
                                <m:chr m:val="⃗"/>
                              </m:accPr>
                              <m:e/>
                            </m:acc>
                            <m:r>
                              <m:t xml:space="preserve">∞</m:t>
                            </m:r>
                          </m:e>
                        </m:acc>
                        <m:r>
                          <m:t xml:space="preserve">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acc>
                              <m:accPr>
                                <m:chr m:val="⃗"/>
                              </m:accPr>
                              <m:e/>
                            </m:acc>
                            <m:r>
                              <m:t xml:space="preserve">∞</m:t>
                            </m:r>
                          </m:e>
                        </m:acc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486400" y="2286000"/>
                <a:ext cx="26668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)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  <m:acc>
                          <m:accPr>
                            <m:chr m:val="⃗"/>
                          </m:accPr>
                          <m:e/>
                        </m:acc>
                        <m:r>
                          <m:t xml:space="preserve">∞</m:t>
                        </m:r>
                      </m:e>
                    </m:acc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CM: Error cuadrático medio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irve para comparar estimadores ¿porqué?¿Con cuál nos quedamos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181480" y="1981080"/>
                <a:ext cx="396252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  <m:e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sgo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stimador eficient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efiniremos la cantidad de información aportada por la muestra como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ambién conocida cómo la cantidad de información de fish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438280" y="3505320"/>
                <a:ext cx="369900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n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θ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Otra manera de expresar la información aportada por una muestra para un parámetro es a partir de la función de verosimilitud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352680" y="3581280"/>
                <a:ext cx="369900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θ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114800" y="5486400"/>
                <a:ext cx="222264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I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 define la cota de Cramer Rao para los estimadores insesgados como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819520" y="2971800"/>
                <a:ext cx="380988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57480" y="198108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ndo un estimador es insesga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1828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ndo es consistente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581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les estimadores son candidatos a cumplir la cota de Cramer Rao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5334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ndo un estimador es mejor que otro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257480" y="198108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Siempre es mejor un estimador insesgado a otro sesga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ómo podemos inducir sesgo antes de hacer el estudio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4495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ndo un estimador es mejor que otro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5:48:27Z</dcterms:created>
  <dc:creator>cmorales</dc:creator>
  <dc:description/>
  <dc:language>en-US</dc:language>
  <cp:lastModifiedBy>csimmonds</cp:lastModifiedBy>
  <dcterms:modified xsi:type="dcterms:W3CDTF">2004-12-21T01:44:10Z</dcterms:modified>
  <cp:revision>50</cp:revision>
  <dc:subject/>
  <dc:title>ESTADISTICA MA34B 02</dc:title>
</cp:coreProperties>
</file>