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B554-6579-473F-AB9E-F20D027D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A0D8-8D59-4976-9565-71502D2C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1B9-34AA-4CAA-91B4-E66C1A36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3EA-8C65-46EF-AE9B-2DAAB91F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9686-AD3A-43FE-913C-BC4A8D62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18BE-C5E7-4421-BB29-F13EAE25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E9F3-937C-445B-8E04-47BC842E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61A1-D22F-4A2F-AADB-26B53643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43DF-880E-417E-B764-0CF0B6FC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B6EC-03EC-458B-9E28-360D97A6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9A23-0A58-4A52-87E3-2B50AF25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244-3466-47AD-A604-FAEB8F0C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045E-8A9A-4D64-A90D-0DF9BAEC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6FC2-7413-418C-B924-46F2AD89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CEEF-B1F1-4683-A5C0-B73ACB5E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30A5-B457-4EDB-9C1E-58F36A85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C59E-D230-4D97-A8F6-9D1ABE59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A3E-0BDE-4F87-A0DB-4815EE8F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5E8-17E7-4FB1-916A-E498A149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0E5-D194-4734-B31A-DC2DCA2A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338-1719-48C3-8161-570F77C8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E1C-2219-48CB-9530-39DEC674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FF7-4E72-4535-A5E3-D1B28436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701-A7B5-48B1-92B9-DA57D964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0962-EFDC-4ACA-B553-2EDC4F283E92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C5D9-096A-40B9-9D08-E2C9347F4F5B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4.jpeg"/><Relationship Id="rId50" Type="http://schemas.openxmlformats.org/officeDocument/2006/relationships/image" Target="../media/image4.jpeg"/><Relationship Id="rId51" Type="http://schemas.openxmlformats.org/officeDocument/2006/relationships/image" Target="../media/image4.jpeg"/><Relationship Id="rId52" Type="http://schemas.openxmlformats.org/officeDocument/2006/relationships/image" Target="../media/image4.jpeg"/><Relationship Id="rId53" Type="http://schemas.openxmlformats.org/officeDocument/2006/relationships/image" Target="../media/image4.jpeg"/><Relationship Id="rId54" Type="http://schemas.openxmlformats.org/officeDocument/2006/relationships/image" Target="../media/image4.jpeg"/><Relationship Id="rId55" Type="http://schemas.openxmlformats.org/officeDocument/2006/relationships/image" Target="../media/image4.jpeg"/><Relationship Id="rId56" Type="http://schemas.openxmlformats.org/officeDocument/2006/relationships/image" Target="../media/image4.jpeg"/><Relationship Id="rId57" Type="http://schemas.openxmlformats.org/officeDocument/2006/relationships/image" Target="../media/image4.jpeg"/><Relationship Id="rId58" Type="http://schemas.openxmlformats.org/officeDocument/2006/relationships/image" Target="../media/image4.jpeg"/><Relationship Id="rId59" Type="http://schemas.openxmlformats.org/officeDocument/2006/relationships/image" Target="../media/image4.jpeg"/><Relationship Id="rId60" Type="http://schemas.openxmlformats.org/officeDocument/2006/relationships/image" Target="../media/image4.jpeg"/><Relationship Id="rId61" Type="http://schemas.openxmlformats.org/officeDocument/2006/relationships/image" Target="../media/image4.jpeg"/><Relationship Id="rId62" Type="http://schemas.openxmlformats.org/officeDocument/2006/relationships/image" Target="../media/image4.jpeg"/><Relationship Id="rId63" Type="http://schemas.openxmlformats.org/officeDocument/2006/relationships/image" Target="../media/image4.jpeg"/><Relationship Id="rId64" Type="http://schemas.openxmlformats.org/officeDocument/2006/relationships/image" Target="../media/image4.jpeg"/><Relationship Id="rId65" Type="http://schemas.openxmlformats.org/officeDocument/2006/relationships/image" Target="../media/image4.jpeg"/><Relationship Id="rId66" Type="http://schemas.openxmlformats.org/officeDocument/2006/relationships/image" Target="../media/image4.jpeg"/><Relationship Id="rId67" Type="http://schemas.openxmlformats.org/officeDocument/2006/relationships/image" Target="../media/image4.jpeg"/><Relationship Id="rId68" Type="http://schemas.openxmlformats.org/officeDocument/2006/relationships/image" Target="../media/image4.jpeg"/><Relationship Id="rId69" Type="http://schemas.openxmlformats.org/officeDocument/2006/relationships/image" Target="../media/image4.jpeg"/><Relationship Id="rId70" Type="http://schemas.openxmlformats.org/officeDocument/2006/relationships/image" Target="../media/image4.jpeg"/><Relationship Id="rId7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STADISTICA MA34B 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ORENA CERDA 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cerda@dim.uchile.c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419720"/>
            <a:ext cx="2971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Clase  N° 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Análisis descrip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Construcción de gráficos y resúmen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rdemos que la función de distribución de una variable x viene dada p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la distribución del mínimo y máximo muestral de las sucesivas mustras de x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90920" y="2286000"/>
                <a:ext cx="35877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90920" y="3581280"/>
                <a:ext cx="29509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za mues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04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finiremos la varianza obtenida a partir de una muestra cómo la varianza muestral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71800" y="3429000"/>
                <a:ext cx="380988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n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&gt; quantile(Orange$circumference, c( 0,.25,.5,.75,1 ), na.rm=TRUE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0%   25%   50%   75%  100%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0.0  65.5 115.0 161.5 214.0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4419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 cuartil a               es aquél valor 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8120" y="4267080"/>
                <a:ext cx="990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809880" cy="3801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810240" cy="380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47920" y="1523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olo para variables cuantitativas !!!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áfico de c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8765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cualit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rdinales, nominales, categorías…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podemos calcular nunca media, mínimo, máximo!!!!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olo podemos realizar tablas resúmenes y gráficos de barra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as resúm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371600" y="2590920"/>
          <a:ext cx="7772400" cy="19810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antidad en la muestr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orcentaj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orcentaje acumulad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áficos de ba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594360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n la población y distribución en el muestr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133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n la población tenemos que la variable se distribuye cóm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19520" y="3048120"/>
                <a:ext cx="33271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600200" y="45720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 problema al cuál nos enfrentamos como estadísticos es tratar de estimar la función de densidad y los parámetros que la determina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ció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s referiremos a estimación cuando a partir de unos valores muestrales tratemos de inferir los valores reales de la població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ción entre variab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tes de efectuar cualquier análisis descriptivo sobre una variable es necesario conocer bien la definición de la misma (que significa) y que tipo de variable correspond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l tratamiento dado a los datos dependerá del tipo de variable en estudio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rimer acerc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04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 x es una variable cuantitativ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estimarlo empíricamente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19520" y="2666880"/>
                <a:ext cx="32004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981080" y="4419720"/>
                <a:ext cx="541044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vorable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e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mpírica variable cuant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uego definiremos la distribución empírica có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a función cumple con el requisito de pertenecer al intervalo 0,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057400" y="2971800"/>
                <a:ext cx="3809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rd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ordemos que si una variable de medición sobre un experimento puede tomar solo dos resultados, decimos que esta se distribuye según un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jm son: cara ó sello, blanco ó negro, voto ó no voto, etc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uego podemos transformar la distribución empírica en una </a:t>
            </a: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Binomial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(ver en clase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mpírica variable cual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efiniremos la distribución empírica de una variable cualitativa cómo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sta función cumple con el requisito de pertenecer al intervalo 0,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 igual que en el caso cuantitativo podemos asociar esta distribución a una distribución 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08320" y="2971800"/>
                <a:ext cx="33066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rd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cuantitativ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stograma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s, mínimos, máximos, desv. Estándar, etc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12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álisis de diámetro de unas naranjas en distintos árbol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mean(Orange$circumference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1] 115.857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sd(Orange$circumference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1] 57.48818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quantile(Orange$circumference, c( 0,.25,.5,.75,1 )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0%   25%   50%   75%  100%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30.0  65.5 115.0 161.5 214.0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Qué es la media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el mínimo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el máximo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Que es la varianza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ómo obtener los cuartiles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ongamos una m.a.s de una variable en estudio x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876920" y="5105520"/>
                <a:ext cx="2438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1523880" y="2057400"/>
            <a:ext cx="2994120" cy="3200400"/>
            <a:chOff x="1523880" y="2057400"/>
            <a:chExt cx="2994120" cy="32004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1855800" y="27432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2361960" y="4648320"/>
              <a:ext cx="3812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2286000" y="40384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228600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2971800" y="41911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220968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2590560" y="25909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251460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243828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2133360" y="3200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2666880" y="3048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20574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3"/>
            <a:stretch/>
          </p:blipFill>
          <p:spPr>
            <a:xfrm>
              <a:off x="2286000" y="23623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4"/>
            <a:stretch/>
          </p:blipFill>
          <p:spPr>
            <a:xfrm>
              <a:off x="2819160" y="34290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5"/>
            <a:stretch/>
          </p:blipFill>
          <p:spPr>
            <a:xfrm>
              <a:off x="29718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6"/>
            <a:stretch/>
          </p:blipFill>
          <p:spPr>
            <a:xfrm>
              <a:off x="198108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7"/>
            <a:stretch/>
          </p:blipFill>
          <p:spPr>
            <a:xfrm>
              <a:off x="2895480" y="3886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8"/>
            <a:stretch/>
          </p:blipFill>
          <p:spPr>
            <a:xfrm>
              <a:off x="297180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9"/>
            <a:stretch/>
          </p:blipFill>
          <p:spPr>
            <a:xfrm>
              <a:off x="3047760" y="36576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0"/>
            <a:stretch/>
          </p:blipFill>
          <p:spPr>
            <a:xfrm>
              <a:off x="2514600" y="2057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1"/>
            <a:stretch/>
          </p:blipFill>
          <p:spPr>
            <a:xfrm>
              <a:off x="2895480" y="2438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2666880" y="4572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266688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2971800" y="21337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5"/>
            <a:stretch/>
          </p:blipFill>
          <p:spPr>
            <a:xfrm>
              <a:off x="3581280" y="26668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6"/>
            <a:stretch/>
          </p:blipFill>
          <p:spPr>
            <a:xfrm>
              <a:off x="3504960" y="34290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7"/>
            <a:stretch/>
          </p:blipFill>
          <p:spPr>
            <a:xfrm>
              <a:off x="3276360" y="2666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8"/>
            <a:stretch/>
          </p:blipFill>
          <p:spPr>
            <a:xfrm>
              <a:off x="3276360" y="3809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9"/>
            <a:stretch/>
          </p:blipFill>
          <p:spPr>
            <a:xfrm>
              <a:off x="3276360" y="32004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0"/>
            <a:stretch/>
          </p:blipFill>
          <p:spPr>
            <a:xfrm>
              <a:off x="2971800" y="47242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1"/>
            <a:stretch/>
          </p:blipFill>
          <p:spPr>
            <a:xfrm>
              <a:off x="3962160" y="2666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2"/>
            <a:stretch/>
          </p:blipFill>
          <p:spPr>
            <a:xfrm>
              <a:off x="3581280" y="21337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3"/>
            <a:stretch/>
          </p:blipFill>
          <p:spPr>
            <a:xfrm>
              <a:off x="3886200" y="36576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4"/>
            <a:stretch/>
          </p:blipFill>
          <p:spPr>
            <a:xfrm>
              <a:off x="3809880" y="31240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5"/>
            <a:stretch/>
          </p:blipFill>
          <p:spPr>
            <a:xfrm>
              <a:off x="3276360" y="43434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6"/>
            <a:stretch/>
          </p:blipFill>
          <p:spPr>
            <a:xfrm>
              <a:off x="3581280" y="3962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7"/>
            <a:stretch/>
          </p:blipFill>
          <p:spPr>
            <a:xfrm>
              <a:off x="2666880" y="2209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8"/>
            <a:stretch/>
          </p:blipFill>
          <p:spPr>
            <a:xfrm>
              <a:off x="2819160" y="2362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9"/>
            <a:stretch/>
          </p:blipFill>
          <p:spPr>
            <a:xfrm>
              <a:off x="29718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0"/>
            <a:stretch/>
          </p:blipFill>
          <p:spPr>
            <a:xfrm>
              <a:off x="3124080" y="2666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1"/>
            <a:stretch/>
          </p:blipFill>
          <p:spPr>
            <a:xfrm>
              <a:off x="3276360" y="2819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2"/>
            <a:stretch/>
          </p:blipFill>
          <p:spPr>
            <a:xfrm>
              <a:off x="152388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43"/>
            <a:stretch/>
          </p:blipFill>
          <p:spPr>
            <a:xfrm>
              <a:off x="342900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4"/>
            <a:stretch/>
          </p:blipFill>
          <p:spPr>
            <a:xfrm>
              <a:off x="3276360" y="2133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5"/>
            <a:stretch/>
          </p:blipFill>
          <p:spPr>
            <a:xfrm>
              <a:off x="411480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6"/>
            <a:stretch/>
          </p:blipFill>
          <p:spPr>
            <a:xfrm>
              <a:off x="4190760" y="34290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7"/>
            <a:stretch/>
          </p:blipFill>
          <p:spPr>
            <a:xfrm>
              <a:off x="4190760" y="3048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48"/>
            <a:stretch/>
          </p:blipFill>
          <p:spPr>
            <a:xfrm>
              <a:off x="388620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49"/>
            <a:stretch/>
          </p:blipFill>
          <p:spPr>
            <a:xfrm>
              <a:off x="1600200" y="4267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50"/>
            <a:stretch/>
          </p:blipFill>
          <p:spPr>
            <a:xfrm>
              <a:off x="220968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51"/>
            <a:stretch/>
          </p:blipFill>
          <p:spPr>
            <a:xfrm>
              <a:off x="1676160" y="38098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52"/>
            <a:stretch/>
          </p:blipFill>
          <p:spPr>
            <a:xfrm>
              <a:off x="1981080" y="4191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3"/>
            <a:stretch/>
          </p:blipFill>
          <p:spPr>
            <a:xfrm>
              <a:off x="198108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54"/>
            <a:stretch/>
          </p:blipFill>
          <p:spPr>
            <a:xfrm>
              <a:off x="3657600" y="4343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55"/>
            <a:stretch/>
          </p:blipFill>
          <p:spPr>
            <a:xfrm>
              <a:off x="335268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6"/>
            <a:stretch/>
          </p:blipFill>
          <p:spPr>
            <a:xfrm>
              <a:off x="1523880" y="3352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57"/>
            <a:stretch/>
          </p:blipFill>
          <p:spPr>
            <a:xfrm>
              <a:off x="18288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4648320" y="1828800"/>
            <a:ext cx="457200" cy="3124080"/>
          </a:xfrm>
          <a:custGeom>
            <a:avLst/>
            <a:gdLst>
              <a:gd name="textAreaLeft" fmla="*/ 0 w 457200"/>
              <a:gd name="textAreaRight" fmla="*/ 16488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257800" y="2286000"/>
            <a:ext cx="1012680" cy="2666880"/>
            <a:chOff x="5257800" y="2286000"/>
            <a:chExt cx="1012680" cy="2666880"/>
          </a:xfrm>
        </p:grpSpPr>
        <p:pic>
          <p:nvPicPr>
            <p:cNvPr id="179" name="" descr=""/>
            <p:cNvPicPr/>
            <p:nvPr/>
          </p:nvPicPr>
          <p:blipFill>
            <a:blip r:embed="rId58"/>
            <a:stretch/>
          </p:blipFill>
          <p:spPr>
            <a:xfrm>
              <a:off x="5257800" y="2286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59"/>
            <a:stretch/>
          </p:blipFill>
          <p:spPr>
            <a:xfrm>
              <a:off x="5410080" y="24382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60"/>
            <a:stretch/>
          </p:blipFill>
          <p:spPr>
            <a:xfrm>
              <a:off x="5562720" y="2590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61"/>
            <a:stretch/>
          </p:blipFill>
          <p:spPr>
            <a:xfrm>
              <a:off x="57150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62"/>
            <a:stretch/>
          </p:blipFill>
          <p:spPr>
            <a:xfrm>
              <a:off x="525780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63"/>
            <a:stretch/>
          </p:blipFill>
          <p:spPr>
            <a:xfrm>
              <a:off x="5410080" y="3200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64"/>
            <a:stretch/>
          </p:blipFill>
          <p:spPr>
            <a:xfrm>
              <a:off x="579132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65"/>
            <a:stretch/>
          </p:blipFill>
          <p:spPr>
            <a:xfrm>
              <a:off x="556272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66"/>
            <a:stretch/>
          </p:blipFill>
          <p:spPr>
            <a:xfrm>
              <a:off x="533412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67"/>
            <a:stretch/>
          </p:blipFill>
          <p:spPr>
            <a:xfrm>
              <a:off x="5867280" y="3962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68"/>
            <a:stretch/>
          </p:blipFill>
          <p:spPr>
            <a:xfrm>
              <a:off x="5638680" y="42670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9"/>
            <a:stretch/>
          </p:blipFill>
          <p:spPr>
            <a:xfrm>
              <a:off x="556272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70"/>
            <a:stretch/>
          </p:blipFill>
          <p:spPr>
            <a:xfrm>
              <a:off x="5943600" y="441972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ría tomar varias muestras de tamañ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 una población infinit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uanto vale la esperanza de la media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uanto vale la varianza de la media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2286000"/>
                <a:ext cx="23875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muestr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a varianza en una población finita y con un muestreo con reeplazo viene dada po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895480" y="3962520"/>
                <a:ext cx="36640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1371600" y="5334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¿Qué problemas tiene la media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ría tomar varias muestras de tamañ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conocer la distribución del mínimo muestral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conocer la distribución del máximo muestral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05120" y="2286000"/>
                <a:ext cx="23875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48:27Z</dcterms:created>
  <dc:creator>cmorales</dc:creator>
  <dc:description/>
  <dc:language>en-US</dc:language>
  <cp:lastModifiedBy>csimmonds</cp:lastModifiedBy>
  <dcterms:modified xsi:type="dcterms:W3CDTF">2004-12-14T01:14:22Z</dcterms:modified>
  <cp:revision>39</cp:revision>
  <dc:subject/>
  <dc:title>ESTADISTICA MA34B 02</dc:title>
</cp:coreProperties>
</file>