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A41-36C7-4F92-9480-D8989A16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E42-FDF7-4019-8912-FAB2C1BF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BA1-385E-4ACC-A66A-6B3BABAD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4B0-8F61-471C-9255-645C618E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510A-DC13-4AA1-9BFD-EB8CAFF8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6B8-27FA-4757-8678-0E7514B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82ED-C797-4B86-B80E-3C04C1E3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00B3-2EA4-41DE-8F4C-EAFBD0AB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2388-15F8-4FA0-94C0-8410452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2339-C14A-42E0-BF3C-866201A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4ED8-DAA9-4D90-A450-6931A50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80D-B9A2-47DC-85DE-3E1806DE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F8B8-99D8-4EA6-8074-52C6EC0E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58A0-1C33-4358-B6DC-4FEE9B1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5F6-CAFE-4E36-9883-EDABC6C4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EBA3-0D18-4477-9F27-4F7A9FC7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4015-5575-4569-93B9-1AF7DB96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5BE-2433-4F70-9A16-E4661477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006-C9C1-4A71-B57F-C8E36F89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20E-CABA-4A95-AE38-C5D88E41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3DD-E71D-4064-A061-1A107AA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3D6-5B24-4AC6-9BA1-DFAFE1F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BA4-4C6B-4BBF-BA29-54E1667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5FC-559D-4009-965E-6109DDC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1D0-030A-4946-BDA4-7444A67CEFC3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C280-F948-4BB9-A1CC-999101BC1878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4.jpeg"/><Relationship Id="rId61" Type="http://schemas.openxmlformats.org/officeDocument/2006/relationships/image" Target="../media/image4.jpeg"/><Relationship Id="rId62" Type="http://schemas.openxmlformats.org/officeDocument/2006/relationships/image" Target="../media/image4.jpeg"/><Relationship Id="rId63" Type="http://schemas.openxmlformats.org/officeDocument/2006/relationships/image" Target="../media/image4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lase  N° 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Análisis descrip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onstrucción de gráficos y resúmen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emos que la función de distribución de una variable x viene dada 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la distribución del mínimo y máximo muestral de las sucesivas mustras de x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90920" y="2286000"/>
                <a:ext cx="3587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90920" y="3581280"/>
                <a:ext cx="295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za mues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varianza obtenida a partir de una muestra cómo la varianza muestral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71800" y="3429000"/>
                <a:ext cx="38098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19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cuartil a               es aquél valor 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4267080"/>
                <a:ext cx="99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810240" cy="38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olo para variables cuantitativas !!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 de c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765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lit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dinales, nominales, categorías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podemos calcular nunca media, mínimo, máximo!!!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lo podemos realizar tablas resúmenes y gráficos de barr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as resúm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71600" y="2590920"/>
          <a:ext cx="7772400" cy="19810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antidad en la muestr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 acumulad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s de ba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9436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n la población y distribución en el muest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n la población tenemos que la variable se distribuye cóm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19520" y="3048120"/>
                <a:ext cx="33271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600200" y="4572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problema al cuál nos enfrentamos como estadísticos es tratar de estimar la función de densidad y los parámetros que la determina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s referiremos a estimación cuando a partir de unos valores muestrales tratemos de inferir los valores reales de la població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ción entre vari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tes de efectuar cualquier análisis descriptivo sobre una variable es necesario conocer bien la definición de la misma (que significa) y que tipo de variable correspond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l tratamiento dado a los datos dependerá del tipo de variable en estudi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rimer acerc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 x es una variable cuantitativ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estimarlo empíricamente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2666880"/>
                <a:ext cx="3200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81080" y="4419720"/>
                <a:ext cx="54104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vorable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e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nt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definiremos la distribución empírica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2971800"/>
                <a:ext cx="3809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ordemos que si una variable de medición sobre un experimento puede tomar solo dos resultados, decimos que esta se distribuye según un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jm son: cara ó sello, blanco ó negro, voto ó no voto, etc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podemos transformar la distribución empírica en una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Binomi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ver en clas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remos la distribución empírica de una variable cualitativa cómo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 igual que en el caso cuantitativo podemos asociar esta distribución a una distribución 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08320" y="2971800"/>
                <a:ext cx="3306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ntitativ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stogram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s, mínimos, máximos, desv. Estándar, etc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12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álisis de diámetro de unas naranjas en distintos árbol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mean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115.857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sd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57.4881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é es la medi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ín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áx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e es la varianz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ómo obtener los cuartile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ongamos una m.a.s de una variable en estudio 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876920" y="51055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1523880" y="2057400"/>
            <a:ext cx="2994120" cy="3200400"/>
            <a:chOff x="1523880" y="2057400"/>
            <a:chExt cx="2994120" cy="32004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855800" y="27432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361960" y="46483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0384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2860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971800" y="41911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22096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2590560" y="2590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251460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4382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213336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266688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2286000" y="2362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28191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5"/>
            <a:stretch/>
          </p:blipFill>
          <p:spPr>
            <a:xfrm>
              <a:off x="29718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6"/>
            <a:stretch/>
          </p:blipFill>
          <p:spPr>
            <a:xfrm>
              <a:off x="198108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7"/>
            <a:stretch/>
          </p:blipFill>
          <p:spPr>
            <a:xfrm>
              <a:off x="28954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8"/>
            <a:stretch/>
          </p:blipFill>
          <p:spPr>
            <a:xfrm>
              <a:off x="297180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9"/>
            <a:stretch/>
          </p:blipFill>
          <p:spPr>
            <a:xfrm>
              <a:off x="3047760" y="3657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251460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2895480" y="2438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26668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266688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297180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5"/>
            <a:stretch/>
          </p:blipFill>
          <p:spPr>
            <a:xfrm>
              <a:off x="3581280" y="2666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6"/>
            <a:stretch/>
          </p:blipFill>
          <p:spPr>
            <a:xfrm>
              <a:off x="3504960" y="34290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7"/>
            <a:stretch/>
          </p:blipFill>
          <p:spPr>
            <a:xfrm>
              <a:off x="32763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8"/>
            <a:stretch/>
          </p:blipFill>
          <p:spPr>
            <a:xfrm>
              <a:off x="3276360" y="3809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9"/>
            <a:stretch/>
          </p:blipFill>
          <p:spPr>
            <a:xfrm>
              <a:off x="3276360" y="3200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0"/>
            <a:stretch/>
          </p:blipFill>
          <p:spPr>
            <a:xfrm>
              <a:off x="29718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1"/>
            <a:stretch/>
          </p:blipFill>
          <p:spPr>
            <a:xfrm>
              <a:off x="39621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2"/>
            <a:stretch/>
          </p:blipFill>
          <p:spPr>
            <a:xfrm>
              <a:off x="358128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3"/>
            <a:stretch/>
          </p:blipFill>
          <p:spPr>
            <a:xfrm>
              <a:off x="3886200" y="36576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4"/>
            <a:stretch/>
          </p:blipFill>
          <p:spPr>
            <a:xfrm>
              <a:off x="3809880" y="3124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5"/>
            <a:stretch/>
          </p:blipFill>
          <p:spPr>
            <a:xfrm>
              <a:off x="3276360" y="4343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6"/>
            <a:stretch/>
          </p:blipFill>
          <p:spPr>
            <a:xfrm>
              <a:off x="3581280" y="3962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7"/>
            <a:stretch/>
          </p:blipFill>
          <p:spPr>
            <a:xfrm>
              <a:off x="266688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8"/>
            <a:stretch/>
          </p:blipFill>
          <p:spPr>
            <a:xfrm>
              <a:off x="2819160" y="2362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9"/>
            <a:stretch/>
          </p:blipFill>
          <p:spPr>
            <a:xfrm>
              <a:off x="29718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0"/>
            <a:stretch/>
          </p:blipFill>
          <p:spPr>
            <a:xfrm>
              <a:off x="3124080" y="2666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1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2"/>
            <a:stretch/>
          </p:blipFill>
          <p:spPr>
            <a:xfrm>
              <a:off x="152388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3"/>
            <a:stretch/>
          </p:blipFill>
          <p:spPr>
            <a:xfrm>
              <a:off x="34290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4"/>
            <a:stretch/>
          </p:blipFill>
          <p:spPr>
            <a:xfrm>
              <a:off x="3276360" y="2133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5"/>
            <a:stretch/>
          </p:blipFill>
          <p:spPr>
            <a:xfrm>
              <a:off x="4114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6"/>
            <a:stretch/>
          </p:blipFill>
          <p:spPr>
            <a:xfrm>
              <a:off x="41907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7"/>
            <a:stretch/>
          </p:blipFill>
          <p:spPr>
            <a:xfrm>
              <a:off x="41907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8"/>
            <a:stretch/>
          </p:blipFill>
          <p:spPr>
            <a:xfrm>
              <a:off x="38862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9"/>
            <a:stretch/>
          </p:blipFill>
          <p:spPr>
            <a:xfrm>
              <a:off x="1600200" y="4267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0"/>
            <a:stretch/>
          </p:blipFill>
          <p:spPr>
            <a:xfrm>
              <a:off x="22096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1"/>
            <a:stretch/>
          </p:blipFill>
          <p:spPr>
            <a:xfrm>
              <a:off x="167616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2"/>
            <a:stretch/>
          </p:blipFill>
          <p:spPr>
            <a:xfrm>
              <a:off x="1981080" y="4191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3"/>
            <a:stretch/>
          </p:blipFill>
          <p:spPr>
            <a:xfrm>
              <a:off x="19810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4"/>
            <a:stretch/>
          </p:blipFill>
          <p:spPr>
            <a:xfrm>
              <a:off x="365760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5"/>
            <a:stretch/>
          </p:blipFill>
          <p:spPr>
            <a:xfrm>
              <a:off x="33526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6"/>
            <a:stretch/>
          </p:blipFill>
          <p:spPr>
            <a:xfrm>
              <a:off x="15238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7"/>
            <a:stretch/>
          </p:blipFill>
          <p:spPr>
            <a:xfrm>
              <a:off x="1828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648320" y="18288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257800" y="2286000"/>
            <a:ext cx="1012680" cy="2666880"/>
            <a:chOff x="5257800" y="2286000"/>
            <a:chExt cx="1012680" cy="2666880"/>
          </a:xfrm>
        </p:grpSpPr>
        <p:pic>
          <p:nvPicPr>
            <p:cNvPr id="179" name="" descr=""/>
            <p:cNvPicPr/>
            <p:nvPr/>
          </p:nvPicPr>
          <p:blipFill>
            <a:blip r:embed="rId58"/>
            <a:stretch/>
          </p:blipFill>
          <p:spPr>
            <a:xfrm>
              <a:off x="5257800" y="2286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9"/>
            <a:stretch/>
          </p:blipFill>
          <p:spPr>
            <a:xfrm>
              <a:off x="5410080" y="24382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60"/>
            <a:stretch/>
          </p:blipFill>
          <p:spPr>
            <a:xfrm>
              <a:off x="5562720" y="2590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1"/>
            <a:stretch/>
          </p:blipFill>
          <p:spPr>
            <a:xfrm>
              <a:off x="57150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2"/>
            <a:stretch/>
          </p:blipFill>
          <p:spPr>
            <a:xfrm>
              <a:off x="52578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3"/>
            <a:stretch/>
          </p:blipFill>
          <p:spPr>
            <a:xfrm>
              <a:off x="541008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4"/>
            <a:stretch/>
          </p:blipFill>
          <p:spPr>
            <a:xfrm>
              <a:off x="579132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5"/>
            <a:stretch/>
          </p:blipFill>
          <p:spPr>
            <a:xfrm>
              <a:off x="556272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6"/>
            <a:stretch/>
          </p:blipFill>
          <p:spPr>
            <a:xfrm>
              <a:off x="533412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7"/>
            <a:stretch/>
          </p:blipFill>
          <p:spPr>
            <a:xfrm>
              <a:off x="5867280" y="3962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68"/>
            <a:stretch/>
          </p:blipFill>
          <p:spPr>
            <a:xfrm>
              <a:off x="563868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9"/>
            <a:stretch/>
          </p:blipFill>
          <p:spPr>
            <a:xfrm>
              <a:off x="556272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70"/>
            <a:stretch/>
          </p:blipFill>
          <p:spPr>
            <a:xfrm>
              <a:off x="5943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 una población infinit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esper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vari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muest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 varianza en una población finita y con un muestreo con reeplazo viene dada p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95480" y="3962520"/>
                <a:ext cx="3664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37160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Qué problemas tiene la media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ín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áx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14T01:14:22Z</dcterms:modified>
  <cp:revision>39</cp:revision>
  <dc:subject/>
  <dc:title>ESTADISTICA MA34B 02</dc:title>
</cp:coreProperties>
</file>