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E49-3DF8-4491-B022-825B3FA6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916F-3E7F-4E36-854F-201B9614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8B38-ED59-47D3-B5FC-3CEE8220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809-4458-45BA-98D4-A6D6E758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5187-112C-47BF-8B7C-12CBFBD7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5E15-7490-4F44-BDC5-06C1D562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00A4-B373-4956-887C-A0C5A9C1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2F15-1AB1-4866-B288-D28A1162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3A0C-F460-45D9-8CF9-4902A1EC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E1E4-2321-4808-BC32-7DE9CCDB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E2CF-6F9A-4B9E-BEDD-5E4AC103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635-4E9F-4F1B-BFA9-EC371551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528C-2448-411A-AA5A-D39810D8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0E51-41AC-4A4C-88D4-09CB34F5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CB17-E5BC-424F-9632-186609F4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DAE4-FF63-42AE-95C0-D3369F6F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0A34-0507-4E76-8725-2D8E48E4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307-E934-4EC1-ADD8-1776B88E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525-3943-40C3-BC33-F86BDB45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F5F-66A3-4606-8A1A-4D18072C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B61-2421-46AF-94B7-FB2D9B1D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104-FCD6-43F7-B44E-DFB94A06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53C-1C90-42EE-BDC7-966D2378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09F-BAFD-482C-AE1E-901BCF41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810B-9599-4914-A443-87B616785618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274C-63FA-4BD8-82FA-28E05ACC69D4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4.jpeg"/><Relationship Id="rId50" Type="http://schemas.openxmlformats.org/officeDocument/2006/relationships/image" Target="../media/image4.jpeg"/><Relationship Id="rId51" Type="http://schemas.openxmlformats.org/officeDocument/2006/relationships/image" Target="../media/image4.jpeg"/><Relationship Id="rId52" Type="http://schemas.openxmlformats.org/officeDocument/2006/relationships/image" Target="../media/image4.jpeg"/><Relationship Id="rId53" Type="http://schemas.openxmlformats.org/officeDocument/2006/relationships/image" Target="../media/image4.jpeg"/><Relationship Id="rId54" Type="http://schemas.openxmlformats.org/officeDocument/2006/relationships/image" Target="../media/image4.jpeg"/><Relationship Id="rId55" Type="http://schemas.openxmlformats.org/officeDocument/2006/relationships/image" Target="../media/image4.jpeg"/><Relationship Id="rId56" Type="http://schemas.openxmlformats.org/officeDocument/2006/relationships/image" Target="../media/image4.jpeg"/><Relationship Id="rId57" Type="http://schemas.openxmlformats.org/officeDocument/2006/relationships/image" Target="../media/image4.jpeg"/><Relationship Id="rId58" Type="http://schemas.openxmlformats.org/officeDocument/2006/relationships/image" Target="../media/image4.jpeg"/><Relationship Id="rId59" Type="http://schemas.openxmlformats.org/officeDocument/2006/relationships/image" Target="../media/image4.jpeg"/><Relationship Id="rId60" Type="http://schemas.openxmlformats.org/officeDocument/2006/relationships/image" Target="../media/image4.jpeg"/><Relationship Id="rId61" Type="http://schemas.openxmlformats.org/officeDocument/2006/relationships/image" Target="../media/image4.jpeg"/><Relationship Id="rId62" Type="http://schemas.openxmlformats.org/officeDocument/2006/relationships/image" Target="../media/image4.jpeg"/><Relationship Id="rId63" Type="http://schemas.openxmlformats.org/officeDocument/2006/relationships/image" Target="../media/image4.jpeg"/><Relationship Id="rId64" Type="http://schemas.openxmlformats.org/officeDocument/2006/relationships/image" Target="../media/image4.jpeg"/><Relationship Id="rId65" Type="http://schemas.openxmlformats.org/officeDocument/2006/relationships/image" Target="../media/image4.jpeg"/><Relationship Id="rId66" Type="http://schemas.openxmlformats.org/officeDocument/2006/relationships/image" Target="../media/image4.jpeg"/><Relationship Id="rId67" Type="http://schemas.openxmlformats.org/officeDocument/2006/relationships/image" Target="../media/image4.jpeg"/><Relationship Id="rId68" Type="http://schemas.openxmlformats.org/officeDocument/2006/relationships/image" Target="../media/image4.jpeg"/><Relationship Id="rId69" Type="http://schemas.openxmlformats.org/officeDocument/2006/relationships/image" Target="../media/image4.jpeg"/><Relationship Id="rId70" Type="http://schemas.openxmlformats.org/officeDocument/2006/relationships/image" Target="../media/image4.jpeg"/><Relationship Id="rId7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STADISTICA MA34B 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ORENA CERDA M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cerda@dim.uchile.c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419720"/>
            <a:ext cx="2971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Clase  N° 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Análisis descrip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Construcción de gráficos y resúmen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42900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rdemos que la función de distribución de una variable x viene dada p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uál es la distribución del mínimo y máximo muestral de las sucesivas mustras de x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90920" y="2286000"/>
                <a:ext cx="35877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90920" y="3581280"/>
                <a:ext cx="29509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za mues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04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finiremos la varianza obtenida a partir de una muestra cómo la varianza muestral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71800" y="3429000"/>
                <a:ext cx="380988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an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&gt; quantile(Orange$circumference, c( 0,.25,.5,.75,1 ), na.rm=TRUE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0%   25%   50%   75%  100%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0.0  65.5 115.0 161.5 214.0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4419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 cuartil a               es aquél valor 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8120" y="4267080"/>
                <a:ext cx="990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809880" cy="3801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810240" cy="3801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47920" y="1523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olo para variables cuantitativas !!!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áfico de c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8765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cualit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rdinales, nominales, categorías…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podemos calcular nunca media, mínimo, máximo!!!!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olo podemos realizar tablas resúmenes y gráficos de barra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as resúm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371600" y="2590920"/>
          <a:ext cx="7772400" cy="19810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Variab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antidad en la muestr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orcentaj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orcentaje acumulad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áficos de ba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594360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ción en la población y distribución en el muestr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2133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n la población tenemos que la variable se distribuye cóm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819520" y="3048120"/>
                <a:ext cx="33271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600200" y="45720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 problema al cuál nos enfrentamos como estadísticos es tratar de estimar la función de densidad y los parámetros que la determina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ció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s referiremos a estimación cuando a partir de unos valores muestrales tratemos de inferir los valores reales de la població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ción entre variab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tes de efectuar cualquier análisis descriptivo sobre una variable es necesario conocer bien la definición de la misma (que significa) y que tipo de variable correspond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l tratamiento dado a los datos dependerá del tipo de variable en estudio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rimer acerc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04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 x es una variable cuantitativ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ómo estimarlo empíricamente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819520" y="2666880"/>
                <a:ext cx="32004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981080" y="4419720"/>
                <a:ext cx="541044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vorable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e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ción empírica variable cuantit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689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uego definiremos la distribución empírica có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a función cumple con el requisito de pertenecer al intervalo 0,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057400" y="2971800"/>
                <a:ext cx="38098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rd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ordemos que si una variable de medición sobre un experimento puede tomar solo dos resultados, decimos que esta se distribuye según un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jm son: cara ó sello, blanco ó negro, voto ó no voto, etc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uego podemos transformar la distribución empírica en una </a:t>
            </a: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Binomial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(ver en clases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ción empírica variable cualit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689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efiniremos la distribución empírica de una variable cualitativa cómo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sta función cumple con el requisito de pertenecer al intervalo 0,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l igual que en el caso cuantitativo podemos asociar esta distribución a una distribución 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08320" y="2971800"/>
                <a:ext cx="33066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rd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cuantitativ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stograma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s, mínimos, máximos, desv. Estándar, etc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12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nálisis de diámetro de unas naranjas en distintos árbol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&gt; mean(Orange$circumference, na.rm=TRU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1] 115.857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&gt; sd(Orange$circumference, na.rm=TRU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1] 57.48818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&gt; quantile(Orange$circumference, c( 0,.25,.5,.75,1 ), na.rm=TRU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0%   25%   50%   75%  100%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30.0  65.5 115.0 161.5 214.0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Qué es la media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uál es el mínimo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uál es el máximo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Que es la varianza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ómo obtener los cuartiles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ongamos una m.a.s de una variable en estudio x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876920" y="5105520"/>
                <a:ext cx="2438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9" name=""/>
          <p:cNvGrpSpPr/>
          <p:nvPr/>
        </p:nvGrpSpPr>
        <p:grpSpPr>
          <a:xfrm>
            <a:off x="1523880" y="2057400"/>
            <a:ext cx="2994120" cy="3200400"/>
            <a:chOff x="1523880" y="2057400"/>
            <a:chExt cx="2994120" cy="320040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1855800" y="27432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2361960" y="4648320"/>
              <a:ext cx="38124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2286000" y="40384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2286000" y="2895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2971800" y="41911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2209680" y="3657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2590560" y="25909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2514600" y="3733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9"/>
            <a:stretch/>
          </p:blipFill>
          <p:spPr>
            <a:xfrm>
              <a:off x="2438280" y="3276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0"/>
            <a:stretch/>
          </p:blipFill>
          <p:spPr>
            <a:xfrm>
              <a:off x="2133360" y="32004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2666880" y="30481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2"/>
            <a:stretch/>
          </p:blipFill>
          <p:spPr>
            <a:xfrm>
              <a:off x="2057400" y="2514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3"/>
            <a:stretch/>
          </p:blipFill>
          <p:spPr>
            <a:xfrm>
              <a:off x="2286000" y="23623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4"/>
            <a:stretch/>
          </p:blipFill>
          <p:spPr>
            <a:xfrm>
              <a:off x="2819160" y="34290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5"/>
            <a:stretch/>
          </p:blipFill>
          <p:spPr>
            <a:xfrm>
              <a:off x="2971800" y="2743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6"/>
            <a:stretch/>
          </p:blipFill>
          <p:spPr>
            <a:xfrm>
              <a:off x="1981080" y="3809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7"/>
            <a:stretch/>
          </p:blipFill>
          <p:spPr>
            <a:xfrm>
              <a:off x="2895480" y="3886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8"/>
            <a:stretch/>
          </p:blipFill>
          <p:spPr>
            <a:xfrm>
              <a:off x="2971800" y="3124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9"/>
            <a:stretch/>
          </p:blipFill>
          <p:spPr>
            <a:xfrm>
              <a:off x="3047760" y="36576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0"/>
            <a:stretch/>
          </p:blipFill>
          <p:spPr>
            <a:xfrm>
              <a:off x="2514600" y="2057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1"/>
            <a:stretch/>
          </p:blipFill>
          <p:spPr>
            <a:xfrm>
              <a:off x="2895480" y="2438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2666880" y="4572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2666880" y="4114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2971800" y="21337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5"/>
            <a:stretch/>
          </p:blipFill>
          <p:spPr>
            <a:xfrm>
              <a:off x="3581280" y="26668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6"/>
            <a:stretch/>
          </p:blipFill>
          <p:spPr>
            <a:xfrm>
              <a:off x="3504960" y="34290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7"/>
            <a:stretch/>
          </p:blipFill>
          <p:spPr>
            <a:xfrm>
              <a:off x="3276360" y="26668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8"/>
            <a:stretch/>
          </p:blipFill>
          <p:spPr>
            <a:xfrm>
              <a:off x="3276360" y="38098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9"/>
            <a:stretch/>
          </p:blipFill>
          <p:spPr>
            <a:xfrm>
              <a:off x="3276360" y="32004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30"/>
            <a:stretch/>
          </p:blipFill>
          <p:spPr>
            <a:xfrm>
              <a:off x="2971800" y="47242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1"/>
            <a:stretch/>
          </p:blipFill>
          <p:spPr>
            <a:xfrm>
              <a:off x="3962160" y="26668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2"/>
            <a:stretch/>
          </p:blipFill>
          <p:spPr>
            <a:xfrm>
              <a:off x="3581280" y="21337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3"/>
            <a:stretch/>
          </p:blipFill>
          <p:spPr>
            <a:xfrm>
              <a:off x="3886200" y="36576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4"/>
            <a:stretch/>
          </p:blipFill>
          <p:spPr>
            <a:xfrm>
              <a:off x="3809880" y="31240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5"/>
            <a:stretch/>
          </p:blipFill>
          <p:spPr>
            <a:xfrm>
              <a:off x="3276360" y="43434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36"/>
            <a:stretch/>
          </p:blipFill>
          <p:spPr>
            <a:xfrm>
              <a:off x="3581280" y="39625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7"/>
            <a:stretch/>
          </p:blipFill>
          <p:spPr>
            <a:xfrm>
              <a:off x="2666880" y="2209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38"/>
            <a:stretch/>
          </p:blipFill>
          <p:spPr>
            <a:xfrm>
              <a:off x="2819160" y="23623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9"/>
            <a:stretch/>
          </p:blipFill>
          <p:spPr>
            <a:xfrm>
              <a:off x="2971800" y="2514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0"/>
            <a:stretch/>
          </p:blipFill>
          <p:spPr>
            <a:xfrm>
              <a:off x="3124080" y="2666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1"/>
            <a:stretch/>
          </p:blipFill>
          <p:spPr>
            <a:xfrm>
              <a:off x="3276360" y="28195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2"/>
            <a:stretch/>
          </p:blipFill>
          <p:spPr>
            <a:xfrm>
              <a:off x="1523880" y="2971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43"/>
            <a:stretch/>
          </p:blipFill>
          <p:spPr>
            <a:xfrm>
              <a:off x="3429000" y="2971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4"/>
            <a:stretch/>
          </p:blipFill>
          <p:spPr>
            <a:xfrm>
              <a:off x="3276360" y="2133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5"/>
            <a:stretch/>
          </p:blipFill>
          <p:spPr>
            <a:xfrm>
              <a:off x="4114800" y="3809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6"/>
            <a:stretch/>
          </p:blipFill>
          <p:spPr>
            <a:xfrm>
              <a:off x="4190760" y="34290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7"/>
            <a:stretch/>
          </p:blipFill>
          <p:spPr>
            <a:xfrm>
              <a:off x="4190760" y="30481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48"/>
            <a:stretch/>
          </p:blipFill>
          <p:spPr>
            <a:xfrm>
              <a:off x="3886200" y="4114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49"/>
            <a:stretch/>
          </p:blipFill>
          <p:spPr>
            <a:xfrm>
              <a:off x="1600200" y="4267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50"/>
            <a:stretch/>
          </p:blipFill>
          <p:spPr>
            <a:xfrm>
              <a:off x="220968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51"/>
            <a:stretch/>
          </p:blipFill>
          <p:spPr>
            <a:xfrm>
              <a:off x="1676160" y="38098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52"/>
            <a:stretch/>
          </p:blipFill>
          <p:spPr>
            <a:xfrm>
              <a:off x="1981080" y="41911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3"/>
            <a:stretch/>
          </p:blipFill>
          <p:spPr>
            <a:xfrm>
              <a:off x="1981080" y="3276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54"/>
            <a:stretch/>
          </p:blipFill>
          <p:spPr>
            <a:xfrm>
              <a:off x="3657600" y="4343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55"/>
            <a:stretch/>
          </p:blipFill>
          <p:spPr>
            <a:xfrm>
              <a:off x="3352680" y="4800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6"/>
            <a:stretch/>
          </p:blipFill>
          <p:spPr>
            <a:xfrm>
              <a:off x="1523880" y="3352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57"/>
            <a:stretch/>
          </p:blipFill>
          <p:spPr>
            <a:xfrm>
              <a:off x="1828800" y="3429000"/>
              <a:ext cx="32688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4648320" y="1828800"/>
            <a:ext cx="457200" cy="3124080"/>
          </a:xfrm>
          <a:custGeom>
            <a:avLst/>
            <a:gdLst>
              <a:gd name="textAreaLeft" fmla="*/ 0 w 457200"/>
              <a:gd name="textAreaRight" fmla="*/ 16488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257800" y="2286000"/>
            <a:ext cx="1012680" cy="2666880"/>
            <a:chOff x="5257800" y="2286000"/>
            <a:chExt cx="1012680" cy="2666880"/>
          </a:xfrm>
        </p:grpSpPr>
        <p:pic>
          <p:nvPicPr>
            <p:cNvPr id="179" name="" descr=""/>
            <p:cNvPicPr/>
            <p:nvPr/>
          </p:nvPicPr>
          <p:blipFill>
            <a:blip r:embed="rId58"/>
            <a:stretch/>
          </p:blipFill>
          <p:spPr>
            <a:xfrm>
              <a:off x="5257800" y="2286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59"/>
            <a:stretch/>
          </p:blipFill>
          <p:spPr>
            <a:xfrm>
              <a:off x="5410080" y="24382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60"/>
            <a:stretch/>
          </p:blipFill>
          <p:spPr>
            <a:xfrm>
              <a:off x="5562720" y="2590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61"/>
            <a:stretch/>
          </p:blipFill>
          <p:spPr>
            <a:xfrm>
              <a:off x="5715000" y="2743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62"/>
            <a:stretch/>
          </p:blipFill>
          <p:spPr>
            <a:xfrm>
              <a:off x="5257800" y="2895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63"/>
            <a:stretch/>
          </p:blipFill>
          <p:spPr>
            <a:xfrm>
              <a:off x="5410080" y="32004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64"/>
            <a:stretch/>
          </p:blipFill>
          <p:spPr>
            <a:xfrm>
              <a:off x="5791320" y="3200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65"/>
            <a:stretch/>
          </p:blipFill>
          <p:spPr>
            <a:xfrm>
              <a:off x="556272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66"/>
            <a:stretch/>
          </p:blipFill>
          <p:spPr>
            <a:xfrm>
              <a:off x="5334120" y="3962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67"/>
            <a:stretch/>
          </p:blipFill>
          <p:spPr>
            <a:xfrm>
              <a:off x="5867280" y="39625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68"/>
            <a:stretch/>
          </p:blipFill>
          <p:spPr>
            <a:xfrm>
              <a:off x="5638680" y="42670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9"/>
            <a:stretch/>
          </p:blipFill>
          <p:spPr>
            <a:xfrm>
              <a:off x="556272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70"/>
            <a:stretch/>
          </p:blipFill>
          <p:spPr>
            <a:xfrm>
              <a:off x="5943600" y="4419720"/>
              <a:ext cx="3268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ría tomar varias muestras de tamañ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n una población infinit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uanto vale la esperanza de la media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uanto vale la varianza de la media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2286000"/>
                <a:ext cx="238752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 muestr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689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a varianza en una población finita y con un muestreo con reeplazo viene dada po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895480" y="3962520"/>
                <a:ext cx="36640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1371600" y="5334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¿Qué problemas tiene la media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ría tomar varias muestras de tamañ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ómo conocer la distribución del mínimo muestral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ómo conocer la distribución del máximo muestral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05120" y="2286000"/>
                <a:ext cx="238752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5:48:27Z</dcterms:created>
  <dc:creator>cmorales</dc:creator>
  <dc:description/>
  <dc:language>en-US</dc:language>
  <cp:lastModifiedBy>csimmonds</cp:lastModifiedBy>
  <dcterms:modified xsi:type="dcterms:W3CDTF">2004-12-14T01:14:22Z</dcterms:modified>
  <cp:revision>39</cp:revision>
  <dc:subject/>
  <dc:title>ESTADISTICA MA34B 02</dc:title>
</cp:coreProperties>
</file>