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29B3-BF61-49C9-915B-68AC74BB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BB5B-F4D1-494D-844A-515F5371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18E-BF71-4A33-AA20-1A61D836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3B8E-1A58-4065-9C9B-68823B74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BF37-A7CF-4D1C-B2CE-EDB31EFD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D648-137C-43C3-918D-07F40217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78F1-01FD-4F8B-A1C3-8163E471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1B48-0324-4AE7-8EF6-479267DB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E7D7-DA0D-42EA-AB0A-02CEDDE6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7666-0CF3-40AC-80C9-304E8B7B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CC2D-685C-40E5-AD3E-4939D135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65CD-00BC-4FB8-9E68-0B3653B8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691B-3808-491D-8208-EC9DC46C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4422-6B51-488A-B9BB-23E142B0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CD7A-2E0C-4C86-876B-53395D78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9435-EA87-48AE-BC08-70959B70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408BC-C79A-4380-B501-D1793897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E7E7-01E0-49AC-B2EB-BA59C096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F85-4D21-4240-B3DD-46952537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267D-C444-4D67-862E-CE91DAD6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F32-FF7B-4A8D-8742-DE217429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D77-4DFC-47AE-A6F4-97092870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990E-5FBA-4D6D-BD13-3D0FEF38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331-4776-4093-8CED-CDB86827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03026"/>
                </a:gs>
                <a:gs pos="50000">
                  <a:srgbClr val="6a6954"/>
                </a:gs>
                <a:gs pos="100000">
                  <a:srgbClr val="303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C3E5-D1FD-49BA-BA1D-984BBEDD6403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03026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D6D6-51EB-4B85-916A-15237E26AA00}" type="slidenum">
              <a:rPr b="0" lang="es-ES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4.jpeg"/><Relationship Id="rId29" Type="http://schemas.openxmlformats.org/officeDocument/2006/relationships/image" Target="../media/image4.jpeg"/><Relationship Id="rId30" Type="http://schemas.openxmlformats.org/officeDocument/2006/relationships/image" Target="../media/image4.jpeg"/><Relationship Id="rId31" Type="http://schemas.openxmlformats.org/officeDocument/2006/relationships/image" Target="../media/image4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4.jpeg"/><Relationship Id="rId42" Type="http://schemas.openxmlformats.org/officeDocument/2006/relationships/image" Target="../media/image4.jpeg"/><Relationship Id="rId43" Type="http://schemas.openxmlformats.org/officeDocument/2006/relationships/image" Target="../media/image4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4.jpeg"/><Relationship Id="rId50" Type="http://schemas.openxmlformats.org/officeDocument/2006/relationships/image" Target="../media/image4.jpeg"/><Relationship Id="rId51" Type="http://schemas.openxmlformats.org/officeDocument/2006/relationships/image" Target="../media/image4.jpeg"/><Relationship Id="rId52" Type="http://schemas.openxmlformats.org/officeDocument/2006/relationships/image" Target="../media/image4.jpeg"/><Relationship Id="rId53" Type="http://schemas.openxmlformats.org/officeDocument/2006/relationships/image" Target="../media/image4.jpeg"/><Relationship Id="rId54" Type="http://schemas.openxmlformats.org/officeDocument/2006/relationships/image" Target="../media/image4.jpeg"/><Relationship Id="rId55" Type="http://schemas.openxmlformats.org/officeDocument/2006/relationships/image" Target="../media/image4.jpeg"/><Relationship Id="rId56" Type="http://schemas.openxmlformats.org/officeDocument/2006/relationships/image" Target="../media/image4.jpeg"/><Relationship Id="rId57" Type="http://schemas.openxmlformats.org/officeDocument/2006/relationships/image" Target="../media/image4.jpeg"/><Relationship Id="rId58" Type="http://schemas.openxmlformats.org/officeDocument/2006/relationships/image" Target="../media/image4.jpeg"/><Relationship Id="rId59" Type="http://schemas.openxmlformats.org/officeDocument/2006/relationships/image" Target="../media/image4.jpeg"/><Relationship Id="rId60" Type="http://schemas.openxmlformats.org/officeDocument/2006/relationships/image" Target="../media/image4.jpeg"/><Relationship Id="rId61" Type="http://schemas.openxmlformats.org/officeDocument/2006/relationships/image" Target="../media/image4.jpeg"/><Relationship Id="rId62" Type="http://schemas.openxmlformats.org/officeDocument/2006/relationships/image" Target="../media/image4.jpeg"/><Relationship Id="rId63" Type="http://schemas.openxmlformats.org/officeDocument/2006/relationships/image" Target="../media/image4.jpeg"/><Relationship Id="rId64" Type="http://schemas.openxmlformats.org/officeDocument/2006/relationships/image" Target="../media/image4.jpeg"/><Relationship Id="rId65" Type="http://schemas.openxmlformats.org/officeDocument/2006/relationships/image" Target="../media/image4.jpeg"/><Relationship Id="rId66" Type="http://schemas.openxmlformats.org/officeDocument/2006/relationships/image" Target="../media/image4.jpeg"/><Relationship Id="rId67" Type="http://schemas.openxmlformats.org/officeDocument/2006/relationships/image" Target="../media/image4.jpeg"/><Relationship Id="rId68" Type="http://schemas.openxmlformats.org/officeDocument/2006/relationships/image" Target="../media/image4.jpeg"/><Relationship Id="rId69" Type="http://schemas.openxmlformats.org/officeDocument/2006/relationships/image" Target="../media/image4.jpeg"/><Relationship Id="rId70" Type="http://schemas.openxmlformats.org/officeDocument/2006/relationships/image" Target="../media/image4.jpeg"/><Relationship Id="rId7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ESTADISTICA MA34B 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7652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ORENA CERDA M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lcerda@dim.uchile.c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4419720"/>
            <a:ext cx="2971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Clase  N° 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Análisis descrip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333333"/>
                </a:solidFill>
                <a:latin typeface="Times New Roman"/>
              </a:rPr>
              <a:t>Construcción de gráficos y resúmen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429000"/>
          <a:ext cx="42670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429000"/>
                    <a:ext cx="42670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rdemos que la función de distribución de una variable x viene dada p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193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uál es la distribución del mínimo y máximo muestral de las sucesivas mustras de x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2590920" y="2286000"/>
                <a:ext cx="35877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90920" y="3581280"/>
                <a:ext cx="29509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nza mues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04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Definiremos la varianza obtenida a partir de una muestra cómo la varianza muestral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971800" y="3429000"/>
                <a:ext cx="3809880" cy="13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an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657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&gt; quantile(Orange$circumference, c( 0,.25,.5,.75,1 ), na.rm=TRUE)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0%   25%   50%   75%  100%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30.0  65.5 115.0 161.5 214.0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7920" y="4419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 cuartil a               es aquél valor 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8120" y="4267080"/>
                <a:ext cx="9903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gra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809880" cy="3801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181480" y="2362320"/>
            <a:ext cx="3810240" cy="3801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47920" y="1523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olo para variables cuantitativas !!!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áfico de caj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590920" y="1676520"/>
            <a:ext cx="48765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cualit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Ordinales, nominales, categorías…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 podemos calcular nunca media, mínimo, máximo!!!!!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olo podemos realizar tablas resúmenes y gráficos de barra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as resúme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371600" y="2590920"/>
          <a:ext cx="7772400" cy="19810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Variab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Cantidad en la muestr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orcentaj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orcentaje acumulad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áficos de bar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5943600" cy="46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ción en la población y distribución en el muestr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23880" y="2133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n la población tenemos que la variable se distribuye cóm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819520" y="3048120"/>
                <a:ext cx="33271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600200" y="45720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l problema al cuál nos enfrentamos como estadísticos es tratar de estimar la función de densidad y los parámetros que la determina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ció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Nos referiremos a estimación cuando a partir de unos valores muestrales tratemos de inferir los valores reales de la población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ción entre variab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ntes de efectuar cualquier análisis descriptivo sobre una variable es necesario conocer bien la definición de la misma (que significa) y que tipo de variable corresponde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l tratamiento dado a los datos dependerá del tipo de variable en estudio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rimer acerc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704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 x es una variable cuantitativ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ómo estimarlo empíricamente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819520" y="2666880"/>
                <a:ext cx="32004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1981080" y="4419720"/>
                <a:ext cx="541044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so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vorable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so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es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ción empírica variable cuantit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689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uego definiremos la distribución empírica cómo: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sta función cumple con el requisito de pertenecer al intervalo 0,1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2057400" y="2971800"/>
                <a:ext cx="38098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rd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≤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Recordemos que si una variable de medición sobre un experimento puede tomar solo dos resultados, decimos que esta se distribuye según un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jm son: cara ó sello, blanco ó negro, voto ó no voto, etc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uego podemos transformar la distribución empírica en una </a:t>
            </a:r>
            <a:r>
              <a:rPr b="1" i="1" lang="en-US" sz="2800" spc="-1" strike="noStrike">
                <a:solidFill>
                  <a:srgbClr val="333333"/>
                </a:solidFill>
                <a:latin typeface="Arial"/>
              </a:rPr>
              <a:t>Binomial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(ver en clases)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ribución empírica variable cualit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689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efiniremos la distribución empírica de una variable cualitativa cómo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sta función cumple con el requisito de pertenecer al intervalo 0,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l igual que en el caso cuantitativo podemos asociar esta distribución a una distribución </a:t>
            </a:r>
            <a:r>
              <a:rPr b="1" i="1" lang="en-US" sz="2400" spc="-1" strike="noStrike">
                <a:solidFill>
                  <a:srgbClr val="333333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08320" y="2971800"/>
                <a:ext cx="33066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n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rd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 cuantitativ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stogramas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s, mínimos, máximos, desv. Estándar, etc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124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nálisis de diámetro de unas naranjas en distintos árbol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&gt; mean(Orange$circumference, na.rm=TRU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1] 115.8571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&gt; sd(Orange$circumference, na.rm=TRU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[1] 57.48818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&gt; quantile(Orange$circumference, c( 0,.25,.5,.75,1 ), na.rm=TRU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0%   25%   50%   75%  100%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30.0  65.5 115.0 161.5 214.0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Qué es la media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uál es el mínimo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uál es el máximo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Que es la varianza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¿Cómo obtener los cuartiles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ongamos una m.a.s de una variable en estudio x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876920" y="5105520"/>
                <a:ext cx="2438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19" name=""/>
          <p:cNvGrpSpPr/>
          <p:nvPr/>
        </p:nvGrpSpPr>
        <p:grpSpPr>
          <a:xfrm>
            <a:off x="1523880" y="2057400"/>
            <a:ext cx="2994120" cy="3200400"/>
            <a:chOff x="1523880" y="2057400"/>
            <a:chExt cx="2994120" cy="3200400"/>
          </a:xfrm>
        </p:grpSpPr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1855800" y="27432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2361960" y="4648320"/>
              <a:ext cx="38124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2286000" y="40384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2286000" y="2895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2971800" y="41911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2209680" y="3657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2590560" y="25909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2514600" y="3733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9"/>
            <a:stretch/>
          </p:blipFill>
          <p:spPr>
            <a:xfrm>
              <a:off x="2438280" y="3276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0"/>
            <a:stretch/>
          </p:blipFill>
          <p:spPr>
            <a:xfrm>
              <a:off x="2133360" y="32004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1"/>
            <a:stretch/>
          </p:blipFill>
          <p:spPr>
            <a:xfrm>
              <a:off x="2666880" y="30481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2"/>
            <a:stretch/>
          </p:blipFill>
          <p:spPr>
            <a:xfrm>
              <a:off x="2057400" y="2514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3"/>
            <a:stretch/>
          </p:blipFill>
          <p:spPr>
            <a:xfrm>
              <a:off x="2286000" y="23623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4"/>
            <a:stretch/>
          </p:blipFill>
          <p:spPr>
            <a:xfrm>
              <a:off x="2819160" y="34290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15"/>
            <a:stretch/>
          </p:blipFill>
          <p:spPr>
            <a:xfrm>
              <a:off x="2971800" y="2743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16"/>
            <a:stretch/>
          </p:blipFill>
          <p:spPr>
            <a:xfrm>
              <a:off x="1981080" y="3809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7"/>
            <a:stretch/>
          </p:blipFill>
          <p:spPr>
            <a:xfrm>
              <a:off x="2895480" y="3886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8"/>
            <a:stretch/>
          </p:blipFill>
          <p:spPr>
            <a:xfrm>
              <a:off x="2971800" y="3124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9"/>
            <a:stretch/>
          </p:blipFill>
          <p:spPr>
            <a:xfrm>
              <a:off x="3047760" y="36576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0"/>
            <a:stretch/>
          </p:blipFill>
          <p:spPr>
            <a:xfrm>
              <a:off x="2514600" y="2057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1"/>
            <a:stretch/>
          </p:blipFill>
          <p:spPr>
            <a:xfrm>
              <a:off x="2895480" y="2438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2666880" y="4572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2666880" y="4114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2971800" y="21337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25"/>
            <a:stretch/>
          </p:blipFill>
          <p:spPr>
            <a:xfrm>
              <a:off x="3581280" y="26668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6"/>
            <a:stretch/>
          </p:blipFill>
          <p:spPr>
            <a:xfrm>
              <a:off x="3504960" y="34290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7"/>
            <a:stretch/>
          </p:blipFill>
          <p:spPr>
            <a:xfrm>
              <a:off x="3276360" y="26668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8"/>
            <a:stretch/>
          </p:blipFill>
          <p:spPr>
            <a:xfrm>
              <a:off x="3276360" y="38098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9"/>
            <a:stretch/>
          </p:blipFill>
          <p:spPr>
            <a:xfrm>
              <a:off x="3276360" y="32004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30"/>
            <a:stretch/>
          </p:blipFill>
          <p:spPr>
            <a:xfrm>
              <a:off x="2971800" y="47242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31"/>
            <a:stretch/>
          </p:blipFill>
          <p:spPr>
            <a:xfrm>
              <a:off x="3962160" y="266688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2"/>
            <a:stretch/>
          </p:blipFill>
          <p:spPr>
            <a:xfrm>
              <a:off x="3581280" y="21337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33"/>
            <a:stretch/>
          </p:blipFill>
          <p:spPr>
            <a:xfrm>
              <a:off x="3886200" y="365760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34"/>
            <a:stretch/>
          </p:blipFill>
          <p:spPr>
            <a:xfrm>
              <a:off x="3809880" y="3124080"/>
              <a:ext cx="380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35"/>
            <a:stretch/>
          </p:blipFill>
          <p:spPr>
            <a:xfrm>
              <a:off x="3276360" y="4343400"/>
              <a:ext cx="381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36"/>
            <a:stretch/>
          </p:blipFill>
          <p:spPr>
            <a:xfrm>
              <a:off x="3581280" y="3962520"/>
              <a:ext cx="3808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37"/>
            <a:stretch/>
          </p:blipFill>
          <p:spPr>
            <a:xfrm>
              <a:off x="2666880" y="2209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38"/>
            <a:stretch/>
          </p:blipFill>
          <p:spPr>
            <a:xfrm>
              <a:off x="2819160" y="23623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9"/>
            <a:stretch/>
          </p:blipFill>
          <p:spPr>
            <a:xfrm>
              <a:off x="2971800" y="2514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0"/>
            <a:stretch/>
          </p:blipFill>
          <p:spPr>
            <a:xfrm>
              <a:off x="3124080" y="2666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41"/>
            <a:stretch/>
          </p:blipFill>
          <p:spPr>
            <a:xfrm>
              <a:off x="3276360" y="28195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2"/>
            <a:stretch/>
          </p:blipFill>
          <p:spPr>
            <a:xfrm>
              <a:off x="1523880" y="2971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43"/>
            <a:stretch/>
          </p:blipFill>
          <p:spPr>
            <a:xfrm>
              <a:off x="3429000" y="2971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4"/>
            <a:stretch/>
          </p:blipFill>
          <p:spPr>
            <a:xfrm>
              <a:off x="3276360" y="21337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45"/>
            <a:stretch/>
          </p:blipFill>
          <p:spPr>
            <a:xfrm>
              <a:off x="4114800" y="38098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6"/>
            <a:stretch/>
          </p:blipFill>
          <p:spPr>
            <a:xfrm>
              <a:off x="4190760" y="34290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47"/>
            <a:stretch/>
          </p:blipFill>
          <p:spPr>
            <a:xfrm>
              <a:off x="4190760" y="30481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48"/>
            <a:stretch/>
          </p:blipFill>
          <p:spPr>
            <a:xfrm>
              <a:off x="3886200" y="41148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49"/>
            <a:stretch/>
          </p:blipFill>
          <p:spPr>
            <a:xfrm>
              <a:off x="1600200" y="42670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50"/>
            <a:stretch/>
          </p:blipFill>
          <p:spPr>
            <a:xfrm>
              <a:off x="220968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51"/>
            <a:stretch/>
          </p:blipFill>
          <p:spPr>
            <a:xfrm>
              <a:off x="1676160" y="38098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52"/>
            <a:stretch/>
          </p:blipFill>
          <p:spPr>
            <a:xfrm>
              <a:off x="1981080" y="41911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3"/>
            <a:stretch/>
          </p:blipFill>
          <p:spPr>
            <a:xfrm>
              <a:off x="1981080" y="32767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54"/>
            <a:stretch/>
          </p:blipFill>
          <p:spPr>
            <a:xfrm>
              <a:off x="3657600" y="4343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55"/>
            <a:stretch/>
          </p:blipFill>
          <p:spPr>
            <a:xfrm>
              <a:off x="3352680" y="48006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6"/>
            <a:stretch/>
          </p:blipFill>
          <p:spPr>
            <a:xfrm>
              <a:off x="1523880" y="3352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57"/>
            <a:stretch/>
          </p:blipFill>
          <p:spPr>
            <a:xfrm>
              <a:off x="1828800" y="3429000"/>
              <a:ext cx="32688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/>
          <p:nvPr/>
        </p:nvSpPr>
        <p:spPr>
          <a:xfrm>
            <a:off x="4648320" y="1828800"/>
            <a:ext cx="457200" cy="3124080"/>
          </a:xfrm>
          <a:custGeom>
            <a:avLst/>
            <a:gdLst>
              <a:gd name="textAreaLeft" fmla="*/ 0 w 457200"/>
              <a:gd name="textAreaRight" fmla="*/ 16488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257800" y="2286000"/>
            <a:ext cx="1012680" cy="2666880"/>
            <a:chOff x="5257800" y="2286000"/>
            <a:chExt cx="1012680" cy="2666880"/>
          </a:xfrm>
        </p:grpSpPr>
        <p:pic>
          <p:nvPicPr>
            <p:cNvPr id="179" name="" descr=""/>
            <p:cNvPicPr/>
            <p:nvPr/>
          </p:nvPicPr>
          <p:blipFill>
            <a:blip r:embed="rId58"/>
            <a:stretch/>
          </p:blipFill>
          <p:spPr>
            <a:xfrm>
              <a:off x="5257800" y="22860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59"/>
            <a:stretch/>
          </p:blipFill>
          <p:spPr>
            <a:xfrm>
              <a:off x="5410080" y="24382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60"/>
            <a:stretch/>
          </p:blipFill>
          <p:spPr>
            <a:xfrm>
              <a:off x="5562720" y="25909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61"/>
            <a:stretch/>
          </p:blipFill>
          <p:spPr>
            <a:xfrm>
              <a:off x="5715000" y="27432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62"/>
            <a:stretch/>
          </p:blipFill>
          <p:spPr>
            <a:xfrm>
              <a:off x="5257800" y="28954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63"/>
            <a:stretch/>
          </p:blipFill>
          <p:spPr>
            <a:xfrm>
              <a:off x="5410080" y="320040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64"/>
            <a:stretch/>
          </p:blipFill>
          <p:spPr>
            <a:xfrm>
              <a:off x="5791320" y="320040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65"/>
            <a:stretch/>
          </p:blipFill>
          <p:spPr>
            <a:xfrm>
              <a:off x="5562720" y="35812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66"/>
            <a:stretch/>
          </p:blipFill>
          <p:spPr>
            <a:xfrm>
              <a:off x="5334120" y="396252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67"/>
            <a:stretch/>
          </p:blipFill>
          <p:spPr>
            <a:xfrm>
              <a:off x="5867280" y="396252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68"/>
            <a:stretch/>
          </p:blipFill>
          <p:spPr>
            <a:xfrm>
              <a:off x="5638680" y="4267080"/>
              <a:ext cx="327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9"/>
            <a:stretch/>
          </p:blipFill>
          <p:spPr>
            <a:xfrm>
              <a:off x="5562720" y="4495680"/>
              <a:ext cx="326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70"/>
            <a:stretch/>
          </p:blipFill>
          <p:spPr>
            <a:xfrm>
              <a:off x="5943600" y="4419720"/>
              <a:ext cx="3268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ría tomar varias muestras de tamaño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En una población infinita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uanto vale la esperanza de la media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uanto vale la varianza de la media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2286000"/>
                <a:ext cx="238752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 muestr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57120" y="1981080"/>
            <a:ext cx="689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a varianza en una población finita y con un muestreo con reeplazo viene dada por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895480" y="3962520"/>
                <a:ext cx="36640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1371600" y="5334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¿Qué problemas tiene la media?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dría tomar varias muestras de tamaño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21964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ómo conocer la distribución del mínimo muestral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¿Cómo conocer la distribución del máximo muestral?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05120" y="2286000"/>
                <a:ext cx="2387520" cy="34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5:48:27Z</dcterms:created>
  <dc:creator>cmorales</dc:creator>
  <dc:description/>
  <dc:language>en-US</dc:language>
  <cp:lastModifiedBy>csimmonds</cp:lastModifiedBy>
  <dcterms:modified xsi:type="dcterms:W3CDTF">2004-12-14T01:14:22Z</dcterms:modified>
  <cp:revision>39</cp:revision>
  <dc:subject/>
  <dc:title>ESTADISTICA MA34B 02</dc:title>
</cp:coreProperties>
</file>