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wmf" ContentType="image/x-wmf"/>
  <Override PartName="/ppt/media/image12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6.gif" ContentType="image/gif"/>
  <Override PartName="/ppt/media/image9.wmf" ContentType="image/x-wmf"/>
  <Override PartName="/ppt/media/image1.png" ContentType="image/png"/>
  <Override PartName="/ppt/media/image7.gif" ContentType="image/gif"/>
  <Override PartName="/ppt/media/image5.jpeg" ContentType="image/jpeg"/>
  <Override PartName="/ppt/media/image18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80E2-0750-47A0-82F6-80DD8B32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C307-0722-4685-8AE6-CC33989E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DD2-4BED-422B-A07E-4AA91AA3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0B3B-E5D2-4816-A911-5DB2CEBA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3139-F0DB-4BD6-95BB-137041BF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1F25-19E9-4E7E-A4B3-DCDB8C6D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9E20-70E3-4155-8941-08467E21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CB89-3BBB-4DE6-B77B-9DAB3F10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BFA0-00BD-4FC1-89E0-F5A6B242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34B1-E641-440B-BA1D-B6629E1F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FB7A-79F7-4332-AE86-58F2756E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05AA-0A76-4F5F-BB3F-6FACB2A7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2954-97C5-4BF6-BDF5-784AE96D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07DD-D6BF-4900-82CC-3A385FF3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10B8-68D9-4F13-A34C-7D502FE4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7D68-C8DB-49D1-9E28-BC1C364D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341A-87AB-4523-BEC3-4157982D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4BD6-31A2-4AE6-837D-85F4828B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C106-C0A9-474C-B32F-2E107BBC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9166-032B-42D6-9E31-11EE94F1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3470-E009-442B-8755-09066D91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49BF-E574-464F-8F27-0197CB13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ABD0-2480-4884-99D8-E16F0FA9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C62D-DF98-4CB0-BC2B-CD427044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14B7-39DA-4216-A570-1624CEF5A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3587-D826-48AF-BCEA-5CD802E24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17.jpeg"/><Relationship Id="rId19" Type="http://schemas.openxmlformats.org/officeDocument/2006/relationships/image" Target="../media/image17.jpeg"/><Relationship Id="rId20" Type="http://schemas.openxmlformats.org/officeDocument/2006/relationships/image" Target="../media/image17.jpeg"/><Relationship Id="rId21" Type="http://schemas.openxmlformats.org/officeDocument/2006/relationships/image" Target="../media/image17.jpeg"/><Relationship Id="rId22" Type="http://schemas.openxmlformats.org/officeDocument/2006/relationships/image" Target="../media/image17.jpeg"/><Relationship Id="rId23" Type="http://schemas.openxmlformats.org/officeDocument/2006/relationships/image" Target="../media/image17.jpeg"/><Relationship Id="rId24" Type="http://schemas.openxmlformats.org/officeDocument/2006/relationships/image" Target="../media/image17.jpeg"/><Relationship Id="rId25" Type="http://schemas.openxmlformats.org/officeDocument/2006/relationships/image" Target="../media/image17.jpeg"/><Relationship Id="rId26" Type="http://schemas.openxmlformats.org/officeDocument/2006/relationships/image" Target="../media/image17.jpeg"/><Relationship Id="rId27" Type="http://schemas.openxmlformats.org/officeDocument/2006/relationships/image" Target="../media/image17.jpeg"/><Relationship Id="rId28" Type="http://schemas.openxmlformats.org/officeDocument/2006/relationships/image" Target="../media/image17.jpeg"/><Relationship Id="rId29" Type="http://schemas.openxmlformats.org/officeDocument/2006/relationships/image" Target="../media/image17.jpeg"/><Relationship Id="rId30" Type="http://schemas.openxmlformats.org/officeDocument/2006/relationships/image" Target="../media/image17.jpeg"/><Relationship Id="rId31" Type="http://schemas.openxmlformats.org/officeDocument/2006/relationships/image" Target="../media/image17.jpeg"/><Relationship Id="rId32" Type="http://schemas.openxmlformats.org/officeDocument/2006/relationships/image" Target="../media/image17.jpeg"/><Relationship Id="rId33" Type="http://schemas.openxmlformats.org/officeDocument/2006/relationships/image" Target="../media/image17.jpeg"/><Relationship Id="rId34" Type="http://schemas.openxmlformats.org/officeDocument/2006/relationships/image" Target="../media/image17.jpeg"/><Relationship Id="rId35" Type="http://schemas.openxmlformats.org/officeDocument/2006/relationships/image" Target="../media/image17.jpeg"/><Relationship Id="rId36" Type="http://schemas.openxmlformats.org/officeDocument/2006/relationships/image" Target="../media/image17.jpeg"/><Relationship Id="rId37" Type="http://schemas.openxmlformats.org/officeDocument/2006/relationships/image" Target="../media/image17.jpeg"/><Relationship Id="rId38" Type="http://schemas.openxmlformats.org/officeDocument/2006/relationships/image" Target="../media/image17.jpeg"/><Relationship Id="rId39" Type="http://schemas.openxmlformats.org/officeDocument/2006/relationships/image" Target="../media/image17.jpeg"/><Relationship Id="rId40" Type="http://schemas.openxmlformats.org/officeDocument/2006/relationships/image" Target="../media/image17.jpeg"/><Relationship Id="rId41" Type="http://schemas.openxmlformats.org/officeDocument/2006/relationships/image" Target="../media/image17.jpeg"/><Relationship Id="rId42" Type="http://schemas.openxmlformats.org/officeDocument/2006/relationships/image" Target="../media/image17.jpeg"/><Relationship Id="rId43" Type="http://schemas.openxmlformats.org/officeDocument/2006/relationships/image" Target="../media/image17.jpeg"/><Relationship Id="rId44" Type="http://schemas.openxmlformats.org/officeDocument/2006/relationships/image" Target="../media/image17.jpeg"/><Relationship Id="rId45" Type="http://schemas.openxmlformats.org/officeDocument/2006/relationships/image" Target="../media/image17.jpeg"/><Relationship Id="rId46" Type="http://schemas.openxmlformats.org/officeDocument/2006/relationships/image" Target="../media/image17.jpeg"/><Relationship Id="rId47" Type="http://schemas.openxmlformats.org/officeDocument/2006/relationships/image" Target="../media/image17.jpeg"/><Relationship Id="rId48" Type="http://schemas.openxmlformats.org/officeDocument/2006/relationships/image" Target="../media/image17.jpeg"/><Relationship Id="rId49" Type="http://schemas.openxmlformats.org/officeDocument/2006/relationships/image" Target="../media/image17.jpeg"/><Relationship Id="rId50" Type="http://schemas.openxmlformats.org/officeDocument/2006/relationships/image" Target="../media/image17.jpeg"/><Relationship Id="rId51" Type="http://schemas.openxmlformats.org/officeDocument/2006/relationships/image" Target="../media/image17.jpeg"/><Relationship Id="rId52" Type="http://schemas.openxmlformats.org/officeDocument/2006/relationships/image" Target="../media/image17.jpeg"/><Relationship Id="rId53" Type="http://schemas.openxmlformats.org/officeDocument/2006/relationships/image" Target="../media/image17.jpeg"/><Relationship Id="rId54" Type="http://schemas.openxmlformats.org/officeDocument/2006/relationships/image" Target="../media/image17.jpeg"/><Relationship Id="rId55" Type="http://schemas.openxmlformats.org/officeDocument/2006/relationships/image" Target="../media/image17.jpeg"/><Relationship Id="rId56" Type="http://schemas.openxmlformats.org/officeDocument/2006/relationships/image" Target="../media/image17.jpeg"/><Relationship Id="rId57" Type="http://schemas.openxmlformats.org/officeDocument/2006/relationships/image" Target="../media/image17.jpeg"/><Relationship Id="rId58" Type="http://schemas.openxmlformats.org/officeDocument/2006/relationships/image" Target="../media/image17.jpeg"/><Relationship Id="rId59" Type="http://schemas.openxmlformats.org/officeDocument/2006/relationships/image" Target="../media/image17.jpeg"/><Relationship Id="rId60" Type="http://schemas.openxmlformats.org/officeDocument/2006/relationships/image" Target="../media/image17.jpeg"/><Relationship Id="rId61" Type="http://schemas.openxmlformats.org/officeDocument/2006/relationships/image" Target="../media/image17.jpeg"/><Relationship Id="rId62" Type="http://schemas.openxmlformats.org/officeDocument/2006/relationships/image" Target="../media/image17.jpeg"/><Relationship Id="rId63" Type="http://schemas.openxmlformats.org/officeDocument/2006/relationships/image" Target="../media/image17.jpeg"/><Relationship Id="rId64" Type="http://schemas.openxmlformats.org/officeDocument/2006/relationships/image" Target="../media/image17.jpeg"/><Relationship Id="rId65" Type="http://schemas.openxmlformats.org/officeDocument/2006/relationships/image" Target="../media/image17.jpeg"/><Relationship Id="rId66" Type="http://schemas.openxmlformats.org/officeDocument/2006/relationships/image" Target="../media/image17.jpeg"/><Relationship Id="rId67" Type="http://schemas.openxmlformats.org/officeDocument/2006/relationships/image" Target="../media/image17.jpeg"/><Relationship Id="rId68" Type="http://schemas.openxmlformats.org/officeDocument/2006/relationships/image" Target="../media/image17.jpeg"/><Relationship Id="rId69" Type="http://schemas.openxmlformats.org/officeDocument/2006/relationships/image" Target="../media/image17.jpeg"/><Relationship Id="rId70" Type="http://schemas.openxmlformats.org/officeDocument/2006/relationships/image" Target="../media/image17.jpeg"/><Relationship Id="rId71" Type="http://schemas.openxmlformats.org/officeDocument/2006/relationships/image" Target="../media/image17.jpeg"/><Relationship Id="rId72" Type="http://schemas.openxmlformats.org/officeDocument/2006/relationships/image" Target="../media/image17.jpeg"/><Relationship Id="rId73" Type="http://schemas.openxmlformats.org/officeDocument/2006/relationships/image" Target="../media/image17.jpeg"/><Relationship Id="rId74" Type="http://schemas.openxmlformats.org/officeDocument/2006/relationships/image" Target="../media/image17.jpeg"/><Relationship Id="rId75" Type="http://schemas.openxmlformats.org/officeDocument/2006/relationships/image" Target="../media/image17.jpeg"/><Relationship Id="rId76" Type="http://schemas.openxmlformats.org/officeDocument/2006/relationships/image" Target="../media/image17.jpeg"/><Relationship Id="rId77" Type="http://schemas.openxmlformats.org/officeDocument/2006/relationships/image" Target="../media/image17.jpeg"/><Relationship Id="rId78" Type="http://schemas.openxmlformats.org/officeDocument/2006/relationships/image" Target="../media/image17.jpeg"/><Relationship Id="rId79" Type="http://schemas.openxmlformats.org/officeDocument/2006/relationships/image" Target="../media/image17.jpeg"/><Relationship Id="rId80" Type="http://schemas.openxmlformats.org/officeDocument/2006/relationships/image" Target="../media/image17.jpeg"/><Relationship Id="rId81" Type="http://schemas.openxmlformats.org/officeDocument/2006/relationships/image" Target="../media/image17.jpeg"/><Relationship Id="rId82" Type="http://schemas.openxmlformats.org/officeDocument/2006/relationships/image" Target="../media/image17.jpeg"/><Relationship Id="rId83" Type="http://schemas.openxmlformats.org/officeDocument/2006/relationships/image" Target="../media/image17.jpeg"/><Relationship Id="rId84" Type="http://schemas.openxmlformats.org/officeDocument/2006/relationships/image" Target="../media/image17.jpeg"/><Relationship Id="rId85" Type="http://schemas.openxmlformats.org/officeDocument/2006/relationships/image" Target="../media/image17.jpeg"/><Relationship Id="rId86" Type="http://schemas.openxmlformats.org/officeDocument/2006/relationships/image" Target="../media/image17.jpeg"/><Relationship Id="rId87" Type="http://schemas.openxmlformats.org/officeDocument/2006/relationships/image" Target="../media/image17.jpeg"/><Relationship Id="rId88" Type="http://schemas.openxmlformats.org/officeDocument/2006/relationships/image" Target="../media/image17.jpeg"/><Relationship Id="rId89" Type="http://schemas.openxmlformats.org/officeDocument/2006/relationships/image" Target="../media/image17.jpeg"/><Relationship Id="rId90" Type="http://schemas.openxmlformats.org/officeDocument/2006/relationships/image" Target="../media/image17.jpeg"/><Relationship Id="rId91" Type="http://schemas.openxmlformats.org/officeDocument/2006/relationships/image" Target="../media/image17.jpeg"/><Relationship Id="rId92" Type="http://schemas.openxmlformats.org/officeDocument/2006/relationships/image" Target="../media/image17.jpeg"/><Relationship Id="rId93" Type="http://schemas.openxmlformats.org/officeDocument/2006/relationships/image" Target="../media/image17.jpeg"/><Relationship Id="rId94" Type="http://schemas.openxmlformats.org/officeDocument/2006/relationships/image" Target="../media/image17.jpeg"/><Relationship Id="rId95" Type="http://schemas.openxmlformats.org/officeDocument/2006/relationships/image" Target="../media/image17.jpeg"/><Relationship Id="rId96" Type="http://schemas.openxmlformats.org/officeDocument/2006/relationships/image" Target="../media/image17.jpeg"/><Relationship Id="rId97" Type="http://schemas.openxmlformats.org/officeDocument/2006/relationships/image" Target="../media/image17.jpeg"/><Relationship Id="rId98" Type="http://schemas.openxmlformats.org/officeDocument/2006/relationships/image" Target="../media/image17.jpeg"/><Relationship Id="rId99" Type="http://schemas.openxmlformats.org/officeDocument/2006/relationships/image" Target="../media/image17.jpeg"/><Relationship Id="rId100" Type="http://schemas.openxmlformats.org/officeDocument/2006/relationships/image" Target="../media/image17.jpeg"/><Relationship Id="rId101" Type="http://schemas.openxmlformats.org/officeDocument/2006/relationships/image" Target="../media/image17.jpeg"/><Relationship Id="rId102" Type="http://schemas.openxmlformats.org/officeDocument/2006/relationships/image" Target="../media/image17.jpeg"/><Relationship Id="rId103" Type="http://schemas.openxmlformats.org/officeDocument/2006/relationships/image" Target="../media/image17.jpeg"/><Relationship Id="rId104" Type="http://schemas.openxmlformats.org/officeDocument/2006/relationships/image" Target="../media/image17.jpeg"/><Relationship Id="rId105" Type="http://schemas.openxmlformats.org/officeDocument/2006/relationships/image" Target="../media/image17.jpeg"/><Relationship Id="rId106" Type="http://schemas.openxmlformats.org/officeDocument/2006/relationships/image" Target="../media/image17.jpeg"/><Relationship Id="rId107" Type="http://schemas.openxmlformats.org/officeDocument/2006/relationships/image" Target="../media/image17.jpeg"/><Relationship Id="rId108" Type="http://schemas.openxmlformats.org/officeDocument/2006/relationships/image" Target="../media/image17.jpeg"/><Relationship Id="rId109" Type="http://schemas.openxmlformats.org/officeDocument/2006/relationships/image" Target="../media/image17.jpeg"/><Relationship Id="rId110" Type="http://schemas.openxmlformats.org/officeDocument/2006/relationships/image" Target="../media/image17.jpeg"/><Relationship Id="rId111" Type="http://schemas.openxmlformats.org/officeDocument/2006/relationships/image" Target="../media/image17.jpeg"/><Relationship Id="rId112" Type="http://schemas.openxmlformats.org/officeDocument/2006/relationships/image" Target="../media/image17.jpeg"/><Relationship Id="rId113" Type="http://schemas.openxmlformats.org/officeDocument/2006/relationships/image" Target="../media/image17.jpeg"/><Relationship Id="rId114" Type="http://schemas.openxmlformats.org/officeDocument/2006/relationships/image" Target="../media/image17.jpeg"/><Relationship Id="rId115" Type="http://schemas.openxmlformats.org/officeDocument/2006/relationships/image" Target="../media/image17.jpeg"/><Relationship Id="rId116" Type="http://schemas.openxmlformats.org/officeDocument/2006/relationships/image" Target="../media/image17.jpeg"/><Relationship Id="rId117" Type="http://schemas.openxmlformats.org/officeDocument/2006/relationships/image" Target="../media/image17.jpeg"/><Relationship Id="rId118" Type="http://schemas.openxmlformats.org/officeDocument/2006/relationships/image" Target="../media/image17.jpeg"/><Relationship Id="rId119" Type="http://schemas.openxmlformats.org/officeDocument/2006/relationships/image" Target="../media/image17.jpeg"/><Relationship Id="rId120" Type="http://schemas.openxmlformats.org/officeDocument/2006/relationships/image" Target="../media/image17.jpeg"/><Relationship Id="rId121" Type="http://schemas.openxmlformats.org/officeDocument/2006/relationships/image" Target="../media/image17.jpeg"/><Relationship Id="rId122" Type="http://schemas.openxmlformats.org/officeDocument/2006/relationships/image" Target="../media/image17.jpeg"/><Relationship Id="rId123" Type="http://schemas.openxmlformats.org/officeDocument/2006/relationships/image" Target="../media/image17.jpeg"/><Relationship Id="rId124" Type="http://schemas.openxmlformats.org/officeDocument/2006/relationships/image" Target="../media/image17.jpeg"/><Relationship Id="rId125" Type="http://schemas.openxmlformats.org/officeDocument/2006/relationships/image" Target="../media/image17.jpeg"/><Relationship Id="rId126" Type="http://schemas.openxmlformats.org/officeDocument/2006/relationships/image" Target="../media/image17.jpeg"/><Relationship Id="rId127" Type="http://schemas.openxmlformats.org/officeDocument/2006/relationships/image" Target="../media/image17.jpeg"/><Relationship Id="rId128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21304"/>
                </a:solidFill>
                <a:latin typeface="Times New Roman"/>
              </a:rPr>
              <a:t>ESTADISTICA MA34B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7652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221304"/>
                </a:solidFill>
                <a:latin typeface="Times New Roman"/>
              </a:rPr>
              <a:t>LORENA CERDA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221304"/>
                </a:solidFill>
                <a:latin typeface="Times New Roman"/>
              </a:rPr>
              <a:t>lcerda@dim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419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lase  N°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Introduc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219320" y="3429000"/>
          <a:ext cx="4267080" cy="28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429000"/>
                    <a:ext cx="42670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1219320"/>
            <a:ext cx="2286000" cy="45972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2666880"/>
            <a:ext cx="2590920" cy="8254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Metodología (proce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4343400"/>
            <a:ext cx="228600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6" idx="3"/>
            <a:endCxn id="127" idx="0"/>
          </p:cNvCxnSpPr>
          <p:nvPr/>
        </p:nvCxnSpPr>
        <p:spPr>
          <a:xfrm>
            <a:off x="3886200" y="1447920"/>
            <a:ext cx="991440" cy="121968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7" idx="3"/>
            <a:endCxn id="128" idx="0"/>
          </p:cNvCxnSpPr>
          <p:nvPr/>
        </p:nvCxnSpPr>
        <p:spPr>
          <a:xfrm>
            <a:off x="6171840" y="3077640"/>
            <a:ext cx="1143720" cy="126612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1"/>
            <a:endCxn id="127" idx="2"/>
          </p:cNvCxnSpPr>
          <p:nvPr/>
        </p:nvCxnSpPr>
        <p:spPr>
          <a:xfrm rot="10800000">
            <a:off x="4876200" y="3488760"/>
            <a:ext cx="1296000" cy="108792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4038480" y="380880"/>
            <a:ext cx="3200400" cy="762120"/>
          </a:xfrm>
          <a:prstGeom prst="cloudCallout">
            <a:avLst>
              <a:gd name="adj1" fmla="val -69791"/>
              <a:gd name="adj2" fmla="val 5124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¿Cómo los obtenem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1828800"/>
            <a:ext cx="3276720" cy="762120"/>
          </a:xfrm>
          <a:prstGeom prst="cloudCallout">
            <a:avLst>
              <a:gd name="adj1" fmla="val -60319"/>
              <a:gd name="adj2" fmla="val 5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¿Cómo los analizam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5562720"/>
            <a:ext cx="3276720" cy="761760"/>
          </a:xfrm>
          <a:prstGeom prst="cloudCallout">
            <a:avLst>
              <a:gd name="adj1" fmla="val 76064"/>
              <a:gd name="adj2" fmla="val -162291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¿Cómo concluim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221304"/>
                </a:solidFill>
                <a:latin typeface="Times New Roman"/>
              </a:rPr>
              <a:t>Pasos lógicos al vernos enfrentados a un estudio estadístico</a:t>
            </a:r>
            <a:endParaRPr b="0" lang="en-US" sz="3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676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finición de objetivo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1676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tudio de extracción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8862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nálisis exploratorio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38862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nálisis inferencial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362320"/>
            <a:ext cx="274320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Definición del problem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Marco del estud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2417760"/>
            <a:ext cx="2743200" cy="17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Selección del tipo de muestre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Definición tamaño muestr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Diseño de encues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4648320"/>
            <a:ext cx="27432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¿Qué observo en los datos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lanteamiento de hipótesi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4648320"/>
            <a:ext cx="27432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¿Qué hipótesis son válidas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¿Qué tipo de relación existen entre las variables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6" idx="3"/>
            <a:endCxn id="137" idx="1"/>
          </p:cNvCxnSpPr>
          <p:nvPr/>
        </p:nvCxnSpPr>
        <p:spPr>
          <a:xfrm>
            <a:off x="4495320" y="2026800"/>
            <a:ext cx="1296360" cy="108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7" idx="3"/>
            <a:endCxn id="138" idx="3"/>
          </p:cNvCxnSpPr>
          <p:nvPr/>
        </p:nvCxnSpPr>
        <p:spPr>
          <a:xfrm flipH="1">
            <a:off x="8458200" y="2026800"/>
            <a:ext cx="76680" cy="2210760"/>
          </a:xfrm>
          <a:prstGeom prst="bentConnector3">
            <a:avLst>
              <a:gd name="adj1" fmla="val -30141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8" idx="1"/>
            <a:endCxn id="139" idx="3"/>
          </p:cNvCxnSpPr>
          <p:nvPr/>
        </p:nvCxnSpPr>
        <p:spPr>
          <a:xfrm rot="10800000">
            <a:off x="4342680" y="4236480"/>
            <a:ext cx="1372320" cy="108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6" idx="1"/>
          </p:cNvCxnSpPr>
          <p:nvPr/>
        </p:nvCxnSpPr>
        <p:spPr>
          <a:xfrm flipH="1" rot="10800000">
            <a:off x="1599120" y="2026440"/>
            <a:ext cx="153000" cy="2210760"/>
          </a:xfrm>
          <a:prstGeom prst="bentConnector3">
            <a:avLst>
              <a:gd name="adj1" fmla="val -1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221304"/>
                </a:solidFill>
                <a:latin typeface="Times New Roman"/>
              </a:rPr>
              <a:t>Las técnicas de muestreo permiten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cidir la cantidad de datos neces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Tamaño de la muest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ómo obtener los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Tipo de muestre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JM:    Min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aminación de rí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tudio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69228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98100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357336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3284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48428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198900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3068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2781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249228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2276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773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19700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3789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4076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4292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484360" y="1628280"/>
            <a:ext cx="4895640" cy="4316400"/>
            <a:chOff x="2484360" y="1628280"/>
            <a:chExt cx="4895640" cy="4316400"/>
          </a:xfrm>
        </p:grpSpPr>
        <p:sp>
          <p:nvSpPr>
            <p:cNvPr id="166" name=""/>
            <p:cNvSpPr/>
            <p:nvPr/>
          </p:nvSpPr>
          <p:spPr>
            <a:xfrm>
              <a:off x="2484360" y="5157720"/>
              <a:ext cx="48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48436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57200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92400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20328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21964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94036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2728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95640" y="5302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8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76360" y="5302080"/>
              <a:ext cx="5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4328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9272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2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38000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65928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1164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3236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4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50920" y="443700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458136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4797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5013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537372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386064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3789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342900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422100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5373720"/>
            <a:ext cx="43200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97360"/>
            <a:ext cx="43200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342900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2852640"/>
            <a:ext cx="43200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álisis Exploratori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43000" y="2241720"/>
            <a:ext cx="4025880" cy="14792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343560" y="3360600"/>
            <a:ext cx="854280" cy="846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076800" y="4019400"/>
            <a:ext cx="854280" cy="8445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010280" y="3954600"/>
            <a:ext cx="854280" cy="844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7308720" y="342900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6516720" y="4653000"/>
            <a:ext cx="922320" cy="923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195640" y="1125360"/>
            <a:ext cx="2233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77 Decibe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1916280"/>
            <a:ext cx="2233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80 Decibe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36572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Límite legal: 78,5 decib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Un caso concret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Análisis gén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MICROARR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Análisis de Microarra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43120" y="1778040"/>
            <a:ext cx="3903480" cy="4021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156360" y="2133720"/>
            <a:ext cx="23032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Garamond"/>
              </a:rPr>
              <a:t>Análisis  jerárquic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Análisis de Microarra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76320" y="1976400"/>
            <a:ext cx="4867560" cy="3463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877080" y="2492280"/>
            <a:ext cx="18716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0000"/>
                </a:solidFill>
                <a:latin typeface="Garamond"/>
              </a:rPr>
              <a:t>Análisis de Clust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¿Qué haríamos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sin la Estadística?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09760" y="990360"/>
            <a:ext cx="773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21304"/>
                </a:solidFill>
                <a:latin typeface="Times New Roman"/>
              </a:rPr>
              <a:t>Lo que queremos es a aprender a inferir el comportamiento de toda una población a partir de los datos obtenidos de una muestr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3760" y="4367160"/>
            <a:ext cx="360" cy="3240"/>
            <a:chOff x="3803760" y="4367160"/>
            <a:chExt cx="360" cy="324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3803760" y="43700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4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5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6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7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8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9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10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11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2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3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14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15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6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17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18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19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20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21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2"/>
            <a:stretch/>
          </p:blipFill>
          <p:spPr>
            <a:xfrm>
              <a:off x="3803760" y="43696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23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24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5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26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27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28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9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30"/>
            <a:stretch/>
          </p:blipFill>
          <p:spPr>
            <a:xfrm>
              <a:off x="3803760" y="43700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31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32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33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34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35"/>
            <a:stretch/>
          </p:blipFill>
          <p:spPr>
            <a:xfrm>
              <a:off x="3803760" y="43696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36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37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38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39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40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41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42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43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44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45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46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47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48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49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50"/>
            <a:stretch/>
          </p:blipFill>
          <p:spPr>
            <a:xfrm>
              <a:off x="3803760" y="43696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51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52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53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54"/>
            <a:stretch/>
          </p:blipFill>
          <p:spPr>
            <a:xfrm>
              <a:off x="3803760" y="43696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55"/>
            <a:stretch/>
          </p:blipFill>
          <p:spPr>
            <a:xfrm>
              <a:off x="3803760" y="43700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56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57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"/>
          <p:cNvSpPr/>
          <p:nvPr/>
        </p:nvSpPr>
        <p:spPr>
          <a:xfrm>
            <a:off x="4572000" y="2743200"/>
            <a:ext cx="457200" cy="3124080"/>
          </a:xfrm>
          <a:custGeom>
            <a:avLst/>
            <a:gdLst>
              <a:gd name="textAreaLeft" fmla="*/ 0 w 457200"/>
              <a:gd name="textAreaRight" fmla="*/ 16488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257800" y="2971800"/>
            <a:ext cx="1828800" cy="2666880"/>
            <a:chOff x="5257800" y="2971800"/>
            <a:chExt cx="1828800" cy="2666880"/>
          </a:xfrm>
        </p:grpSpPr>
        <p:pic>
          <p:nvPicPr>
            <p:cNvPr id="275" name="" descr=""/>
            <p:cNvPicPr/>
            <p:nvPr/>
          </p:nvPicPr>
          <p:blipFill>
            <a:blip r:embed="rId58"/>
            <a:stretch/>
          </p:blipFill>
          <p:spPr>
            <a:xfrm>
              <a:off x="5257800" y="2971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59"/>
            <a:stretch/>
          </p:blipFill>
          <p:spPr>
            <a:xfrm>
              <a:off x="5410080" y="31240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60"/>
            <a:stretch/>
          </p:blipFill>
          <p:spPr>
            <a:xfrm>
              <a:off x="5562360" y="32767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61"/>
            <a:stretch/>
          </p:blipFill>
          <p:spPr>
            <a:xfrm>
              <a:off x="5715000" y="3429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62"/>
            <a:stretch/>
          </p:blipFill>
          <p:spPr>
            <a:xfrm>
              <a:off x="5257800" y="3581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63"/>
            <a:stretch/>
          </p:blipFill>
          <p:spPr>
            <a:xfrm>
              <a:off x="5410080" y="3886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64"/>
            <a:stretch/>
          </p:blipFill>
          <p:spPr>
            <a:xfrm>
              <a:off x="5790960" y="38862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65"/>
            <a:stretch/>
          </p:blipFill>
          <p:spPr>
            <a:xfrm>
              <a:off x="5562360" y="42670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66"/>
            <a:stretch/>
          </p:blipFill>
          <p:spPr>
            <a:xfrm>
              <a:off x="5333760" y="46483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67"/>
            <a:stretch/>
          </p:blipFill>
          <p:spPr>
            <a:xfrm>
              <a:off x="5867280" y="46483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68"/>
            <a:stretch/>
          </p:blipFill>
          <p:spPr>
            <a:xfrm>
              <a:off x="5638680" y="4952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69"/>
            <a:stretch/>
          </p:blipFill>
          <p:spPr>
            <a:xfrm>
              <a:off x="5562360" y="51814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70"/>
            <a:stretch/>
          </p:blipFill>
          <p:spPr>
            <a:xfrm>
              <a:off x="5943600" y="51055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6248160" y="4114800"/>
              <a:ext cx="838440" cy="380880"/>
            </a:xfrm>
            <a:custGeom>
              <a:avLst/>
              <a:gdLst>
                <a:gd name="textAreaLeft" fmla="*/ 131040 w 838440"/>
                <a:gd name="textAreaRight" fmla="*/ 733680 w 83844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162920" y="380988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clusiones sobre un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523880" y="2743200"/>
            <a:ext cx="2994120" cy="3200400"/>
            <a:chOff x="1523880" y="2743200"/>
            <a:chExt cx="2994120" cy="3200400"/>
          </a:xfrm>
        </p:grpSpPr>
        <p:pic>
          <p:nvPicPr>
            <p:cNvPr id="291" name="" descr=""/>
            <p:cNvPicPr/>
            <p:nvPr/>
          </p:nvPicPr>
          <p:blipFill>
            <a:blip r:embed="rId71"/>
            <a:stretch/>
          </p:blipFill>
          <p:spPr>
            <a:xfrm>
              <a:off x="1855800" y="342900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72"/>
            <a:stretch/>
          </p:blipFill>
          <p:spPr>
            <a:xfrm>
              <a:off x="2361960" y="5334120"/>
              <a:ext cx="38124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73"/>
            <a:stretch/>
          </p:blipFill>
          <p:spPr>
            <a:xfrm>
              <a:off x="2286000" y="47242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74"/>
            <a:stretch/>
          </p:blipFill>
          <p:spPr>
            <a:xfrm>
              <a:off x="2286000" y="3581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75"/>
            <a:stretch/>
          </p:blipFill>
          <p:spPr>
            <a:xfrm>
              <a:off x="2971800" y="48769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76"/>
            <a:stretch/>
          </p:blipFill>
          <p:spPr>
            <a:xfrm>
              <a:off x="2209680" y="4343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77"/>
            <a:stretch/>
          </p:blipFill>
          <p:spPr>
            <a:xfrm>
              <a:off x="2590560" y="32767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78"/>
            <a:stretch/>
          </p:blipFill>
          <p:spPr>
            <a:xfrm>
              <a:off x="2514600" y="44197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79"/>
            <a:stretch/>
          </p:blipFill>
          <p:spPr>
            <a:xfrm>
              <a:off x="2438280" y="39625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80"/>
            <a:stretch/>
          </p:blipFill>
          <p:spPr>
            <a:xfrm>
              <a:off x="2133360" y="38862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81"/>
            <a:stretch/>
          </p:blipFill>
          <p:spPr>
            <a:xfrm>
              <a:off x="2666880" y="3733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82"/>
            <a:stretch/>
          </p:blipFill>
          <p:spPr>
            <a:xfrm>
              <a:off x="2057400" y="3200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83"/>
            <a:stretch/>
          </p:blipFill>
          <p:spPr>
            <a:xfrm>
              <a:off x="2286000" y="30481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84"/>
            <a:stretch/>
          </p:blipFill>
          <p:spPr>
            <a:xfrm>
              <a:off x="2819160" y="41148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85"/>
            <a:stretch/>
          </p:blipFill>
          <p:spPr>
            <a:xfrm>
              <a:off x="2971800" y="3429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86"/>
            <a:stretch/>
          </p:blipFill>
          <p:spPr>
            <a:xfrm>
              <a:off x="1981080" y="4495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87"/>
            <a:stretch/>
          </p:blipFill>
          <p:spPr>
            <a:xfrm>
              <a:off x="2895480" y="4572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88"/>
            <a:stretch/>
          </p:blipFill>
          <p:spPr>
            <a:xfrm>
              <a:off x="2971800" y="3809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89"/>
            <a:stretch/>
          </p:blipFill>
          <p:spPr>
            <a:xfrm>
              <a:off x="3047760" y="43434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90"/>
            <a:stretch/>
          </p:blipFill>
          <p:spPr>
            <a:xfrm>
              <a:off x="2514600" y="2743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91"/>
            <a:stretch/>
          </p:blipFill>
          <p:spPr>
            <a:xfrm>
              <a:off x="2895480" y="31240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92"/>
            <a:stretch/>
          </p:blipFill>
          <p:spPr>
            <a:xfrm>
              <a:off x="2666880" y="5257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93"/>
            <a:stretch/>
          </p:blipFill>
          <p:spPr>
            <a:xfrm>
              <a:off x="2666880" y="4800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94"/>
            <a:stretch/>
          </p:blipFill>
          <p:spPr>
            <a:xfrm>
              <a:off x="2971800" y="28195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95"/>
            <a:stretch/>
          </p:blipFill>
          <p:spPr>
            <a:xfrm>
              <a:off x="3581280" y="33526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96"/>
            <a:stretch/>
          </p:blipFill>
          <p:spPr>
            <a:xfrm>
              <a:off x="3504960" y="41148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97"/>
            <a:stretch/>
          </p:blipFill>
          <p:spPr>
            <a:xfrm>
              <a:off x="3276360" y="33526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98"/>
            <a:stretch/>
          </p:blipFill>
          <p:spPr>
            <a:xfrm>
              <a:off x="3276360" y="44956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99"/>
            <a:stretch/>
          </p:blipFill>
          <p:spPr>
            <a:xfrm>
              <a:off x="3276360" y="38862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00"/>
            <a:stretch/>
          </p:blipFill>
          <p:spPr>
            <a:xfrm>
              <a:off x="2971800" y="54100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01"/>
            <a:stretch/>
          </p:blipFill>
          <p:spPr>
            <a:xfrm>
              <a:off x="3962160" y="33526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102"/>
            <a:stretch/>
          </p:blipFill>
          <p:spPr>
            <a:xfrm>
              <a:off x="3581280" y="28195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103"/>
            <a:stretch/>
          </p:blipFill>
          <p:spPr>
            <a:xfrm>
              <a:off x="3886200" y="434340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104"/>
            <a:stretch/>
          </p:blipFill>
          <p:spPr>
            <a:xfrm>
              <a:off x="3809880" y="38098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105"/>
            <a:stretch/>
          </p:blipFill>
          <p:spPr>
            <a:xfrm>
              <a:off x="3276360" y="50292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106"/>
            <a:stretch/>
          </p:blipFill>
          <p:spPr>
            <a:xfrm>
              <a:off x="3581280" y="46483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107"/>
            <a:stretch/>
          </p:blipFill>
          <p:spPr>
            <a:xfrm>
              <a:off x="2666880" y="2895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108"/>
            <a:stretch/>
          </p:blipFill>
          <p:spPr>
            <a:xfrm>
              <a:off x="2819160" y="30481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109"/>
            <a:stretch/>
          </p:blipFill>
          <p:spPr>
            <a:xfrm>
              <a:off x="2971800" y="3200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110"/>
            <a:stretch/>
          </p:blipFill>
          <p:spPr>
            <a:xfrm>
              <a:off x="3124080" y="3352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111"/>
            <a:stretch/>
          </p:blipFill>
          <p:spPr>
            <a:xfrm>
              <a:off x="3276360" y="35053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112"/>
            <a:stretch/>
          </p:blipFill>
          <p:spPr>
            <a:xfrm>
              <a:off x="1523880" y="3657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113"/>
            <a:stretch/>
          </p:blipFill>
          <p:spPr>
            <a:xfrm>
              <a:off x="3429000" y="3657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114"/>
            <a:stretch/>
          </p:blipFill>
          <p:spPr>
            <a:xfrm>
              <a:off x="3276360" y="28195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115"/>
            <a:stretch/>
          </p:blipFill>
          <p:spPr>
            <a:xfrm>
              <a:off x="4114800" y="4495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116"/>
            <a:stretch/>
          </p:blipFill>
          <p:spPr>
            <a:xfrm>
              <a:off x="4190760" y="41148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117"/>
            <a:stretch/>
          </p:blipFill>
          <p:spPr>
            <a:xfrm>
              <a:off x="4190760" y="37339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18"/>
            <a:stretch/>
          </p:blipFill>
          <p:spPr>
            <a:xfrm>
              <a:off x="3886200" y="4800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119"/>
            <a:stretch/>
          </p:blipFill>
          <p:spPr>
            <a:xfrm>
              <a:off x="1600200" y="4952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20"/>
            <a:stretch/>
          </p:blipFill>
          <p:spPr>
            <a:xfrm>
              <a:off x="2209680" y="5181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1"/>
            <a:stretch/>
          </p:blipFill>
          <p:spPr>
            <a:xfrm>
              <a:off x="1676160" y="44956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122"/>
            <a:stretch/>
          </p:blipFill>
          <p:spPr>
            <a:xfrm>
              <a:off x="1981080" y="4876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23"/>
            <a:stretch/>
          </p:blipFill>
          <p:spPr>
            <a:xfrm>
              <a:off x="1981080" y="39625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24"/>
            <a:stretch/>
          </p:blipFill>
          <p:spPr>
            <a:xfrm>
              <a:off x="3657600" y="5029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25"/>
            <a:stretch/>
          </p:blipFill>
          <p:spPr>
            <a:xfrm>
              <a:off x="3352680" y="5486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26"/>
            <a:stretch/>
          </p:blipFill>
          <p:spPr>
            <a:xfrm>
              <a:off x="1523880" y="4038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127"/>
            <a:stretch/>
          </p:blipFill>
          <p:spPr>
            <a:xfrm>
              <a:off x="1828800" y="4114800"/>
              <a:ext cx="32688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21304"/>
                </a:solidFill>
                <a:latin typeface="Times New Roman"/>
              </a:rPr>
              <a:t>Para empezar respondamos algunas preguntas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398840" y="2978280"/>
            <a:ext cx="95580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¿Que necesitamos para conocer a una población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s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ceso estocást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31240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O DONDE NO ES POSIBLE CONOCER DE ANTEMANO LOS RESULTADOS QUE SERÁN OBTENIDOS PARA CADA VALOR DE UNA VARI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13716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riable aleator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43200" y="19051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ARIABLE EN UN PROCESO ESTOCA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34290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LE PUEDE ASOCIAR UNA PROBABILIDAD DE OCURRENCIA EN EL PROCESO ESTOCA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3716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Individu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Pob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57400" y="1523880"/>
            <a:ext cx="6400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unidad de observación sobre la cual se quiere conocer alguna característica en estu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l individuo es un ente observable que no tiene por qué ser una persona, puede ser un objeto, un ser vivo, o incluso algo abstr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33720" y="4648320"/>
            <a:ext cx="624816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lamamos población o universo al conjunto de todos los individuos sobre el cual van a hacer las observ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3716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Cens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Muest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15238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Decimos que realizamos un censo cuando se observan todos los elementos de la pob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33720" y="4648320"/>
            <a:ext cx="624816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 un subconjunto de elementos de la pob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lit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an o expresan cu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tit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que denotan cant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Podemos transformar los tipos de variable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m: supongamos un grupo de personas con ls siguientes edades (año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523880" y="3581280"/>
            <a:ext cx="3276720" cy="533520"/>
            <a:chOff x="1523880" y="3581280"/>
            <a:chExt cx="3276720" cy="533520"/>
          </a:xfrm>
        </p:grpSpPr>
        <p:sp>
          <p:nvSpPr>
            <p:cNvPr id="365" name=""/>
            <p:cNvSpPr/>
            <p:nvPr/>
          </p:nvSpPr>
          <p:spPr>
            <a:xfrm>
              <a:off x="1523880" y="358128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,15,8,2,45,82,18,22,48,52,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00200" y="3657600"/>
              <a:ext cx="74520" cy="38088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72000" y="365760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124080" y="41148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600200" y="5181480"/>
            <a:ext cx="3733920" cy="609840"/>
            <a:chOff x="1600200" y="5181480"/>
            <a:chExt cx="3733920" cy="609840"/>
          </a:xfrm>
        </p:grpSpPr>
        <p:sp>
          <p:nvSpPr>
            <p:cNvPr id="370" name=""/>
            <p:cNvSpPr/>
            <p:nvPr/>
          </p:nvSpPr>
          <p:spPr>
            <a:xfrm>
              <a:off x="1828800" y="51814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iñ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67080" y="51814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cia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29000" y="51814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ul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90920" y="51814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o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00200" y="5791320"/>
              <a:ext cx="3733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60020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26708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335268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33412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243828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447920" y="58672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00400" y="58672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0" y="58672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4800" y="58672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90920" y="5943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52480" y="61722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76520" y="5943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52480" y="64008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6095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0" y="60040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5320" y="61722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05320" y="5943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909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90920" y="6248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0" y="62024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562720" y="4190760"/>
            <a:ext cx="4572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5105520" y="3581280"/>
            <a:ext cx="3276360" cy="533520"/>
            <a:chOff x="5105520" y="3581280"/>
            <a:chExt cx="3276360" cy="533520"/>
          </a:xfrm>
        </p:grpSpPr>
        <p:sp>
          <p:nvSpPr>
            <p:cNvPr id="397" name=""/>
            <p:cNvSpPr/>
            <p:nvPr/>
          </p:nvSpPr>
          <p:spPr>
            <a:xfrm>
              <a:off x="5105520" y="358128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,j,n,n,a,anc,j,j,a,a,an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81480" y="3657600"/>
              <a:ext cx="74160" cy="380880"/>
            </a:xfrm>
            <a:custGeom>
              <a:avLst/>
              <a:gdLst>
                <a:gd name="textAreaLeft" fmla="*/ 47520 w 74160"/>
                <a:gd name="textAreaRight" fmla="*/ 74160 w 741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153280" y="3657600"/>
              <a:ext cx="75600" cy="457200"/>
            </a:xfrm>
            <a:custGeom>
              <a:avLst/>
              <a:gdLst>
                <a:gd name="textAreaLeft" fmla="*/ 0 w 75600"/>
                <a:gd name="textAreaRight" fmla="*/ 27360 w 7560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¿Cuando una variable aleatoria queda bien definida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683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sabemos cómo se distribu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j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477800" y="2819520"/>
            <a:ext cx="4034160" cy="2803320"/>
            <a:chOff x="1477800" y="2819520"/>
            <a:chExt cx="4034160" cy="2803320"/>
          </a:xfrm>
        </p:grpSpPr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1477800" y="2819520"/>
                  <a:ext cx="3360960" cy="94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→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1477800" y="3809880"/>
                  <a:ext cx="4034160" cy="181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rad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5" name=""/>
          <p:cNvSpPr/>
          <p:nvPr/>
        </p:nvSpPr>
        <p:spPr>
          <a:xfrm>
            <a:off x="5029200" y="27432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 muestras solo obtenemos estimación de los pará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419720" y="4952880"/>
                <a:ext cx="42372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794040" y="2227320"/>
                <a:ext cx="34671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8" name=""/>
          <p:cNvGrpSpPr/>
          <p:nvPr/>
        </p:nvGrpSpPr>
        <p:grpSpPr>
          <a:xfrm>
            <a:off x="1905120" y="1600200"/>
            <a:ext cx="1828800" cy="2666880"/>
            <a:chOff x="1905120" y="1600200"/>
            <a:chExt cx="1828800" cy="2666880"/>
          </a:xfrm>
        </p:grpSpPr>
        <p:pic>
          <p:nvPicPr>
            <p:cNvPr id="409" name="" descr=""/>
            <p:cNvPicPr/>
            <p:nvPr/>
          </p:nvPicPr>
          <p:blipFill>
            <a:blip r:embed="rId1"/>
            <a:stretch/>
          </p:blipFill>
          <p:spPr>
            <a:xfrm>
              <a:off x="1905120" y="1600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2"/>
            <a:stretch/>
          </p:blipFill>
          <p:spPr>
            <a:xfrm>
              <a:off x="2057400" y="1752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3"/>
            <a:stretch/>
          </p:blipFill>
          <p:spPr>
            <a:xfrm>
              <a:off x="2209680" y="19051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4"/>
            <a:stretch/>
          </p:blipFill>
          <p:spPr>
            <a:xfrm>
              <a:off x="2362320" y="2057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5"/>
            <a:stretch/>
          </p:blipFill>
          <p:spPr>
            <a:xfrm>
              <a:off x="1905120" y="2209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6"/>
            <a:stretch/>
          </p:blipFill>
          <p:spPr>
            <a:xfrm>
              <a:off x="2057400" y="2514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7"/>
            <a:stretch/>
          </p:blipFill>
          <p:spPr>
            <a:xfrm>
              <a:off x="2438280" y="25146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8"/>
            <a:stretch/>
          </p:blipFill>
          <p:spPr>
            <a:xfrm>
              <a:off x="2209680" y="28954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9"/>
            <a:stretch/>
          </p:blipFill>
          <p:spPr>
            <a:xfrm>
              <a:off x="1981080" y="32767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10"/>
            <a:stretch/>
          </p:blipFill>
          <p:spPr>
            <a:xfrm>
              <a:off x="2514600" y="32767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11"/>
            <a:stretch/>
          </p:blipFill>
          <p:spPr>
            <a:xfrm>
              <a:off x="2286000" y="3581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12"/>
            <a:stretch/>
          </p:blipFill>
          <p:spPr>
            <a:xfrm>
              <a:off x="2209680" y="38098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13"/>
            <a:stretch/>
          </p:blipFill>
          <p:spPr>
            <a:xfrm>
              <a:off x="2590920" y="3733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2895480" y="2743200"/>
              <a:ext cx="838440" cy="380880"/>
            </a:xfrm>
            <a:custGeom>
              <a:avLst/>
              <a:gdLst>
                <a:gd name="textAreaLeft" fmla="*/ 131040 w 838440"/>
                <a:gd name="textAreaRight" fmla="*/ 733680 w 83844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2286000" y="49528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¿Cuanto vale         y cuanto vale         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7086600" y="4952880"/>
                <a:ext cx="6732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Tipos de muestreos más comunes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estreo aleatorio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28800" y="2666880"/>
            <a:ext cx="59436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uestra es sacada la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muestreo asigna una probabilidad igual y conocida a todos los elementos de la mues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71600" y="5029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qui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50292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ner conocimiento de cada elemento de la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71600" y="5943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mplic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5867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uestreo estratificad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 una ó mas variables que permiten estratificar a la pob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43000" y="3505320"/>
            <a:ext cx="4191120" cy="28954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57400" y="4572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600200" y="3581280"/>
            <a:ext cx="3581280" cy="2438640"/>
            <a:chOff x="1600200" y="3581280"/>
            <a:chExt cx="3581280" cy="2438640"/>
          </a:xfrm>
        </p:grpSpPr>
        <p:sp>
          <p:nvSpPr>
            <p:cNvPr id="437" name=""/>
            <p:cNvSpPr/>
            <p:nvPr/>
          </p:nvSpPr>
          <p:spPr>
            <a:xfrm>
              <a:off x="1676520" y="4038480"/>
              <a:ext cx="297180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600200" y="3581280"/>
              <a:ext cx="20574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2666880" y="4419360"/>
              <a:ext cx="2514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4267080" y="396252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95680" y="48006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19520" y="57150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19320" y="45720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812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828800" y="3886200"/>
            <a:ext cx="2133720" cy="1742400"/>
            <a:chOff x="1828800" y="3886200"/>
            <a:chExt cx="2133720" cy="1742400"/>
          </a:xfrm>
        </p:grpSpPr>
        <p:sp>
          <p:nvSpPr>
            <p:cNvPr id="446" name=""/>
            <p:cNvSpPr/>
            <p:nvPr/>
          </p:nvSpPr>
          <p:spPr>
            <a:xfrm>
              <a:off x="2209680" y="388620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14600" y="525780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05320" y="480060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05320" y="39625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828800" y="44956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5410080" y="3505320"/>
            <a:ext cx="3429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o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 .. Son propor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¿Ustedes preguntarían a cada chileno cual es la bebida que prefiere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76480" y="2241720"/>
            <a:ext cx="5867280" cy="2020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76360" y="476280"/>
            <a:ext cx="64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Para saber cual es la bebida más consumida en Ch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uestreo sistemátic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numeran cada uno de los elemen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ordenan al az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scoge un período de salto al az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o reproduce un m.a.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CTIVIDADES DEL CURS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Evaluaciones, los cuales conformarán la nota de controles de la siguiente ma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1 : promedio evaluación 1 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2 : promedio evaluación 3 y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3 : promedio evaluación 5 y 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borrará ninguna evaluación y alguna inasistencia a alguno equivaldrá a un 1.0 en ese ejercicio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21304"/>
                </a:solidFill>
                <a:latin typeface="Times New Roman"/>
              </a:rPr>
              <a:t>ACTIVIDADES DEL CURSO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Trabajos de desarrollo, los cuales conformarán las notas de ejercicio de la siguiente man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 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promedio trabajo 1 y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 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promedio trabaj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y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 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promedio trabaj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y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s trabajos se realizan en grupos de 2 personas, los cuales son definidos el primer día de clases por el profe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borrará ningún ejercicio y alguna inasistencia a alguno equivaldrá a un 1.0 en ese ejercicio y se estará perjudicando directamente a su compañero de gru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21304"/>
                </a:solidFill>
                <a:latin typeface="Times New Roman"/>
              </a:rPr>
              <a:t>ACTIVIDADES DEL CURSO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Presentación y defensa del trabajo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ám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endario de clases y actividades de cátedra ya está conformado y disponible para ustedes en el ucur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21304"/>
                </a:solidFill>
                <a:latin typeface="Times New Roman"/>
              </a:rPr>
              <a:t>CALENDARIO ACTIVIDAD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1143000" y="2124000"/>
          <a:ext cx="7243920" cy="31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24000"/>
                    <a:ext cx="724392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221304"/>
                </a:solidFill>
                <a:latin typeface="Times New Roman"/>
              </a:rPr>
              <a:t>Para saber cuantos peces tiene un lago</a:t>
            </a:r>
            <a:endParaRPr b="0" lang="en-US" sz="45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76040"/>
            <a:ext cx="69008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Los pescarían todos y los contarí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76600" y="3228840"/>
            <a:ext cx="2600640" cy="2570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76400" y="2701800"/>
            <a:ext cx="11304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Para saber si un medicamento nuevo es realmente eficaz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43160" y="1976400"/>
          <a:ext cx="2873160" cy="34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3160" y="1976400"/>
                    <a:ext cx="287316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140360" y="2276640"/>
            <a:ext cx="439236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aramond"/>
              </a:rPr>
              <a:t>¿Lo probarían en todos los pacientes y verían a cuantos les hizo bien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221304"/>
                </a:solidFill>
                <a:latin typeface="Times New Roman"/>
              </a:rPr>
              <a:t>Para saber los niveles de contaminación del aire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43080" y="1928880"/>
            <a:ext cx="2718000" cy="340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744440" y="2349360"/>
            <a:ext cx="38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¿DONDE MEDIMO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ra saber si la sopa está buen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1828800"/>
            <a:ext cx="44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¿Nos tomaremos toda la Sop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2710080" cy="3487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14400" y="4952880"/>
            <a:ext cx="44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¿Me basta con una cucharadit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Las preguntas anteriores nos llevan a pensar que: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277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estudiar ciertos fenómenos no es posible realizar todas las mediciones que quisiéra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29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¿Cuáles serían las principales  restricciones?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900000" y="4076640"/>
            <a:ext cx="2160720" cy="2565360"/>
            <a:chOff x="900000" y="4076640"/>
            <a:chExt cx="2160720" cy="256536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1042920" y="4657680"/>
              <a:ext cx="1546200" cy="19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900000" y="4076640"/>
              <a:ext cx="216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Garamond"/>
                </a:rPr>
                <a:t>Tiemp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572000" y="4076640"/>
            <a:ext cx="3600360" cy="2781360"/>
            <a:chOff x="4572000" y="4076640"/>
            <a:chExt cx="3600360" cy="2781360"/>
          </a:xfrm>
        </p:grpSpPr>
        <p:sp>
          <p:nvSpPr>
            <p:cNvPr id="122" name=""/>
            <p:cNvSpPr/>
            <p:nvPr/>
          </p:nvSpPr>
          <p:spPr>
            <a:xfrm>
              <a:off x="6372360" y="4076640"/>
              <a:ext cx="1800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Garamond"/>
                </a:rPr>
                <a:t>Costo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4572000" y="4991040"/>
              <a:ext cx="2943360" cy="186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¿Qué es la Estadística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 Estadística es una Ciencia que provee de métodos matemáticos a las otras ciencias y disciplinas de manera que éstas puedan recolectar datos que les permitan entender los fenómenos que observ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2:32:56Z</dcterms:created>
  <dc:creator>cmorales</dc:creator>
  <dc:description/>
  <dc:language>en-US</dc:language>
  <cp:lastModifiedBy>cmorales</cp:lastModifiedBy>
  <dcterms:modified xsi:type="dcterms:W3CDTF">2004-12-09T15:10:42Z</dcterms:modified>
  <cp:revision>9</cp:revision>
  <dc:subject/>
  <dc:title>ESTADISTICA MA34B 02</dc:title>
</cp:coreProperties>
</file>