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3293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3293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3293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3293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3293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c0c0c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c0c0c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2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32004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AUXILIAR Nº1</a:t>
            </a:r>
            <a:br>
              <a:rPr sz="4400"/>
            </a:br>
            <a:br>
              <a:rPr sz="4400"/>
            </a:br>
            <a:r>
              <a:rPr b="1" lang="en-US" sz="5400" spc="-1" strike="noStrike">
                <a:solidFill>
                  <a:srgbClr val="ffffff"/>
                </a:solidFill>
                <a:latin typeface="Bookman Old Style"/>
              </a:rPr>
              <a:t>ANALISIS ESTRATEGICO</a:t>
            </a:r>
            <a:endParaRPr b="1" lang="en-US" sz="5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905120" y="5638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ANALISIS INTERN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CADENA DEL VALOR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72960" y="2133720"/>
            <a:ext cx="8542440" cy="4267080"/>
            <a:chOff x="372960" y="2133720"/>
            <a:chExt cx="8542440" cy="4267080"/>
          </a:xfrm>
        </p:grpSpPr>
        <p:grpSp>
          <p:nvGrpSpPr>
            <p:cNvPr id="74" name=""/>
            <p:cNvGrpSpPr/>
            <p:nvPr/>
          </p:nvGrpSpPr>
          <p:grpSpPr>
            <a:xfrm>
              <a:off x="1447560" y="2133720"/>
              <a:ext cx="7467840" cy="4267080"/>
              <a:chOff x="1447560" y="2133720"/>
              <a:chExt cx="7467840" cy="4267080"/>
            </a:xfrm>
          </p:grpSpPr>
          <p:sp>
            <p:nvSpPr>
              <p:cNvPr id="75" name=""/>
              <p:cNvSpPr/>
              <p:nvPr/>
            </p:nvSpPr>
            <p:spPr>
              <a:xfrm>
                <a:off x="1447920" y="2133720"/>
                <a:ext cx="7467480" cy="4267080"/>
              </a:xfrm>
              <a:custGeom>
                <a:avLst/>
                <a:gdLst>
                  <a:gd name="textAreaLeft" fmla="*/ 0 w 7467480"/>
                  <a:gd name="textAreaRight" fmla="*/ 7467840 w 7467480"/>
                  <a:gd name="textAreaTop" fmla="*/ 0 h 4267080"/>
                  <a:gd name="textAreaBottom" fmla="*/ 4267440 h 4267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1447560" y="4267440"/>
                <a:ext cx="746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447920" y="3163680"/>
                <a:ext cx="651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47920" y="2648520"/>
                <a:ext cx="604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47920" y="3678480"/>
                <a:ext cx="69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737800" y="42674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027680" y="42674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85240" y="42674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742800" y="42674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924200" y="2207160"/>
                <a:ext cx="52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c0"/>
                    </a:solidFill>
                    <a:latin typeface="Times New Roman"/>
                  </a:rPr>
                  <a:t>Infraestructura de la Firm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924200" y="2707200"/>
                <a:ext cx="52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c0"/>
                    </a:solidFill>
                    <a:latin typeface="Times New Roman"/>
                  </a:rPr>
                  <a:t>Recursos Human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924200" y="3223440"/>
                <a:ext cx="52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c0"/>
                    </a:solidFill>
                    <a:latin typeface="Times New Roman"/>
                  </a:rPr>
                  <a:t>Tecnologí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24200" y="3810600"/>
                <a:ext cx="52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c0"/>
                    </a:solidFill>
                    <a:latin typeface="Times New Roman"/>
                  </a:rPr>
                  <a:t>Adquisicion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447920" y="4708800"/>
                <a:ext cx="128988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c0"/>
                    </a:solidFill>
                    <a:latin typeface="Times New Roman"/>
                  </a:rPr>
                  <a:t>Logística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c0"/>
                    </a:solidFill>
                    <a:latin typeface="Times New Roman"/>
                  </a:rPr>
                  <a:t>de Entrad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738880" y="4929480"/>
                <a:ext cx="128844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c0c0c0"/>
                    </a:solidFill>
                    <a:latin typeface="Times New Roman"/>
                  </a:rPr>
                  <a:t>Operacione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095360" y="4708800"/>
                <a:ext cx="128988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c0"/>
                    </a:solidFill>
                    <a:latin typeface="Times New Roman"/>
                  </a:rPr>
                  <a:t>Logística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c0"/>
                    </a:solidFill>
                    <a:latin typeface="Times New Roman"/>
                  </a:rPr>
                  <a:t>de Salid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385240" y="4708800"/>
                <a:ext cx="128988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c0"/>
                    </a:solidFill>
                    <a:latin typeface="Times New Roman"/>
                  </a:rPr>
                  <a:t>Market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c0"/>
                    </a:solidFill>
                    <a:latin typeface="Times New Roman"/>
                  </a:rPr>
                  <a:t>Y Vent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675120" y="4708800"/>
                <a:ext cx="128952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c0c0"/>
                    </a:solidFill>
                    <a:latin typeface="Times New Roman"/>
                  </a:rPr>
                  <a:t>Servic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c0c0"/>
                    </a:solidFill>
                    <a:latin typeface="Times New Roman"/>
                  </a:rPr>
                  <a:t>Post-Ven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1219320" y="213372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93"/>
                  </a:lnTo>
                  <a:cubicBezTo>
                    <a:pt x="10800" y="10093"/>
                    <a:pt x="5400" y="10993"/>
                    <a:pt x="0" y="10993"/>
                  </a:cubicBezTo>
                  <a:cubicBezTo>
                    <a:pt x="5400" y="10993"/>
                    <a:pt x="10800" y="11893"/>
                    <a:pt x="10800" y="1279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19320" y="4267080"/>
              <a:ext cx="228600" cy="2133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93"/>
                  </a:lnTo>
                  <a:cubicBezTo>
                    <a:pt x="10800" y="10093"/>
                    <a:pt x="5400" y="10993"/>
                    <a:pt x="0" y="10993"/>
                  </a:cubicBezTo>
                  <a:cubicBezTo>
                    <a:pt x="5400" y="10993"/>
                    <a:pt x="10800" y="11893"/>
                    <a:pt x="10800" y="1279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6200000">
              <a:off x="-227520" y="2886480"/>
              <a:ext cx="1905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c0"/>
                  </a:solidFill>
                  <a:latin typeface="Times New Roman"/>
                </a:rPr>
                <a:t>Actividades de Apoy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6200000">
              <a:off x="-219240" y="4942080"/>
              <a:ext cx="190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c0"/>
                  </a:solidFill>
                  <a:latin typeface="Times New Roman"/>
                </a:rPr>
                <a:t>Actividades Primar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Análisis In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Logística de Entrada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Recepción y almacenaje  de insum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Manejo de material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Sistema de control de inventari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Programación de vehícul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Sistema de devolución de insumos a proveedor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Operaciones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Producción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Embalaje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Control de calidad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Reemplazo de equip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Análisis In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Logística Salida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Distribución del product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Almacenaje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Programación de pedid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Programación vehículos de despach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Marketing y Ventas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Facilidades del proceso de compra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Diseño del Product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Relación con canales de distribución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Determinación del preci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Servicio Post-Venta: </a:t>
            </a: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de la misma empresa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Garantía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Fortalezas de la empres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Debilidades de la empres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Identificación de estrategia competitiva genérica: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Liderazgo en cos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Economías de escala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Gran capacidad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Diferenciación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Alta calidad del producto, logística de salida o servicios de post-venta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Focalización: 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Concentrados en un grupo de comprador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CONCLUSION ANALISIS IN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076960" cy="29718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ookman Old Style"/>
              </a:rPr>
              <a:t>CASO: LA ERA DEL HIELO</a:t>
            </a:r>
            <a:endParaRPr b="1" lang="en-US" sz="5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PODER DE LOS COMPRADORE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Compras en pequeños volúmenes  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Producto estándar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Bastante existencia de puntos de comercialización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c0c0c0"/>
                </a:solidFill>
                <a:latin typeface="Bookman Old Style"/>
              </a:rPr>
              <a:t>Bajo Poder de los Compradores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25909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7480" y="20574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35053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PODER DE LOS SUSTITUTO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Gran cantidad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Alta disponibilidad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Producto sin marketing agresiv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Alto precio relativ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c0c0c0"/>
                </a:solidFill>
                <a:latin typeface="Bookman Old Style"/>
              </a:rPr>
              <a:t>Alto Poder de los Sustitutos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11" name=""/>
          <p:cNvSpPr/>
          <p:nvPr/>
        </p:nvSpPr>
        <p:spPr>
          <a:xfrm>
            <a:off x="7315200" y="36576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2057400"/>
            <a:ext cx="304560" cy="304920"/>
          </a:xfrm>
          <a:prstGeom prst="up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25909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30481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PODER DE LOS PROVEEDORE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Bastante cantidad de proveedore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Insumo poco diferenciad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Insumo importante en la calidad del product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Insumo importante en la estructura de costo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El bajo riesgo de integración hacia del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Proveedor con pocos cliente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c0c0c0"/>
                </a:solidFill>
                <a:latin typeface="Bookman Old Style"/>
              </a:rPr>
              <a:t>  </a:t>
            </a:r>
            <a:r>
              <a:rPr b="1" lang="en-US" sz="3000" spc="-1" strike="noStrike">
                <a:solidFill>
                  <a:srgbClr val="c0c0c0"/>
                </a:solidFill>
                <a:latin typeface="Bookman Old Style"/>
              </a:rPr>
              <a:t>Bajo Poder de los Proveedores</a:t>
            </a: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32767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20574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243828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403848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458200" y="44956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49528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PELIGRO DE ENTRADA DE NUEVOS PARTICIPANTES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Crecimiento de la demand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Caso único Latinoaméric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Barreras de entrada: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Estacionalidad 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Poca diferenciación de produc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Alto prestigio de marca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Bastantes canales de distribución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Alta concentración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c0c0c0"/>
                </a:solidFill>
                <a:latin typeface="Bookman Old Style"/>
              </a:rPr>
              <a:t>Alto Riego de Entrada de Nuevos Competidores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26" name=""/>
          <p:cNvSpPr/>
          <p:nvPr/>
        </p:nvSpPr>
        <p:spPr>
          <a:xfrm>
            <a:off x="6095880" y="198108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23623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51640" y="4005360"/>
            <a:ext cx="30456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11640" y="321300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20000" y="472428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48360" y="4292640"/>
            <a:ext cx="304560" cy="304920"/>
          </a:xfrm>
          <a:prstGeom prst="up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5084640"/>
            <a:ext cx="304560" cy="304920"/>
          </a:xfrm>
          <a:prstGeom prst="up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77080" y="357336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RIVALIDAD ENTRE ACTUALES COMPETIDORES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c0c0"/>
                </a:solidFill>
                <a:latin typeface="Bookman Old Style"/>
              </a:rPr>
              <a:t>Baja cantidad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c0c0"/>
                </a:solidFill>
                <a:latin typeface="Bookman Old Style"/>
              </a:rPr>
              <a:t>Existencia de un actor dominante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c0c0"/>
                </a:solidFill>
                <a:latin typeface="Bookman Old Style"/>
              </a:rPr>
              <a:t>Poca diferenciación del producto 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c0c0"/>
                </a:solidFill>
                <a:latin typeface="Bookman Old Style"/>
              </a:rPr>
              <a:t>Alto crecimiento de la demanda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n-US" sz="34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n-US" sz="3400" spc="-1" strike="noStrike">
                <a:solidFill>
                  <a:srgbClr val="c0c0c0"/>
                </a:solidFill>
                <a:latin typeface="Bookman Old Style"/>
              </a:rPr>
              <a:t>Mediana Competitividad</a:t>
            </a:r>
            <a:endParaRPr b="0" lang="en-US" sz="3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36" name=""/>
          <p:cNvSpPr/>
          <p:nvPr/>
        </p:nvSpPr>
        <p:spPr>
          <a:xfrm>
            <a:off x="7236000" y="3716280"/>
            <a:ext cx="304560" cy="304920"/>
          </a:xfrm>
          <a:prstGeom prst="up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80360" y="3213000"/>
            <a:ext cx="304560" cy="304920"/>
          </a:xfrm>
          <a:prstGeom prst="up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2637000"/>
            <a:ext cx="30456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19640" y="43657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51280" y="21337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AGENDA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Análisis Externo: Porter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Amenazas y Oportunidades de la Industria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Análisis Interno: Cadena del Valor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Fortalezas y Debilidades de la Empresa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c0c0"/>
                </a:solidFill>
                <a:latin typeface="Bookman Old Style"/>
              </a:rPr>
              <a:t>Expectativas de renta:</a:t>
            </a: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Mediana rentabilidad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c0c0"/>
                </a:solidFill>
                <a:latin typeface="Bookman Old Style"/>
              </a:rPr>
              <a:t>Oportunidades:</a:t>
            </a: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Cambio de costumbre, consumo en invierno.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Fomentar aún más el consumo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c0c0"/>
                </a:solidFill>
                <a:latin typeface="Bookman Old Style"/>
              </a:rPr>
              <a:t>Amenazas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Entrada de nuevos competidore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Demanda altamente estacional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CONCLUSION ANALISIS EX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Análisis Interno: Actividades Primaria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Logística de Entrada: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Manejo de materiales: a gran escala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Sistema de control de inventario: mezclado con otros produc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Operaciones: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Producción: altamente automatizada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Control de calidad: importante, productos alimentici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Análisis Interno : Actividades Primaria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Logística Salida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istribución del producto: varios canal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Almacenaje: producto perecible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Marketing y Ventas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Facilidades del proceso de compra: esta en todos lad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iseño del Producto: orientados y llamativ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Relación con canales de distribución: Nestle y Supermercados tienen alto poder de negociación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eterminación del precio: bajos, para todo consumidor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Servicio Post-Venta: </a:t>
            </a: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de la misma empresa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Servicio de atención al cliente 24 hora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Fortalezas de la empresa: 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Bookman Old Style"/>
              </a:rPr>
              <a:t>Economías de escal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Bookman Old Style"/>
              </a:rPr>
              <a:t>Alto poder de negociación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Debilidades de la empres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Bookman Old Style"/>
              </a:rPr>
              <a:t>Competenci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Identificación de estrategia competitiva genérica: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Liderazgo en cos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Economías de escala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Gran capacidad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CONCLUSION ANALISIS IN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30492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CONCLUSION ANALISIS FO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Bookman Old Style"/>
              </a:rPr>
              <a:t>Misión de la empresa</a:t>
            </a: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Que: Helados estándar a bajo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A quien: a 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Donde: en todos 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Cuando: Principalmente en ver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32004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AUXILIAR Nº1</a:t>
            </a:r>
            <a:br>
              <a:rPr sz="4400"/>
            </a:br>
            <a:br>
              <a:rPr sz="4400"/>
            </a:br>
            <a:r>
              <a:rPr b="1" lang="en-US" sz="5400" spc="-1" strike="noStrike">
                <a:solidFill>
                  <a:srgbClr val="ffffff"/>
                </a:solidFill>
                <a:latin typeface="Bookman Old Style"/>
              </a:rPr>
              <a:t>ANALISIS ESTRATEGICO</a:t>
            </a:r>
            <a:endParaRPr b="1" lang="en-US" sz="5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905120" y="5638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ANALISIS EXTERN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PORTER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0880" y="2133720"/>
            <a:ext cx="8382240" cy="4419360"/>
            <a:chOff x="380880" y="2133720"/>
            <a:chExt cx="8382240" cy="4419360"/>
          </a:xfrm>
        </p:grpSpPr>
        <p:sp>
          <p:nvSpPr>
            <p:cNvPr id="45" name=""/>
            <p:cNvSpPr/>
            <p:nvPr/>
          </p:nvSpPr>
          <p:spPr>
            <a:xfrm>
              <a:off x="3429000" y="5562720"/>
              <a:ext cx="2286000" cy="99036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29000" y="5791320"/>
              <a:ext cx="205740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Times New Roman"/>
                </a:rPr>
                <a:t>Sustitu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0880" y="3809880"/>
              <a:ext cx="2286000" cy="99072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0880" y="40384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Times New Roman"/>
                </a:rPr>
                <a:t>Nuevos Competi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505320" y="2133720"/>
              <a:ext cx="2286000" cy="99036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2362320"/>
              <a:ext cx="205740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Times New Roman"/>
                </a:rPr>
                <a:t>Compra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477120" y="3809880"/>
              <a:ext cx="2286000" cy="99072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77120" y="4038480"/>
              <a:ext cx="205740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Times New Roman"/>
                </a:rPr>
                <a:t>Provee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29000" y="3809880"/>
              <a:ext cx="2286000" cy="99072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29000" y="40384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Times New Roman"/>
                </a:rPr>
                <a:t>Competidores Actu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14800" y="3200400"/>
              <a:ext cx="838080" cy="5335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43200" y="4038480"/>
              <a:ext cx="533520" cy="60984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91320" y="4038480"/>
              <a:ext cx="533160" cy="60984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14800" y="4952880"/>
              <a:ext cx="838080" cy="5335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PODER DE LOS COMPRADORE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Compras en grandes volúmene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Producto estándar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Producto sin mayor relevancia en su estructura de cos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Producto sin mayor relevancia en la calidad de su producto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Integración hacía atrá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Poca existencia de puntos de comercialización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PODER DE LOS SUSTITUTO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Gran cantidad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Alta disponibilidad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Producto con marketing agresiv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Bajo precio relativ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PODER DE LOS PROVEEDORE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Poca cantidad de proveedore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Insumo poco sustituible, único o diferenciad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Insumo importante en la calidad del product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Insumo importante en la estructura de costo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El alto riesgo de integración hacia del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Proveedor con muchos clientes, ninguno es import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PELIGRO DE ENTRADA DE NUEVOS PARTICIPANTES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Bookman Old Style"/>
              </a:rPr>
              <a:t>Crecimiento de la demand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Bookman Old Style"/>
              </a:rPr>
              <a:t>Negocio de bajo riesgo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Bookman Old Style"/>
              </a:rPr>
              <a:t>Regulaciones en la Industri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Bookman Old Style"/>
              </a:rPr>
              <a:t>Bajas barreras de entrada: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Bookman Old Style"/>
              </a:rPr>
              <a:t>Inexistencia de economías de escal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Bookman Old Style"/>
              </a:rPr>
              <a:t>Sin necesidad de activos específicos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Bookman Old Style"/>
              </a:rPr>
              <a:t>Baja diferenciación de productos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Bookman Old Style"/>
              </a:rPr>
              <a:t>Bajo prestigio de marcas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Bookman Old Style"/>
              </a:rPr>
              <a:t>Muchos canales de distribución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Bookman Old Style"/>
              </a:rPr>
              <a:t>Bajo capital necesario para inversión inicial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RIVALIDAD ENTRE ACTUALES COMPETIDORES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Alta capacidad ocios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No existencia de un actor domin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Poca diferenciación del product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Alto crecimiento de la industri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Alto crecimiento de la demand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Existencia de barreras de salid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Especialización de activ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Necesidad de invertir para cerrar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Misión de la empresa: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Que?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A quien?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Donde?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Expectativas de renta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Oportunidades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Amenazas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CONCLUSION ANALISIS EX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2514600"/>
            <a:ext cx="3429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Cuan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Co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14:35:13Z</dcterms:created>
  <dc:creator>Naloxi</dc:creator>
  <dc:description/>
  <dc:language>en-US</dc:language>
  <cp:lastModifiedBy>Loreto Tamblay</cp:lastModifiedBy>
  <dcterms:modified xsi:type="dcterms:W3CDTF">2004-12-13T15:19:12Z</dcterms:modified>
  <cp:revision>37</cp:revision>
  <dc:subject/>
  <dc:title>AUXILIAR Nº1  ANALISIS ESTRATEGIC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47186381</vt:r8>
  </property>
  <property fmtid="{D5CDD505-2E9C-101B-9397-08002B2CF9AE}" pid="3" name="_AuthorEmail">
    <vt:lpwstr>igac@cec.uchile.cl</vt:lpwstr>
  </property>
  <property fmtid="{D5CDD505-2E9C-101B-9397-08002B2CF9AE}" pid="4" name="_AuthorEmailDisplayName">
    <vt:lpwstr>Isa</vt:lpwstr>
  </property>
  <property fmtid="{D5CDD505-2E9C-101B-9397-08002B2CF9AE}" pid="5" name="_EmailSubject">
    <vt:lpwstr>Clase auxiliar miércoles</vt:lpwstr>
  </property>
  <property fmtid="{D5CDD505-2E9C-101B-9397-08002B2CF9AE}" pid="6" name="_ReviewingToolsShownOnce">
    <vt:lpwstr/>
  </property>
</Properties>
</file>