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Maria Elena Lienqueo" initials="MEL" lastIdx="4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4-11-01T16:32:47.117000000" idx="1">
    <p:pos x="5784" y="3525"/>
    <p:text/>
  </p:cm>
</p:cmLst>
</file>

<file path=ppt/comments/comment3.xml><?xml version="1.0" encoding="utf-8"?>
<p:cmLst xmlns:p="http://schemas.openxmlformats.org/presentationml/2006/main">
  <p:cm authorId="0" dt="2004-11-01T16:32:47.117000000" idx="2">
    <p:pos x="5784" y="3525"/>
    <p:text/>
  </p:cm>
</p:cmLst>
</file>

<file path=ppt/comments/comment4.xml><?xml version="1.0" encoding="utf-8"?>
<p:cmLst xmlns:p="http://schemas.openxmlformats.org/presentationml/2006/main">
  <p:cm authorId="0" dt="2004-11-01T16:32:47.117000000" idx="3">
    <p:pos x="5784" y="3525"/>
    <p:text/>
  </p:cm>
</p:cmLst>
</file>

<file path=ppt/comments/comment5.xml><?xml version="1.0" encoding="utf-8"?>
<p:cmLst xmlns:p="http://schemas.openxmlformats.org/presentationml/2006/main">
  <p:cm authorId="0" dt="2004-11-01T16:32:47.117000000" idx="4">
    <p:pos x="5784" y="3525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70A9-65FB-4008-A745-66958073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1A5C-74EF-49EF-A08E-3CE4120A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A473-039C-443F-92A1-CE331473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DAED-70F2-4412-AEEE-DD91A28B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CE2F-DD7C-458A-B0ED-0DCBB9F7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4546-067B-4ADD-A81B-5E6816EE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5F28-EB11-4D4B-AEF7-1CA961DE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65D2-F0D7-4177-86B7-EEE928B1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6509-33A2-47E0-A0DF-95FEF24E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71FF-C8C4-4F12-A743-43CC70B9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23BA-1549-443B-9E91-10EC97E4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33DF-7C17-4F77-8755-C2FE4B15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DAA4-B080-4D47-A065-1559D6CB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EE5D-D2AC-4E23-8DFF-AF00D543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6A5A-690A-434D-A4E5-3CC74FDA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4A77-5354-4655-AF1C-12F3FB25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F802-5A5B-46AC-9526-4006F34F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8A1B-0626-4D32-BD7F-72424472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7596-2845-4E11-980A-72307069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45FB-79C1-4E11-BF59-781F3394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D795-1DEC-4D85-B66D-159473B1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81B5-3CEB-4438-B9F8-C2356C9D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C42D-34C9-4FE3-9949-DE129867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B6E0-4080-4F3E-9D9D-33C3616D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857E-8828-4308-9DD0-5785D44E4C3F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DBC2-3920-40FA-A067-24CBF536ACA2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SD20A Seminario de Diseño</a:t>
            </a:r>
            <a:br>
              <a:rPr sz="3200"/>
            </a:b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Diseño de una Planta Biotecnológic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200"/>
            <a:ext cx="723924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valuación Económ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Índi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 u="sng">
                <a:solidFill>
                  <a:srgbClr val="006666"/>
                </a:solidFill>
                <a:uFillTx/>
                <a:latin typeface="Verdana"/>
              </a:rPr>
              <a:t>Valor Presente Neto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(VPN,VAN, </a:t>
            </a:r>
            <a:r>
              <a:rPr b="1" lang="es-ES" sz="2900" spc="-1" strike="noStrike">
                <a:solidFill>
                  <a:srgbClr val="000000"/>
                </a:solidFill>
                <a:latin typeface="Verdana"/>
              </a:rPr>
              <a:t>VNA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Tasa Interna de Retorno (</a:t>
            </a:r>
            <a:r>
              <a:rPr b="0" lang="es-ES" sz="2900" spc="-1" strike="noStrike" u="sng">
                <a:solidFill>
                  <a:srgbClr val="006666"/>
                </a:solidFill>
                <a:uFillTx/>
                <a:latin typeface="Verdana"/>
              </a:rPr>
              <a:t>TIR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 u="sng">
                <a:solidFill>
                  <a:srgbClr val="006666"/>
                </a:solidFill>
                <a:uFillTx/>
                <a:latin typeface="Verdana"/>
              </a:rPr>
              <a:t>Tiempo de Recuperación de la Inversió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2997360" y="-134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6666"/>
                </a:solidFill>
                <a:uFillTx/>
                <a:latin typeface="Arial"/>
              </a:rPr>
              <a:t>Valor Presente Neto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PN / VNA / VA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752480" y="2133720"/>
                <a:ext cx="542772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N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r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908640" y="4425840"/>
            <a:ext cx="744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Valor del proyecto en unidades actualizadas al año que se evalúa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Beneficio del Añ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 : Tasa de interés del proyecto, cada área industrial tiene un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ípico, para el área biotecnológica dicho valor es del orden del 18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Tasa Interna de Retorno, TI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68520" y="1898640"/>
            <a:ext cx="3146400" cy="196200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480"/>
                </a:moveTo>
                <a:cubicBezTo>
                  <a:pt x="156" y="328"/>
                  <a:pt x="312" y="176"/>
                  <a:pt x="528" y="96"/>
                </a:cubicBezTo>
                <a:cubicBezTo>
                  <a:pt x="744" y="16"/>
                  <a:pt x="1088" y="16"/>
                  <a:pt x="12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468520" y="1445760"/>
            <a:ext cx="0" cy="392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954160"/>
            <a:ext cx="524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41960" y="3187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03440" y="16002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2362320"/>
            <a:ext cx="3146400" cy="14475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480"/>
                </a:moveTo>
                <a:cubicBezTo>
                  <a:pt x="156" y="328"/>
                  <a:pt x="312" y="176"/>
                  <a:pt x="528" y="96"/>
                </a:cubicBezTo>
                <a:cubicBezTo>
                  <a:pt x="744" y="16"/>
                  <a:pt x="1088" y="16"/>
                  <a:pt x="12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2895480"/>
            <a:ext cx="3298680" cy="91440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480"/>
                </a:moveTo>
                <a:cubicBezTo>
                  <a:pt x="156" y="328"/>
                  <a:pt x="312" y="176"/>
                  <a:pt x="528" y="96"/>
                </a:cubicBezTo>
                <a:cubicBezTo>
                  <a:pt x="744" y="16"/>
                  <a:pt x="1088" y="16"/>
                  <a:pt x="12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1371600"/>
            <a:ext cx="3812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37240" y="1641600"/>
            <a:ext cx="214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umenta Tasa de Descu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29400" y="4267080"/>
            <a:ext cx="384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VPN(TIR)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3200400" y="64771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926" h="21600">
                <a:moveTo>
                  <a:pt x="7436" y="3985"/>
                </a:moveTo>
                <a:lnTo>
                  <a:pt x="14434" y="3985"/>
                </a:lnTo>
                <a:lnTo>
                  <a:pt x="18490" y="7484"/>
                </a:lnTo>
                <a:lnTo>
                  <a:pt x="18490" y="17615"/>
                </a:lnTo>
                <a:lnTo>
                  <a:pt x="7436" y="17615"/>
                </a:lnTo>
                <a:close/>
              </a:path>
              <a:path fill="darken" w="25926" h="21600">
                <a:moveTo>
                  <a:pt x="14434" y="3985"/>
                </a:moveTo>
                <a:lnTo>
                  <a:pt x="18490" y="7484"/>
                </a:lnTo>
                <a:lnTo>
                  <a:pt x="14434" y="7484"/>
                </a:lnTo>
                <a:close/>
              </a:path>
            </a:pathLst>
          </a:custGeom>
          <a:gradFill rotWithShape="0">
            <a:gsLst>
              <a:gs pos="0">
                <a:srgbClr val="68ccbc"/>
              </a:gs>
              <a:gs pos="100000">
                <a:srgbClr val="ffffff">
                  <a:alpha val="2705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971640" y="4365720"/>
                <a:ext cx="25146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N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r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988200" y="5748480"/>
            <a:ext cx="665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el TIR es mayor que las tasas de interés que  entregan 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Bancos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Invierto en el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 Cuánto es la tasa de interés anual de los banco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cuperación de la Invers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084480" y="2036880"/>
            <a:ext cx="0" cy="34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3351240"/>
            <a:ext cx="5016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37320" y="35542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49600" y="19051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4495680" y="3429000"/>
            <a:ext cx="868320" cy="93672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30200" y="4365720"/>
            <a:ext cx="40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yback time: Tiempo VPN 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2133720"/>
            <a:ext cx="3276720" cy="2552760"/>
          </a:xfrm>
          <a:custGeom>
            <a:avLst/>
            <a:gdLst/>
            <a:ahLst/>
            <a:rect l="l" t="t" r="r" b="b"/>
            <a:pathLst>
              <a:path w="2064" h="1608">
                <a:moveTo>
                  <a:pt x="0" y="768"/>
                </a:moveTo>
                <a:cubicBezTo>
                  <a:pt x="80" y="772"/>
                  <a:pt x="160" y="776"/>
                  <a:pt x="240" y="912"/>
                </a:cubicBezTo>
                <a:cubicBezTo>
                  <a:pt x="320" y="1048"/>
                  <a:pt x="400" y="1560"/>
                  <a:pt x="480" y="1584"/>
                </a:cubicBezTo>
                <a:cubicBezTo>
                  <a:pt x="560" y="1608"/>
                  <a:pt x="624" y="1248"/>
                  <a:pt x="720" y="1056"/>
                </a:cubicBezTo>
                <a:cubicBezTo>
                  <a:pt x="816" y="864"/>
                  <a:pt x="832" y="608"/>
                  <a:pt x="1056" y="432"/>
                </a:cubicBezTo>
                <a:cubicBezTo>
                  <a:pt x="1280" y="256"/>
                  <a:pt x="1672" y="128"/>
                  <a:pt x="206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54784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ara el área biotecnológica dicho valores dependen del área especifica del producto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3 años productos consumo másivo (Enzimas comerciales, alimen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0 años productos terapéuticos de uso hu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troducción y descripción del produ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agrama flujo del proce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scripción de las principales oper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totipo de mejoras al proceso propues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alculo de los Beneficios económicos del producto (VPN,TIR,Tiempo de retorn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stema de evaluación ambien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cus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clusio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ferenc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FECHA DE ENTREGA Y PRESENTACION : Día del exame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1453320" y="299880"/>
            <a:ext cx="38336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Verdana"/>
              </a:rPr>
              <a:t>Tercer Infor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Verdana"/>
              </a:rPr>
              <a:t>"Evaluación Final”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31640" y="980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¿ Qué está pasando en la planta</a:t>
            </a:r>
            <a:br>
              <a:rPr sz="3200"/>
            </a:b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de tratamiento de aguas servidas de </a:t>
            </a:r>
            <a:br>
              <a:rPr sz="3200"/>
            </a:b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La Farfana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03280" y="2924280"/>
            <a:ext cx="720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a empresa hiz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 estudio de Impacto Ambiental  (EIA) 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a declaración de Impacto Ambiental (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56640" y="5084640"/>
            <a:ext cx="45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http://www.conama.cl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Beneficios económicos simp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5200" y="2133720"/>
            <a:ext cx="8539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a es la forma más simple de evaluar los benef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conómicos de un proce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eneficio = (Producción)*{(Precio de Venta)-(COSTOS)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ción : {Kg de producto/año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Nivel de Produc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8560" y="1557360"/>
            <a:ext cx="8254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determinar el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Times New Roman"/>
              </a:rPr>
              <a:t>nivel de producció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 deb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testar las siguientes pregun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Cual es el mercado al que está orientado mi produc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 Qué porcentaje voy a abar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 hay competi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ay muchos competi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producto tiene respal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Precio de Vent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7840" y="1557360"/>
            <a:ext cx="888876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determinar el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ecio de vent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 deb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testar las siguientes pregun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ay un producto similar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l 70% del precio de venta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cho pro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ay sustitutos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Analizar las ventajas y desventajas f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 sustituto y utilizar valores entre u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0 – 80% del precio de venta del sustit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gún ventajas y desventaj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Cost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5480" y="1557360"/>
            <a:ext cx="885816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 nuestro caso sólo consideraremos los costos los insum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= {Costos de insumos/Kg de productos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sumos que se deben consider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uentes de Carbono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Melaza, glucosa, madera, aserr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imento cab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uentes de Nitrógeno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Urea, Nitratos, Amonía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uentes de Oxígeno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insumos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Resinas cromatográf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Este calculo deja fuera varios otros elementos import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68400" y="477360"/>
            <a:ext cx="284796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Cost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89548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13880" y="24382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Fabr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38862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1120" y="2133720"/>
            <a:ext cx="40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Costos de Operación Di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82200" y="25909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s Fi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5410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s de Inversión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83280" y="35812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419112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vestigación y Desarrollo 5% de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80400" y="525780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ital Fi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78960" y="6019920"/>
            <a:ext cx="24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ital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2362320"/>
            <a:ext cx="304920" cy="1904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320 h 1904760"/>
              <a:gd name="textAreaBottom" fmla="*/ 187344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8"/>
                  <a:pt x="10800" y="1135"/>
                </a:cubicBezTo>
                <a:lnTo>
                  <a:pt x="10800" y="8765"/>
                </a:lnTo>
                <a:cubicBezTo>
                  <a:pt x="10800" y="9333"/>
                  <a:pt x="5400" y="9900"/>
                  <a:pt x="0" y="9900"/>
                </a:cubicBezTo>
                <a:cubicBezTo>
                  <a:pt x="5400" y="9900"/>
                  <a:pt x="10800" y="10468"/>
                  <a:pt x="10800" y="11035"/>
                </a:cubicBezTo>
                <a:lnTo>
                  <a:pt x="10800" y="20465"/>
                </a:lnTo>
                <a:cubicBezTo>
                  <a:pt x="10800" y="2103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2133720"/>
            <a:ext cx="381240" cy="990360"/>
          </a:xfrm>
          <a:custGeom>
            <a:avLst/>
            <a:gdLst>
              <a:gd name="textAreaLeft" fmla="*/ 243720 w 381240"/>
              <a:gd name="textAreaRight" fmla="*/ 381600 w 381240"/>
              <a:gd name="textAreaTop" fmla="*/ 16200 h 990360"/>
              <a:gd name="textAreaBottom" fmla="*/ 97416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8"/>
                  <a:pt x="10800" y="1135"/>
                </a:cubicBezTo>
                <a:lnTo>
                  <a:pt x="10800" y="11084"/>
                </a:lnTo>
                <a:cubicBezTo>
                  <a:pt x="10800" y="11652"/>
                  <a:pt x="5400" y="12219"/>
                  <a:pt x="0" y="12219"/>
                </a:cubicBezTo>
                <a:cubicBezTo>
                  <a:pt x="5400" y="12219"/>
                  <a:pt x="10800" y="12787"/>
                  <a:pt x="10800" y="13354"/>
                </a:cubicBezTo>
                <a:lnTo>
                  <a:pt x="10800" y="20465"/>
                </a:lnTo>
                <a:cubicBezTo>
                  <a:pt x="10800" y="2103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3581280"/>
            <a:ext cx="380880" cy="1371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2320 h 1371600"/>
              <a:gd name="textAreaBottom" fmla="*/ 134928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8"/>
                  <a:pt x="10800" y="1135"/>
                </a:cubicBezTo>
                <a:lnTo>
                  <a:pt x="10800" y="7965"/>
                </a:lnTo>
                <a:cubicBezTo>
                  <a:pt x="10800" y="8533"/>
                  <a:pt x="5400" y="9100"/>
                  <a:pt x="0" y="9100"/>
                </a:cubicBezTo>
                <a:cubicBezTo>
                  <a:pt x="5400" y="9100"/>
                  <a:pt x="10800" y="9668"/>
                  <a:pt x="10800" y="10235"/>
                </a:cubicBezTo>
                <a:lnTo>
                  <a:pt x="10800" y="20465"/>
                </a:lnTo>
                <a:cubicBezTo>
                  <a:pt x="10800" y="2103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5410080"/>
            <a:ext cx="381240" cy="990720"/>
          </a:xfrm>
          <a:custGeom>
            <a:avLst/>
            <a:gdLst>
              <a:gd name="textAreaLeft" fmla="*/ 243720 w 381240"/>
              <a:gd name="textAreaRight" fmla="*/ 381600 w 381240"/>
              <a:gd name="textAreaTop" fmla="*/ 16200 h 990720"/>
              <a:gd name="textAreaBottom" fmla="*/ 97452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8"/>
                  <a:pt x="10800" y="1135"/>
                </a:cubicBezTo>
                <a:lnTo>
                  <a:pt x="10800" y="11084"/>
                </a:lnTo>
                <a:cubicBezTo>
                  <a:pt x="10800" y="11652"/>
                  <a:pt x="5400" y="12219"/>
                  <a:pt x="0" y="12219"/>
                </a:cubicBezTo>
                <a:cubicBezTo>
                  <a:pt x="5400" y="12219"/>
                  <a:pt x="10800" y="12787"/>
                  <a:pt x="10800" y="13354"/>
                </a:cubicBezTo>
                <a:lnTo>
                  <a:pt x="10800" y="20465"/>
                </a:lnTo>
                <a:cubicBezTo>
                  <a:pt x="10800" y="2103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Costos de Operación Direct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Materia Prima y Suministr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Mano de Ob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Salario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Supervis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ervici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Vap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lectric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gu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Tratamiento de deshech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Costos Fij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Depreciación Maquinaria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Seguros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Interés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Mantención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Capital Fij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Costo de los Equipos de Proceso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Instalaciones eléctricas, edificios, et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Puesta en Marcha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9220320" y="423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19:43:01Z</dcterms:created>
  <dc:creator>guest</dc:creator>
  <dc:description/>
  <dc:language>en-US</dc:language>
  <cp:lastModifiedBy>Maria Elena Lienqueo C.</cp:lastModifiedBy>
  <cp:lastPrinted>2009-04-22T19:24:48Z</cp:lastPrinted>
  <dcterms:modified xsi:type="dcterms:W3CDTF">2004-11-02T07:59:33Z</dcterms:modified>
  <cp:revision>40</cp:revision>
  <dc:subject/>
  <dc:title>SD20A Seminario de Diseño Diseño de una Planta Biotecnológica</dc:title>
</cp:coreProperties>
</file>