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96C-CDB7-4EF8-9601-31C46FA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079-F1E9-4AA6-8484-7E1A3B1E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FC4-3D9E-4C85-823C-D6FD0D2E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581-D305-4620-B711-65C631C2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E1B-943D-4C25-8D0B-F187B525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343-94A4-4920-BC93-4949A68F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4C5-45B7-439E-9E97-1B6D46E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5E0-81EF-4863-ACAD-9D5A40F1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AC0-6B81-48B6-ADB0-F1E34F23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E1E-8145-4AC0-8953-005AF1FC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69D-4A23-4183-9F0E-DD80559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B23-2E52-4D72-AC58-A31D4B6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0F11-E04B-4490-83FD-D0C206040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iseño operaciones unitarias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minario de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304920"/>
          <a:ext cx="40928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4092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705720" y="0"/>
          <a:ext cx="13856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0"/>
                    <a:ext cx="1385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0552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filtro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3259080"/>
          <a:ext cx="9144000" cy="343224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66688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jo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l/m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-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maño Partícula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5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7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6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ngo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cterias(3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rus (30–300 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teín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lisacárido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zim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981080" y="2743200"/>
            <a:ext cx="3124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o y Pl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676520" y="1295280"/>
            <a:ext cx="5333760" cy="1981080"/>
            <a:chOff x="1676520" y="1295280"/>
            <a:chExt cx="5333760" cy="1981080"/>
          </a:xfrm>
        </p:grpSpPr>
        <p:sp>
          <p:nvSpPr>
            <p:cNvPr id="137" name=""/>
            <p:cNvSpPr/>
            <p:nvPr/>
          </p:nvSpPr>
          <p:spPr>
            <a:xfrm>
              <a:off x="3200400" y="129528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50021"/>
                  </a:solidFill>
                  <a:latin typeface="Comic Sans MS"/>
                </a:rPr>
                <a:t>Filtr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190476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17524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259056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0948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agrama de Bloque de un Fil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09880"/>
            <a:ext cx="891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tención  Producto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en el Remanente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     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moción = 100 - %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MITE DISEÑAR EL AREA DEL FILTRO, A [m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5638680" y="1981080"/>
            <a:ext cx="3505320" cy="4521240"/>
            <a:chOff x="5638680" y="1981080"/>
            <a:chExt cx="3505320" cy="4521240"/>
          </a:xfrm>
        </p:grpSpPr>
        <p:sp>
          <p:nvSpPr>
            <p:cNvPr id="151" name=""/>
            <p:cNvSpPr/>
            <p:nvPr/>
          </p:nvSpPr>
          <p:spPr>
            <a:xfrm>
              <a:off x="8229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5486400"/>
              <a:ext cx="3505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OLUM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ROMATOGRAF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38088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ROMATOGRAF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7920" y="1628640"/>
            <a:ext cx="7277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Columnas Cromatográ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76920" y="1143000"/>
          <a:ext cx="3981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3981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7200" y="838080"/>
            <a:ext cx="4419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las diferentes velocidades de migración que tienen las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 velocidad de migración está regulada por la afinidad que tenga la proteína para interactuar con el medio que contiene la colum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0"/>
            <a:ext cx="8610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38080"/>
            <a:ext cx="83059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isten diferentes tipos de afinidad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Carg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cambi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Hidrofobicida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acció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drof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iológica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romatografía de Afi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xiste la cromatografía de no-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romatografía de Exclusión por tamaño o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Cromatografía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90920" y="914400"/>
          <a:ext cx="329076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32907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990960"/>
          <a:ext cx="403848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90960"/>
                    <a:ext cx="40384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800600" y="3570120"/>
          <a:ext cx="3352680" cy="32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570120"/>
                    <a:ext cx="335268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-3049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3765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0"/>
            <a:ext cx="77724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entrada y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1524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5200" y="2362320"/>
            <a:ext cx="1828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76520" y="2362320"/>
            <a:ext cx="5333760" cy="1981080"/>
            <a:chOff x="1676520" y="2362320"/>
            <a:chExt cx="5333760" cy="1981080"/>
          </a:xfrm>
        </p:grpSpPr>
        <p:sp>
          <p:nvSpPr>
            <p:cNvPr id="49" name=""/>
            <p:cNvSpPr/>
            <p:nvPr/>
          </p:nvSpPr>
          <p:spPr>
            <a:xfrm>
              <a:off x="3200400" y="236232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a50021"/>
                  </a:solidFill>
                  <a:latin typeface="Comic Sans MS"/>
                </a:rPr>
                <a:t>Proces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297180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53080" y="28195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65760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648320" y="1676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a50021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3520" y="1165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65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191120" y="990720"/>
            <a:ext cx="45720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27432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733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4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 Modificación de las condiciones de la fase móvil de tal manera de debilitar las interacciones entre la proteína y la fase estacionarias, lo que provoca la elución de la proteín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56689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324480" cy="3957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NO-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705720" y="2743200"/>
          <a:ext cx="2120760" cy="326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743200"/>
                    <a:ext cx="21207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87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133720" y="685800"/>
            <a:ext cx="670536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determi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Unión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Unido a la matriz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recomienda %Un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%Recuperación = </a:t>
            </a:r>
            <a:r>
              <a:rPr b="0" lang="es-ES" sz="2400" spc="-1" strike="noStrike" u="sng">
                <a:solidFill>
                  <a:srgbClr val="a50021"/>
                </a:solidFill>
                <a:uFillTx/>
                <a:latin typeface="Comic Sans MS"/>
              </a:rPr>
              <a:t>Producto Eluido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*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Producto Unido a la matriz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e recomiendo %Recuperac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96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133720" y="685800"/>
            <a:ext cx="6705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ida Útil de la resina = 100 pa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lavado = 5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elución =20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ODO ESTO PERMITE DERTERMINAR EL VOLUMEN DE MATRIZ A UT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0"/>
            <a:ext cx="8610480" cy="62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BALANCES DE MASA EN ESTAD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n base a la ley de conservación de la materia de Lavoi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cantidad de materia antes y después  de un experimento sigue siendo la mis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onsiderando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MASA QUE ENTRA = MASA QUE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 ecuación permite determinar los flujos y composiciones de cada corriente en un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610480" cy="74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 una unidad en la cual se lleva a cabo un solo cambio, ya sea físico,químico 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Ferment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Quím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e produce en crec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Filtros, Microfiltros, Ultrafiltros, Columnas Cromatograficas, Sistemas de 2 fases Acu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Homogeniz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Romp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57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6960" y="0"/>
              <a:ext cx="363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                       </a:t>
              </a:r>
              <a:r>
                <a:rPr b="0" lang="es-ES_tradnl" sz="2400" spc="-1" strike="noStrike">
                  <a:solidFill>
                    <a:srgbClr val="a50021"/>
                  </a:solidFill>
                  <a:latin typeface="Comic Sans MS"/>
                </a:rPr>
                <a:t>Fermen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5486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squem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990720"/>
            <a:ext cx="7315200" cy="35049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14600" y="1905120"/>
            <a:ext cx="4952880" cy="3568680"/>
            <a:chOff x="2514600" y="1905120"/>
            <a:chExt cx="4952880" cy="3568680"/>
          </a:xfrm>
        </p:grpSpPr>
        <p:sp>
          <p:nvSpPr>
            <p:cNvPr id="102" name=""/>
            <p:cNvSpPr/>
            <p:nvPr/>
          </p:nvSpPr>
          <p:spPr>
            <a:xfrm>
              <a:off x="4267080" y="51055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1905120"/>
              <a:ext cx="685800" cy="2209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0"/>
            <a:ext cx="8610480" cy="29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por tamaño, sólo las partículas más pequeñas que el tamaño del poro lograr pa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895480"/>
          <a:ext cx="304776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30477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2590920"/>
          <a:ext cx="4419720" cy="33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590920"/>
                    <a:ext cx="4419720" cy="33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830680" cy="28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9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1143000" cy="209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720" y="469908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LUJO TANG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TRAVES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3440" y="4724280"/>
            <a:ext cx="23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QUI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LTRA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724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04812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97180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Microfiltros y Ultra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7T05:29:09Z</dcterms:modified>
  <cp:revision>111</cp:revision>
  <dc:subject/>
  <dc:title>Separación Sólido-Líquido</dc:title>
</cp:coreProperties>
</file>