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724-650E-4936-B7E9-507DF219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06C6-C27C-41DC-9CAD-804BA655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5AC-0D86-4348-B888-2C012DB0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B21-DAF7-4760-A251-B5D4261E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C96-EBD8-46EC-B3AC-F6D50055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FEA-1584-4361-9ED2-0BA0439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1D2-B1EE-4017-A30A-3536C674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490-076A-4F4A-A6A4-89166AEB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672-6ED2-4FCC-B7A2-5631DD3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AB8-8E7E-4B4A-BB8C-0286C85F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2ED-BAB4-4E71-A439-3618DD36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7D6-04AB-47A4-8393-D512A53B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00CF-D33E-40E5-AC22-B5F18D97A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iseño operaciones unitarias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eminario de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304920"/>
          <a:ext cx="40928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4092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705720" y="0"/>
          <a:ext cx="138564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0"/>
                    <a:ext cx="13856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105520" y="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filtro 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3259080"/>
          <a:ext cx="9144000" cy="3432240"/>
        </p:xfrm>
        <a:graphic>
          <a:graphicData uri="http://schemas.openxmlformats.org/drawingml/2006/table">
            <a:tbl>
              <a:tblPr/>
              <a:tblGrid>
                <a:gridCol w="2362320"/>
                <a:gridCol w="1828800"/>
                <a:gridCol w="266688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jo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[l/m</a:t>
                      </a:r>
                      <a:r>
                        <a:rPr b="1" lang="es-ES_tradnl" sz="1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h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-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maño Partícula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gt;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5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 7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6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 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vadura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vadura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ongo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cterias(300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loides(100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loide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rus (30–300 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teína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lisacárido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zima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981080" y="2743200"/>
            <a:ext cx="3124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o y Pl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676520" y="1295280"/>
            <a:ext cx="5333760" cy="1981080"/>
            <a:chOff x="1676520" y="1295280"/>
            <a:chExt cx="5333760" cy="1981080"/>
          </a:xfrm>
        </p:grpSpPr>
        <p:sp>
          <p:nvSpPr>
            <p:cNvPr id="137" name=""/>
            <p:cNvSpPr/>
            <p:nvPr/>
          </p:nvSpPr>
          <p:spPr>
            <a:xfrm>
              <a:off x="3200400" y="1295280"/>
              <a:ext cx="3124080" cy="17294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a50021"/>
                  </a:solidFill>
                  <a:latin typeface="Comic Sans MS"/>
                </a:rPr>
                <a:t>Filtr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190476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175248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259056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0948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0"/>
            <a:ext cx="8610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agrama de Bloque de un Fil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809880"/>
            <a:ext cx="8915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Retención  Producto =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roducto en el Remanente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*100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            Producto en la 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Remoción = 100 - %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Denaturación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6019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MITE DISEÑAR EL AREA DEL FILTRO, A [m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0"/>
            <a:ext cx="85345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Bloques del proce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990720"/>
          <a:ext cx="9144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5638680" y="1981080"/>
            <a:ext cx="3505320" cy="4521240"/>
            <a:chOff x="5638680" y="1981080"/>
            <a:chExt cx="3505320" cy="4521240"/>
          </a:xfrm>
        </p:grpSpPr>
        <p:sp>
          <p:nvSpPr>
            <p:cNvPr id="151" name=""/>
            <p:cNvSpPr/>
            <p:nvPr/>
          </p:nvSpPr>
          <p:spPr>
            <a:xfrm>
              <a:off x="82296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38680" y="5486400"/>
              <a:ext cx="3505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OLUM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ROMATOGRAF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52480" y="38088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ROMATOGRAF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47920" y="1628640"/>
            <a:ext cx="72770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7724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0"/>
            <a:ext cx="8610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Columnas Cromatográ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876920" y="1143000"/>
          <a:ext cx="39812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143000"/>
                    <a:ext cx="3981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7200" y="838080"/>
            <a:ext cx="4419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n operaciones unitarias que separan las diferentes velocidades de migración que tienen las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 velocidad de migración está regulada por la afinidad que tenga la proteína para interactuar con el medio que contiene la colum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0"/>
            <a:ext cx="8610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38080"/>
            <a:ext cx="83059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isten diferentes tipos de afinidades especí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Carg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romatografía de Intercambi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Hidrofobicida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romatografía de Interacció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drofób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iológica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romatografía de Afi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xiste la cromatografía de no-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romatografía de Exclusión por tamaño o Filtración por g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Cromatografía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90920" y="914400"/>
          <a:ext cx="329076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914400"/>
                    <a:ext cx="32907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0" y="3990960"/>
          <a:ext cx="4038480" cy="28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90960"/>
                    <a:ext cx="40384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800600" y="3570120"/>
          <a:ext cx="3352680" cy="328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570120"/>
                    <a:ext cx="3352680" cy="32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-3049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OMATOGRAFIA DE ADSO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3765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0"/>
            <a:ext cx="77724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entrada y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76520"/>
            <a:ext cx="1524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15200" y="2362320"/>
            <a:ext cx="1828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1143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76520" y="2362320"/>
            <a:ext cx="5333760" cy="1981080"/>
            <a:chOff x="1676520" y="2362320"/>
            <a:chExt cx="5333760" cy="1981080"/>
          </a:xfrm>
        </p:grpSpPr>
        <p:sp>
          <p:nvSpPr>
            <p:cNvPr id="49" name=""/>
            <p:cNvSpPr/>
            <p:nvPr/>
          </p:nvSpPr>
          <p:spPr>
            <a:xfrm>
              <a:off x="3200400" y="2362320"/>
              <a:ext cx="3124080" cy="17294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a50021"/>
                  </a:solidFill>
                  <a:latin typeface="Comic Sans MS"/>
                </a:rPr>
                <a:t>Proces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6520" y="297180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553080" y="28195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65760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648320" y="16765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a50021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3520" y="1165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65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191120" y="990720"/>
            <a:ext cx="457200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50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Croma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1600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. 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% de Un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27432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733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4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 Modificación de las condiciones de la fase móvil de tal manera de debilitar las interacciones entre la proteína y la fase estacionarias, lo que provoca la elución de la proteína. 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% de 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5668920"/>
            <a:ext cx="480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6324480" cy="3957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4920" y="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OMATOGRAFIA DE NO-ADSO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705720" y="2743200"/>
          <a:ext cx="2120760" cy="326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2743200"/>
                    <a:ext cx="212076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380880" y="0"/>
            <a:ext cx="2438280" cy="4803120"/>
            <a:chOff x="380880" y="0"/>
            <a:chExt cx="2438280" cy="4803120"/>
          </a:xfrm>
        </p:grpSpPr>
        <p:sp>
          <p:nvSpPr>
            <p:cNvPr id="187" name=""/>
            <p:cNvSpPr/>
            <p:nvPr/>
          </p:nvSpPr>
          <p:spPr>
            <a:xfrm>
              <a:off x="380880" y="838080"/>
              <a:ext cx="380880" cy="289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80" y="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" y="37339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176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800" y="763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4400" y="3657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v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43434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133720" y="685800"/>
            <a:ext cx="670536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Se determi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Unión =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roducto Unido a la matriz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*100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Producto en la 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Se recomienda %Unión = 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%Recuperación = </a:t>
            </a:r>
            <a:r>
              <a:rPr b="0" lang="es-ES" sz="2400" spc="-1" strike="noStrike" u="sng">
                <a:solidFill>
                  <a:srgbClr val="a50021"/>
                </a:solidFill>
                <a:uFillTx/>
                <a:latin typeface="Comic Sans MS"/>
              </a:rPr>
              <a:t>Producto Eluido 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*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Producto Unido a la matriz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e recomiendo %Recuperación = 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Comic Sans MS"/>
              </a:rPr>
              <a:t>%Denaturación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80880" y="0"/>
            <a:ext cx="2438280" cy="4803120"/>
            <a:chOff x="380880" y="0"/>
            <a:chExt cx="2438280" cy="4803120"/>
          </a:xfrm>
        </p:grpSpPr>
        <p:sp>
          <p:nvSpPr>
            <p:cNvPr id="196" name=""/>
            <p:cNvSpPr/>
            <p:nvPr/>
          </p:nvSpPr>
          <p:spPr>
            <a:xfrm>
              <a:off x="380880" y="838080"/>
              <a:ext cx="380880" cy="289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480" y="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37339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176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763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14400" y="3657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v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3434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133720" y="685800"/>
            <a:ext cx="6705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ida Útil de la resina = 100 pa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lumen de lavado = 5 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lumen de elución =20 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ODO ESTO PERMITE DERTERMINAR EL VOLUMEN DE MATRIZ A UT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0"/>
            <a:ext cx="8610480" cy="624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BALANCES DE MASA EN ESTAD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n base a la ley de conservación de la materia de Lavoi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cantidad de materia antes y después  de un experimento sigue siendo la mism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Considerando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MASA QUE ENTRA = MASA QUE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ta ecuación permite determinar los flujos y composiciones de cada corriente en un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0"/>
            <a:ext cx="8610480" cy="74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 una unidad en la cual se lleva a cabo un solo cambio, ya sea físico,químico o 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Ferment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Quím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e produce en crecimiento de la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Filtros, Microfiltros, Ultrafiltros, Columnas Cromatograficas, Sistemas de 2 fases Acu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Homogeniz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Rompimiento de la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57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6960" y="0"/>
              <a:ext cx="363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                       </a:t>
              </a:r>
              <a:r>
                <a:rPr b="0" lang="es-ES_tradnl" sz="2400" spc="-1" strike="noStrike">
                  <a:solidFill>
                    <a:srgbClr val="a50021"/>
                  </a:solidFill>
                  <a:latin typeface="Comic Sans MS"/>
                </a:rPr>
                <a:t>Ferment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5486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squem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0"/>
            <a:ext cx="85345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Bloques del proce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990720"/>
          <a:ext cx="9144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990720"/>
            <a:ext cx="7315200" cy="35049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14600" y="1905120"/>
            <a:ext cx="4952880" cy="3568680"/>
            <a:chOff x="2514600" y="1905120"/>
            <a:chExt cx="4952880" cy="3568680"/>
          </a:xfrm>
        </p:grpSpPr>
        <p:sp>
          <p:nvSpPr>
            <p:cNvPr id="102" name=""/>
            <p:cNvSpPr/>
            <p:nvPr/>
          </p:nvSpPr>
          <p:spPr>
            <a:xfrm>
              <a:off x="4267080" y="51055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62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1680" y="1905120"/>
              <a:ext cx="685800" cy="22096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0"/>
            <a:ext cx="8610480" cy="29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Fil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n operaciones unitarias que separan por tamaño, sólo las partículas más pequeñas que el tamaño del poro lograr pa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895480"/>
          <a:ext cx="304776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30477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2590920"/>
          <a:ext cx="4419720" cy="33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590920"/>
                    <a:ext cx="4419720" cy="33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Image2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830680" cy="283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990720" cy="2381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819520" y="2133720"/>
            <a:ext cx="1143000" cy="209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9720" y="469908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LUJO TANG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TRAVES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MB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33440" y="4724280"/>
            <a:ext cx="23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QUI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LTRA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4724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3048120"/>
            <a:ext cx="4431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971800"/>
            <a:ext cx="4431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Microfiltros y Ultrafil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8-17T05:29:09Z</dcterms:modified>
  <cp:revision>111</cp:revision>
  <dc:subject/>
  <dc:title>Separación Sólido-Líquido</dc:title>
</cp:coreProperties>
</file>