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0272-C625-4186-ADE8-7957CBA6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7279-D2D6-47FD-AC05-DC357FD4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35EE-E83E-44FF-A86C-2B0E793F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8D72-6C51-46A5-951E-2ED841A8F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3169-0FC1-4862-8B89-2B3F7BA4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E7E6-5E5C-479E-ACDE-932EF601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A2BA-6C0E-445A-8425-981068E2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0E18-8D0E-4A69-9170-6B555842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50DD-21AE-47FD-B451-81ACE6B1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11F9-6E82-479B-B2D5-78BCC8B6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B6C2-35CE-40BD-B0A0-1A09042B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0AC5-995D-4DD6-8224-97A5CA68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3584-AD25-439C-97BA-0844E7533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Comic Sans MS"/>
              </a:rPr>
              <a:t>Diseño operaciones unitarias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Seminario de Dise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380880" y="304920"/>
          <a:ext cx="409284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40928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705720" y="0"/>
          <a:ext cx="1385640" cy="327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0"/>
                    <a:ext cx="138564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5105520" y="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crofiltro de Fibra Hue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0" y="3259080"/>
          <a:ext cx="9144000" cy="3432240"/>
        </p:xfrm>
        <a:graphic>
          <a:graphicData uri="http://schemas.openxmlformats.org/drawingml/2006/table">
            <a:tbl>
              <a:tblPr/>
              <a:tblGrid>
                <a:gridCol w="2362320"/>
                <a:gridCol w="1828800"/>
                <a:gridCol w="2666880"/>
                <a:gridCol w="228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tr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rofiltr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rafiltr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ujo </a:t>
                      </a: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[l/m</a:t>
                      </a:r>
                      <a:r>
                        <a:rPr b="1" lang="es-ES_tradnl" sz="18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h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0-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0-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maño Partícula </a:t>
                      </a: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[cm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&gt;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* 10</a:t>
                      </a:r>
                      <a:r>
                        <a:rPr b="1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5 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– 7* 10</a:t>
                      </a:r>
                      <a:r>
                        <a:rPr b="1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* 10</a:t>
                      </a:r>
                      <a:r>
                        <a:rPr b="1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6 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–  10</a:t>
                      </a:r>
                      <a:r>
                        <a:rPr b="1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iotecnoló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evaduras (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–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iotecnoló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evaduras (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–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ongos (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–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acterias(300–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loides(100–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iotecnoló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loides(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–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irus (30–300 n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oteínas(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–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olisacáridos(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–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nzimas(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–10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1981080" y="2743200"/>
            <a:ext cx="3124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co y Pla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CROFILT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Descripción del funcionamiento de una planta de micro-filtración&#10;&#10;tangencial"/>
          <p:cNvPicPr/>
          <p:nvPr/>
        </p:nvPicPr>
        <p:blipFill>
          <a:blip r:embed="rId1"/>
          <a:stretch/>
        </p:blipFill>
        <p:spPr>
          <a:xfrm>
            <a:off x="395280" y="1484280"/>
            <a:ext cx="6635880" cy="48117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391520" y="457200"/>
            <a:ext cx="13716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1676520" y="1295280"/>
            <a:ext cx="5333760" cy="1981080"/>
            <a:chOff x="1676520" y="1295280"/>
            <a:chExt cx="5333760" cy="1981080"/>
          </a:xfrm>
        </p:grpSpPr>
        <p:sp>
          <p:nvSpPr>
            <p:cNvPr id="137" name=""/>
            <p:cNvSpPr/>
            <p:nvPr/>
          </p:nvSpPr>
          <p:spPr>
            <a:xfrm>
              <a:off x="3200400" y="1295280"/>
              <a:ext cx="3124080" cy="172944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a50021"/>
                  </a:solidFill>
                  <a:latin typeface="Comic Sans MS"/>
                </a:rPr>
                <a:t>Filtro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76520" y="1904760"/>
              <a:ext cx="1143000" cy="304920"/>
            </a:xfrm>
            <a:prstGeom prst="rightArrow">
              <a:avLst>
                <a:gd name="adj1" fmla="val 50000"/>
                <a:gd name="adj2" fmla="val 93713"/>
              </a:avLst>
            </a:prstGeom>
            <a:solidFill>
              <a:srgbClr val="a50021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553080" y="1752480"/>
              <a:ext cx="457200" cy="304560"/>
            </a:xfrm>
            <a:prstGeom prst="rightArrow">
              <a:avLst>
                <a:gd name="adj1" fmla="val 50000"/>
                <a:gd name="adj2" fmla="val 37530"/>
              </a:avLst>
            </a:prstGeom>
            <a:solidFill>
              <a:srgbClr val="a50021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0" y="2590560"/>
              <a:ext cx="380880" cy="685800"/>
            </a:xfrm>
            <a:prstGeom prst="downArrow">
              <a:avLst>
                <a:gd name="adj1" fmla="val 50000"/>
                <a:gd name="adj2" fmla="val 45014"/>
              </a:avLst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609480" y="1523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81680" y="1295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0"/>
            <a:ext cx="8610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Diagrama de Bloque de un Filt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809880"/>
            <a:ext cx="89154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% Retención  Producto = </a:t>
            </a:r>
            <a:r>
              <a:rPr b="0" lang="es-ES" sz="2400" spc="-1" strike="noStrike" u="sng">
                <a:solidFill>
                  <a:srgbClr val="3333cc"/>
                </a:solidFill>
                <a:uFillTx/>
                <a:latin typeface="Comic Sans MS"/>
              </a:rPr>
              <a:t>Producto en el Remanente 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 *100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                  Producto en la ali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% Remoción = 100 - % R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%Denaturación =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6019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ERMITE DISEÑAR EL AREA DEL FILTRO, A [m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0880" y="0"/>
            <a:ext cx="853452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iagrama de Bloques del proces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0" y="990720"/>
          <a:ext cx="91440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" name=""/>
          <p:cNvGrpSpPr/>
          <p:nvPr/>
        </p:nvGrpSpPr>
        <p:grpSpPr>
          <a:xfrm>
            <a:off x="5638680" y="1981080"/>
            <a:ext cx="3505320" cy="4521240"/>
            <a:chOff x="5638680" y="1981080"/>
            <a:chExt cx="3505320" cy="4521240"/>
          </a:xfrm>
        </p:grpSpPr>
        <p:sp>
          <p:nvSpPr>
            <p:cNvPr id="151" name=""/>
            <p:cNvSpPr/>
            <p:nvPr/>
          </p:nvSpPr>
          <p:spPr>
            <a:xfrm>
              <a:off x="8229600" y="1981080"/>
              <a:ext cx="685800" cy="2210040"/>
            </a:xfrm>
            <a:prstGeom prst="ellipse">
              <a:avLst/>
            </a:prstGeom>
            <a:noFill/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38680" y="5486400"/>
              <a:ext cx="35053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COLUM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CROMATOGRAFIC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752480" y="380880"/>
            <a:ext cx="47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CROMATOGRAF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447920" y="1628640"/>
            <a:ext cx="72770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77240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04920" y="0"/>
            <a:ext cx="8610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Diseño Columnas Cromatográf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3848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876920" y="1143000"/>
          <a:ext cx="39812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143000"/>
                    <a:ext cx="39812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57200" y="838080"/>
            <a:ext cx="44197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on operaciones unitarias que separan las diferentes velocidades de migración que tienen las proteí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a velocidad de migración está regulada por la afinidad que tenga la proteína para interactuar con el medio que contiene la colum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0"/>
            <a:ext cx="8610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3848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838080"/>
            <a:ext cx="83059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xisten diferentes tipos de afinidades específ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r Carg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romatografía de Intercambio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r Hidrofobicidad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romatografía de Interacción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idrofób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iológica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romatografía de Afi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xiste la cromatografía de no-adsor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romatografía de Exclusión por tamaño o Filtración por g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Tipos de Cromatografía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590920" y="914400"/>
          <a:ext cx="3290760" cy="263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914400"/>
                    <a:ext cx="3290760" cy="26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0" y="3990960"/>
          <a:ext cx="4038480" cy="28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990960"/>
                    <a:ext cx="40384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4800600" y="3570120"/>
          <a:ext cx="3352680" cy="328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3570120"/>
                    <a:ext cx="3352680" cy="32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04920" y="-30492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ROMATOGRAFIA DE ADSOR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209680" y="609480"/>
            <a:ext cx="37656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0"/>
            <a:ext cx="777240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iagrama de entrada y Sal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676520"/>
            <a:ext cx="15242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tr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í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15200" y="2362320"/>
            <a:ext cx="1828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00400" y="44197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11430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sio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676520" y="2362320"/>
            <a:ext cx="5333760" cy="1981080"/>
            <a:chOff x="1676520" y="2362320"/>
            <a:chExt cx="5333760" cy="1981080"/>
          </a:xfrm>
        </p:grpSpPr>
        <p:sp>
          <p:nvSpPr>
            <p:cNvPr id="49" name=""/>
            <p:cNvSpPr/>
            <p:nvPr/>
          </p:nvSpPr>
          <p:spPr>
            <a:xfrm>
              <a:off x="3200400" y="2362320"/>
              <a:ext cx="3124080" cy="172944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a50021"/>
                  </a:solidFill>
                  <a:latin typeface="Comic Sans MS"/>
                </a:rPr>
                <a:t>Proceso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76520" y="2971800"/>
              <a:ext cx="1143000" cy="304920"/>
            </a:xfrm>
            <a:prstGeom prst="rightArrow">
              <a:avLst>
                <a:gd name="adj1" fmla="val 50000"/>
                <a:gd name="adj2" fmla="val 93713"/>
              </a:avLst>
            </a:prstGeom>
            <a:solidFill>
              <a:srgbClr val="a50021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553080" y="2819520"/>
              <a:ext cx="457200" cy="304560"/>
            </a:xfrm>
            <a:prstGeom prst="rightArrow">
              <a:avLst>
                <a:gd name="adj1" fmla="val 50000"/>
                <a:gd name="adj2" fmla="val 37530"/>
              </a:avLst>
            </a:prstGeom>
            <a:solidFill>
              <a:srgbClr val="a50021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657600"/>
              <a:ext cx="380880" cy="685800"/>
            </a:xfrm>
            <a:prstGeom prst="downArrow">
              <a:avLst>
                <a:gd name="adj1" fmla="val 50000"/>
                <a:gd name="adj2" fmla="val 45014"/>
              </a:avLst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4648320" y="167652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a50021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533520" y="1165320"/>
          <a:ext cx="377820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65320"/>
                    <a:ext cx="37782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4191120" y="990720"/>
            <a:ext cx="4572000" cy="43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1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Acondicionamiento de la matri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2509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Pasos de un proceso de Cromatográ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91120" y="16002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Paso 2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 Aplicación y adsorción de la muestra. </a:t>
            </a: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% de Un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67080" y="274320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3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var la columna para que salgan todas las proteínas que no han sido reten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67080" y="37339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Paso 4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  Modificación de las condiciones de la fase móvil de tal manera de debilitar las interacciones entre la proteína y la fase estacionarias, lo que provoca la elución de la proteína. </a:t>
            </a: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% de Recu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43400" y="5668920"/>
            <a:ext cx="4800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5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Regeneración de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6324480" cy="39578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04920" y="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ROMATOGRAFIA DE NO-ADSOR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705720" y="2743200"/>
          <a:ext cx="2120760" cy="326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05720" y="2743200"/>
                    <a:ext cx="2120760" cy="32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380880" y="0"/>
            <a:ext cx="2438280" cy="4803120"/>
            <a:chOff x="380880" y="0"/>
            <a:chExt cx="2438280" cy="4803120"/>
          </a:xfrm>
        </p:grpSpPr>
        <p:sp>
          <p:nvSpPr>
            <p:cNvPr id="187" name=""/>
            <p:cNvSpPr/>
            <p:nvPr/>
          </p:nvSpPr>
          <p:spPr>
            <a:xfrm>
              <a:off x="380880" y="838080"/>
              <a:ext cx="380880" cy="289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9480" y="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57200" y="37339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6176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5800" y="7632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liment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14400" y="365760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ava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5800" y="434340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Elui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133720" y="685800"/>
            <a:ext cx="6705360" cy="56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Se determin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% Unión = </a:t>
            </a:r>
            <a:r>
              <a:rPr b="0" lang="es-ES" sz="2400" spc="-1" strike="noStrike" u="sng">
                <a:solidFill>
                  <a:srgbClr val="3333cc"/>
                </a:solidFill>
                <a:uFillTx/>
                <a:latin typeface="Comic Sans MS"/>
              </a:rPr>
              <a:t>Producto Unido a la matriz 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 *100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      Producto en la ali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Se recomienda %Unión = 9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%Recuperación = </a:t>
            </a:r>
            <a:r>
              <a:rPr b="0" lang="es-ES" sz="2400" spc="-1" strike="noStrike" u="sng">
                <a:solidFill>
                  <a:srgbClr val="a50021"/>
                </a:solidFill>
                <a:uFillTx/>
                <a:latin typeface="Comic Sans MS"/>
              </a:rPr>
              <a:t>Producto Eluido </a:t>
            </a: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*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Producto Unido a la matriz</a:t>
            </a:r>
            <a:r>
              <a:rPr b="0" lang="es-ES" sz="24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Se recomiendo %Recuperación = 9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Comic Sans MS"/>
              </a:rPr>
              <a:t>%Denaturación =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380880" y="0"/>
            <a:ext cx="2438280" cy="4803120"/>
            <a:chOff x="380880" y="0"/>
            <a:chExt cx="2438280" cy="4803120"/>
          </a:xfrm>
        </p:grpSpPr>
        <p:sp>
          <p:nvSpPr>
            <p:cNvPr id="196" name=""/>
            <p:cNvSpPr/>
            <p:nvPr/>
          </p:nvSpPr>
          <p:spPr>
            <a:xfrm>
              <a:off x="380880" y="838080"/>
              <a:ext cx="380880" cy="289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9480" y="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7200" y="37339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176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5800" y="7632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liment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14400" y="365760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ava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5800" y="434340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Elui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2133720" y="685800"/>
            <a:ext cx="6705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Vida Útil de la resina = 100 pa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Volumen de lavado = 5 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Volumen de elución =20 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TODO ESTO PERMITE DERTERMINAR EL VOLUMEN DE MATRIZ A UTIL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0"/>
            <a:ext cx="8610480" cy="624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3333cc"/>
                </a:solidFill>
                <a:uFillTx/>
                <a:latin typeface="Comic Sans MS"/>
              </a:rPr>
              <a:t>BALANCES DE MASA EN ESTADO ESTACIO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En base a la ley de conservación de la materia de Lavois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“ 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La cantidad de materia antes y después  de un experimento sigue siendo la mism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Considerando estado estacio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MASA QUE ENTRA = MASA QUE S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Esta ecuación permite determinar los flujos y composiciones de cada corriente en un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0"/>
            <a:ext cx="8610480" cy="74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3333cc"/>
                </a:solidFill>
                <a:uFillTx/>
                <a:latin typeface="Comic Sans MS"/>
              </a:rPr>
              <a:t>Operaciones unita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Es una unidad en la cual se lleva a cabo un solo cambio, ya sea físico,químico o biológ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Fermentad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75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Químic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75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Se produce en crecimiento de la Bio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Filtros, Microfiltros, Ultrafiltros, Columnas Cromatograficas, Sistemas de 2 fases Acuo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75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Fí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75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Se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Homogenizad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7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Fí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7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Rompimiento de la Bio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57" name="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26960" y="0"/>
              <a:ext cx="3636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                       </a:t>
              </a:r>
              <a:r>
                <a:rPr b="0" lang="es-ES_tradnl" sz="2400" spc="-1" strike="noStrike">
                  <a:solidFill>
                    <a:srgbClr val="a50021"/>
                  </a:solidFill>
                  <a:latin typeface="Comic Sans MS"/>
                </a:rPr>
                <a:t>Fermentad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0" y="54864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squema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0"/>
            <a:ext cx="853452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iagrama de Bloques del proces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990720"/>
          <a:ext cx="91440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828800" y="990720"/>
            <a:ext cx="7315200" cy="3504960"/>
          </a:xfrm>
          <a:prstGeom prst="rect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514600" y="1905120"/>
            <a:ext cx="4952880" cy="3568680"/>
            <a:chOff x="2514600" y="1905120"/>
            <a:chExt cx="4952880" cy="3568680"/>
          </a:xfrm>
        </p:grpSpPr>
        <p:sp>
          <p:nvSpPr>
            <p:cNvPr id="102" name=""/>
            <p:cNvSpPr/>
            <p:nvPr/>
          </p:nvSpPr>
          <p:spPr>
            <a:xfrm>
              <a:off x="4267080" y="51055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ltr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14600" y="1981080"/>
              <a:ext cx="685800" cy="22100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86200" y="1981080"/>
              <a:ext cx="685800" cy="22100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81680" y="1905120"/>
              <a:ext cx="685800" cy="22096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0"/>
            <a:ext cx="8610480" cy="298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Diseño Fil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on operaciones unitarias que separan por tamaño, sólo las partículas más pequeñas que el tamaño del poro lograr pas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62120" y="2895480"/>
          <a:ext cx="3047760" cy="27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95480"/>
                    <a:ext cx="304776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343400" y="2590920"/>
          <a:ext cx="4419720" cy="33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2590920"/>
                    <a:ext cx="4419720" cy="33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tinu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Image2" descr=""/>
          <p:cNvPicPr/>
          <p:nvPr/>
        </p:nvPicPr>
        <p:blipFill>
          <a:blip r:embed="rId1"/>
          <a:stretch/>
        </p:blipFill>
        <p:spPr>
          <a:xfrm>
            <a:off x="4915080" y="1752480"/>
            <a:ext cx="4228920" cy="330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0" y="1523880"/>
          <a:ext cx="4591080" cy="349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23880"/>
                    <a:ext cx="45910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457200" y="56386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Rotatorio al vací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2830680" cy="2832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1600200" cy="2286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267080" y="1981080"/>
            <a:ext cx="990720" cy="2381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2819520" y="2133720"/>
            <a:ext cx="1143000" cy="2095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9720" y="4699080"/>
            <a:ext cx="249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LUJO TANG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 TRAVES DE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EMBR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33440" y="4724280"/>
            <a:ext cx="23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QUIP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LTRAFIL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FIBRA HUE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72200" y="4724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IDAD OPER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09680" y="3048120"/>
            <a:ext cx="44316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10080" y="2971800"/>
            <a:ext cx="44316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3333cc"/>
                </a:solidFill>
                <a:uFillTx/>
                <a:latin typeface="Comic Sans MS"/>
              </a:rPr>
              <a:t>Diseño Microfiltros y Ultrafil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Maria Elena Lienqueo C.</cp:lastModifiedBy>
  <dcterms:modified xsi:type="dcterms:W3CDTF">2004-08-17T05:29:09Z</dcterms:modified>
  <cp:revision>111</cp:revision>
  <dc:subject/>
  <dc:title>Separación Sólido-Líquido</dc:title>
</cp:coreProperties>
</file>