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C4B-F6CA-456B-A2DC-932D2DA5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69A-E48E-4DAD-BEBB-60ADAC7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C65-6422-43ED-8AC9-D74BCA3F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61E-B5BB-4CB5-A3D7-60846A8D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F57-B979-4468-BA92-8EBF07A1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9AF-0F86-4332-8E15-11528BC6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C57-2083-4A43-A5D8-661F3AB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F63-6EB9-44F1-884E-5F398AA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DFD-CE06-45DB-89EE-305CC127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C88-566A-4DA5-978E-43AA226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C54-70C1-4D4A-B061-1ADE9E6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C18-6ACD-486C-AA3B-861C0CA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3A30-9EB6-499B-92A2-ED5C2689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con una viñeta descriptiva y el número del documento y revisión al pié de pág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66" name="Image2" descr="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Image3" descr="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a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1" descr="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51" name="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2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57" name="Image11" descr="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os le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8-17T04:59:30Z</dcterms:modified>
  <cp:revision>62</cp:revision>
  <dc:subject/>
  <dc:title>El ingeniero, etica y socied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84997242</vt:r8>
  </property>
  <property fmtid="{D5CDD505-2E9C-101B-9397-08002B2CF9AE}" pid="3" name="_AuthorEmail">
    <vt:lpwstr>rbadilla@biosigma.cl</vt:lpwstr>
  </property>
  <property fmtid="{D5CDD505-2E9C-101B-9397-08002B2CF9AE}" pid="4" name="_AuthorEmailDisplayName">
    <vt:lpwstr>Ricardo Badilla</vt:lpwstr>
  </property>
  <property fmtid="{D5CDD505-2E9C-101B-9397-08002B2CF9AE}" pid="5" name="_EmailSubject">
    <vt:lpwstr>Guia preparacion de Proyectos.ppt</vt:lpwstr>
  </property>
</Properties>
</file>