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2666880" y="5714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Rodrigo</a:t>
            </a: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Luis Varg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Roberto Rom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1430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Seminario de Diseño:</a:t>
            </a:r>
            <a:br>
              <a:rPr sz="3600"/>
            </a:br>
            <a:r>
              <a:rPr b="0" lang="es-CL" sz="36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66"/>
                </a:solidFill>
                <a:latin typeface="Arial"/>
              </a:rPr>
              <a:t>ENERGIAS RENOVABLES Y USO EFICIENTE</a:t>
            </a:r>
            <a:br>
              <a:rPr sz="3600"/>
            </a:br>
            <a:r>
              <a:rPr b="1" lang="es-ES_tradnl" sz="3600" spc="-1" strike="noStrike">
                <a:solidFill>
                  <a:srgbClr val="000066"/>
                </a:solidFill>
                <a:latin typeface="Arial"/>
              </a:rPr>
              <a:t>http://146.83.6.6/bdmc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573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99"/>
                </a:solidFill>
                <a:latin typeface="Arial"/>
              </a:rPr>
              <a:t>Objetivo del Curs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743200"/>
            <a:ext cx="6705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Generar y fomentar una actitud positiva de los estudiantes de ingeniería de plan común, hacia actividades de diseño tecnológico en torno al uso de energías renovables y su uso eficiente.</a:t>
            </a:r>
            <a:r>
              <a:rPr b="0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Arial"/>
              </a:rPr>
              <a:t>Reglas del Curs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Cupo  para 12 alumn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El curso consta de las siguientes actividad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Arial"/>
              </a:rPr>
              <a:t>3 Sesiones Obligatorias de Laboratori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Arial"/>
              </a:rPr>
              <a:t>1 Cátedra seman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Arial"/>
              </a:rPr>
              <a:t>Desarrollo de Proyecto de Diseñ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Tanto las sesiones de laboratorio como el Proyecto deben realizarse en grupos de 3 personas (máximo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Cálculo de Nota Final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NF=0,2*Nlab+0,5*Proyecto+0,3*InfProyect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66"/>
                </a:solidFill>
                <a:latin typeface="Arial"/>
              </a:rPr>
              <a:t>Tipos de Proyecto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Sistema de monitoreo, control y uso eficiente de auto eléctrico, proyecto Lüfk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36640" y="324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3505320" cy="263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342900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66"/>
                </a:solidFill>
                <a:latin typeface="Arial"/>
              </a:rPr>
              <a:t>Tipos de Proyecto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istema de control de celda de combustib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95280" y="1162080"/>
            <a:ext cx="65786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66"/>
                </a:solidFill>
                <a:latin typeface="Arial"/>
              </a:rPr>
              <a:t>Tipos de Proyecto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studio de sistema conjunto solar, eólic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3505320"/>
            <a:ext cx="2895480" cy="2170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232240" y="4114800"/>
            <a:ext cx="2997360" cy="2247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019920" y="914400"/>
            <a:ext cx="2143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66"/>
                </a:solidFill>
                <a:latin typeface="Arial"/>
              </a:rPr>
              <a:t>Tipos de Proyecto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Acoplamiento de sistema de almacenamiento de energía red de Facultad (monitoreo y sistema de anuncio)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10120" y="1600200"/>
            <a:ext cx="3371760" cy="4495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41529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66"/>
                </a:solidFill>
                <a:latin typeface="Arial"/>
              </a:rPr>
              <a:t>Tipos de Proyecto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mplementación de túnel de viento para el estudio de unidades de generación eólica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91120" y="2268360"/>
            <a:ext cx="42670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delacas</cp:lastModifiedBy>
  <dcterms:modified xsi:type="dcterms:W3CDTF">2004-08-20T20:41:47Z</dcterms:modified>
  <cp:revision>23</cp:revision>
  <dc:subject/>
  <dc:title>PowerPoint Presentation</dc:title>
</cp:coreProperties>
</file>