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9.png" ContentType="image/png"/>
  <Override PartName="/ppt/media/image11.jpeg" ContentType="image/jpeg"/>
  <Override PartName="/ppt/media/image7.wmf" ContentType="image/x-wmf"/>
  <Override PartName="/ppt/media/image6.jpeg" ContentType="image/jpeg"/>
  <Override PartName="/ppt/media/image10.png" ContentType="image/png"/>
  <Override PartName="/ppt/media/image20.png" ContentType="image/png"/>
  <Override PartName="/ppt/media/image2.wmf" ContentType="image/x-wmf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wmf" ContentType="image/x-wmf"/>
  <Override PartName="/ppt/media/image14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7E0F-880E-4352-BC3A-53D98C5E322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sumo concentrado en países desarrollados: 56% en Europa y Norteamé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o se visualizan muchos nuevos proyectos mineros de cobre despues del año 2001, excepto expansión Fase IV de Escondida (inversión US$1.200 millo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scondida Norte (250-300 mil tpa Cu) y Spence (190 mil tpa Cu) en fase de estudios de prefactibi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xisten algunas expansiones en carpe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adomiro To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Ten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os Bro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0140-1DC4-4700-ABD3-99F481DFD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3F51-8FD6-489E-A42F-039CB7B3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F658-8CBD-420A-8061-EB23EC27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D63B-2779-4339-AEDE-F44C6082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D76D-B450-4A70-A2BF-EE32AD54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0EB9-7115-4F3F-ACE2-F723FCC9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4EB3-452B-4AC8-9BA8-BAEA143F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FAE5-2202-438D-AC9F-E47C8A17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EA2-21AF-4F4E-B0BA-D0C8C476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F6B7-7E01-4CF4-80C0-BBB6E2C1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4428-76A4-439C-B9C4-B3EA0DFB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0A4E-5F3B-4D68-B80D-7118D693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88FD-B556-4653-8BA0-FC1F33B98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ochileco.cl/" TargetMode="External"/><Relationship Id="rId2" Type="http://schemas.openxmlformats.org/officeDocument/2006/relationships/hyperlink" Target="http://www.consejominero.cl/" TargetMode="External"/><Relationship Id="rId3" Type="http://schemas.openxmlformats.org/officeDocument/2006/relationships/hyperlink" Target="http://www.minmineria.cl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ili: un pays minier</a:t>
            </a:r>
            <a:r>
              <a:rPr b="0" lang="es-ES_tradnl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partamento de Ingeniería de M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251760" y="912960"/>
            <a:ext cx="231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Total transactions 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financia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on copp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(1.700 millions of t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76200" y="990720"/>
            <a:ext cx="5562720" cy="5562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47800" y="3732120"/>
            <a:ext cx="2819520" cy="2781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8640" y="6316560"/>
            <a:ext cx="209520" cy="190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06800" y="6392880"/>
            <a:ext cx="133560" cy="114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73" idx="1"/>
            <a:endCxn id="69" idx="6"/>
          </p:cNvCxnSpPr>
          <p:nvPr/>
        </p:nvCxnSpPr>
        <p:spPr>
          <a:xfrm flipH="1" flipV="1">
            <a:off x="5466960" y="5122080"/>
            <a:ext cx="1118160" cy="291240"/>
          </a:xfrm>
          <a:prstGeom prst="straightConnector1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7" idx="2"/>
          </p:cNvCxnSpPr>
          <p:nvPr/>
        </p:nvCxnSpPr>
        <p:spPr>
          <a:xfrm flipH="1">
            <a:off x="6570000" y="2103480"/>
            <a:ext cx="840600" cy="410400"/>
          </a:xfrm>
          <a:prstGeom prst="straightConnector1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145440" y="1065240"/>
            <a:ext cx="22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the end of 1998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7" idx="1"/>
            <a:endCxn id="70" idx="7"/>
          </p:cNvCxnSpPr>
          <p:nvPr/>
        </p:nvCxnSpPr>
        <p:spPr>
          <a:xfrm flipH="1">
            <a:off x="4147920" y="3603600"/>
            <a:ext cx="1383120" cy="2742480"/>
          </a:xfrm>
          <a:prstGeom prst="straightConnector1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9" idx="3"/>
            <a:endCxn id="71" idx="3"/>
          </p:cNvCxnSpPr>
          <p:nvPr/>
        </p:nvCxnSpPr>
        <p:spPr>
          <a:xfrm>
            <a:off x="2997000" y="3639960"/>
            <a:ext cx="1028880" cy="2850480"/>
          </a:xfrm>
          <a:prstGeom prst="straightConnector1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152280" y="304920"/>
            <a:ext cx="883944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pper market and financial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1440" y="331956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Physical Stocks of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in LME (0,7 millions de ton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85840" y="4818240"/>
            <a:ext cx="250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Total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of financia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on copper in L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(419 millions ton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29960" y="3282840"/>
            <a:ext cx="34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Physical production 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stock exchange (2,3 millions ton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rect production costs of mined Copper (“Cash Costs”) -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35080" y="927000"/>
            <a:ext cx="880092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419720" y="19051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Production de cuiv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44240" y="1295280"/>
            <a:ext cx="255348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ng ex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underground or open p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2209680"/>
            <a:ext cx="190476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ush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8229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4648320"/>
            <a:ext cx="8381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1160" y="1371600"/>
            <a:ext cx="174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ining ex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8120" y="2133720"/>
            <a:ext cx="109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ne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" y="4724280"/>
            <a:ext cx="11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trac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tallu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17000" y="1908000"/>
            <a:ext cx="1671840" cy="1337040"/>
            <a:chOff x="1917000" y="1908000"/>
            <a:chExt cx="1671840" cy="1337040"/>
          </a:xfrm>
        </p:grpSpPr>
        <p:sp>
          <p:nvSpPr>
            <p:cNvPr id="93" name=""/>
            <p:cNvSpPr/>
            <p:nvPr/>
          </p:nvSpPr>
          <p:spPr>
            <a:xfrm flipH="1">
              <a:off x="2582640" y="2477160"/>
              <a:ext cx="898200" cy="53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9702200">
              <a:off x="1950120" y="2285640"/>
              <a:ext cx="160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3300"/>
                  </a:solidFill>
                  <a:latin typeface="Times New Roman"/>
                </a:rPr>
                <a:t>Pyrometallur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3300"/>
                  </a:solidFill>
                  <a:latin typeface="Times New Roman"/>
                </a:rPr>
                <a:t>(sulfide or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351400" y="1817280"/>
            <a:ext cx="2469960" cy="1521720"/>
            <a:chOff x="5351400" y="1817280"/>
            <a:chExt cx="2469960" cy="1521720"/>
          </a:xfrm>
        </p:grpSpPr>
        <p:sp>
          <p:nvSpPr>
            <p:cNvPr id="96" name=""/>
            <p:cNvSpPr/>
            <p:nvPr/>
          </p:nvSpPr>
          <p:spPr>
            <a:xfrm>
              <a:off x="5468040" y="2455920"/>
              <a:ext cx="1405080" cy="58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434000">
              <a:off x="5364000" y="2287440"/>
              <a:ext cx="244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ff"/>
                  </a:solidFill>
                  <a:latin typeface="Times New Roman"/>
                </a:rPr>
                <a:t>Hydrometallur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Times New Roman"/>
                </a:rPr>
                <a:t>(oxide ores, low grade sulfid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094440" y="3124080"/>
            <a:ext cx="1744560" cy="3734640"/>
            <a:chOff x="6094440" y="3124080"/>
            <a:chExt cx="1744560" cy="3734640"/>
          </a:xfrm>
        </p:grpSpPr>
        <p:sp>
          <p:nvSpPr>
            <p:cNvPr id="99" name=""/>
            <p:cNvSpPr/>
            <p:nvPr/>
          </p:nvSpPr>
          <p:spPr>
            <a:xfrm>
              <a:off x="6934320" y="57150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34320" y="51055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34320" y="3733920"/>
              <a:ext cx="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4440" y="3124080"/>
              <a:ext cx="1505160" cy="64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uring 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gglom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31400" y="4800600"/>
              <a:ext cx="1034280" cy="36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each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00800" y="5410080"/>
              <a:ext cx="1143000" cy="36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00800" y="6019920"/>
              <a:ext cx="1143000" cy="36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34320" y="64008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35760" y="652140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atho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706040" y="3048120"/>
            <a:ext cx="3137040" cy="3385080"/>
            <a:chOff x="1706040" y="3048120"/>
            <a:chExt cx="3137040" cy="3385080"/>
          </a:xfrm>
        </p:grpSpPr>
        <p:sp>
          <p:nvSpPr>
            <p:cNvPr id="109" name=""/>
            <p:cNvSpPr/>
            <p:nvPr/>
          </p:nvSpPr>
          <p:spPr>
            <a:xfrm>
              <a:off x="2438280" y="51814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38280" y="449568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35812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76600" y="3048120"/>
              <a:ext cx="1479240" cy="642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cen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flotatio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1280" y="4876920"/>
              <a:ext cx="1008360" cy="36828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mel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06040" y="5486400"/>
              <a:ext cx="1569240" cy="36828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ectrorefi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00800" y="4876920"/>
              <a:ext cx="1142280" cy="36828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cid pl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43840" y="3886200"/>
              <a:ext cx="1480680" cy="642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tration a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y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48120" y="510552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38280" y="58672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67080" y="52578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2520" y="609588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atho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65400" y="5486400"/>
              <a:ext cx="73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7772400" y="1066680"/>
            <a:ext cx="609480" cy="5486400"/>
          </a:xfrm>
          <a:custGeom>
            <a:avLst/>
            <a:gdLst>
              <a:gd name="textAreaLeft" fmla="*/ 0 w 609480"/>
              <a:gd name="textAreaRight" fmla="*/ 219960 w 60948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06"/>
                </a:lnTo>
                <a:cubicBezTo>
                  <a:pt x="10800" y="10006"/>
                  <a:pt x="16200" y="10906"/>
                  <a:pt x="21600" y="10906"/>
                </a:cubicBezTo>
                <a:cubicBezTo>
                  <a:pt x="16200" y="10906"/>
                  <a:pt x="10800" y="11806"/>
                  <a:pt x="10800" y="1270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42280" y="2514600"/>
            <a:ext cx="48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a de proces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371600" y="1257480"/>
            <a:ext cx="65530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Rajo_15ene2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Mina%202" descr=""/>
          <p:cNvPicPr/>
          <p:nvPr/>
        </p:nvPicPr>
        <p:blipFill>
          <a:blip r:embed="rId1"/>
          <a:stretch/>
        </p:blipFill>
        <p:spPr>
          <a:xfrm>
            <a:off x="199872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Mina%201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Chancado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Flotación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0" y="-6480"/>
          <a:ext cx="9144000" cy="687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6480"/>
                    <a:ext cx="9144000" cy="687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ajo_15ene2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4572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 industria del cobre en cifr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295280"/>
            <a:ext cx="807732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roducción anual de cobre 2004: 5,36 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Cobre refinado: más de 2,5 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Se generan diariam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mic Sans MS"/>
              </a:rPr>
              <a:t>1,6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t de las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mic Sans MS"/>
              </a:rPr>
              <a:t>650.000 t/día de rel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mic Sans MS"/>
              </a:rPr>
              <a:t>10.000 t SO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mic Sans MS"/>
              </a:rPr>
              <a:t>12.000 t de esco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mic Sans MS"/>
              </a:rPr>
              <a:t>.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Cátodos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Salar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Campamento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ecda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partamento de Ingeniería de Mi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logo-depto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1047960" cy="1019160"/>
          </a:xfrm>
          <a:prstGeom prst="rect">
            <a:avLst/>
          </a:prstGeom>
          <a:ln w="0">
            <a:noFill/>
          </a:ln>
        </p:spPr>
      </p:pic>
      <p:pic>
        <p:nvPicPr>
          <p:cNvPr id="139" name="logo-uch" descr=""/>
          <p:cNvPicPr/>
          <p:nvPr/>
        </p:nvPicPr>
        <p:blipFill>
          <a:blip r:embed="rId2"/>
          <a:stretch/>
        </p:blipFill>
        <p:spPr>
          <a:xfrm>
            <a:off x="8001000" y="533520"/>
            <a:ext cx="53352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ddd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vil Mining Engineers (12 semes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80 students (over 3,5 yea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ster on Engineering Sciences Extractive Metallu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ster on Mining Engin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w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ploma on Mineral Economics (with Curtin Univers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c5a8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átedra Barrick - Placer Dom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 Medio Ambiente en Miner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Objetivo general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establecer un grupo académico multidisciplinario cuya actividad fundamental se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nseñar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nvestigar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difundir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la temática propia de las relaciones entre los procesos mineros y metalúrgicos y el medio ambi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establecimiento de esta cátedra se enmarca dentro del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ograma de Modernización de la Enseñanza de la Ingeniería de Mina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que la Universidad de Chile está llevando adelante en estrecha colaboración con la industria minera chil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c5a8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áreas temá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ormación de preg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ormación de postgrado y postítu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vesti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xten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des acadé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c5a8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íneas de investig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Caraterización y manejo de residuos mineros y metalúr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LCA (Análisis de ciclo de vida)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c5a8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Transferencia y exten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AMA: elaboración del manual de aplicación de la norma de emisión de arsén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inisterio de Minería: metodología para la estimación de costo de planes de cierre y abandono de faenas mine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undición de cobre: estimación de las emisiones fugitivas de dióxido de azuf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ivisión Andina CODELCO: análisis geoquímico de tranques de rel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Quelques chiff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ochileco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consejominero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minmineria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pper consump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y geographical are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3520" y="1295280"/>
          <a:ext cx="8443800" cy="562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84438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5791320" y="5105520"/>
            <a:ext cx="2743200" cy="119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ld Copper Consumption in 1999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,1 Millions of Tons de Co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ine Copper Produc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Occid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5080" y="1003320"/>
            <a:ext cx="881352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Chilean Copper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hile" descr=""/>
          <p:cNvPicPr/>
          <p:nvPr/>
        </p:nvPicPr>
        <p:blipFill>
          <a:blip r:embed="rId1"/>
          <a:stretch/>
        </p:blipFill>
        <p:spPr>
          <a:xfrm>
            <a:off x="2971800" y="0"/>
            <a:ext cx="276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mapa" descr=""/>
          <p:cNvPicPr/>
          <p:nvPr/>
        </p:nvPicPr>
        <p:blipFill>
          <a:blip r:embed="rId1"/>
          <a:stretch/>
        </p:blipFill>
        <p:spPr>
          <a:xfrm>
            <a:off x="1722600" y="-838080"/>
            <a:ext cx="5978520" cy="81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pper pric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996-2000 (c/l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7160" y="838080"/>
            <a:ext cx="871380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1:52:49Z</dcterms:created>
  <dc:creator>Jacques Wiertz</dc:creator>
  <dc:description/>
  <dc:language>en-US</dc:language>
  <cp:lastModifiedBy>Ingrid Rosas</cp:lastModifiedBy>
  <dcterms:modified xsi:type="dcterms:W3CDTF">2005-07-07T13:23:46Z</dcterms:modified>
  <cp:revision>17</cp:revision>
  <dc:subject/>
  <dc:title>Industrie Minière Chilienne</dc:title>
</cp:coreProperties>
</file>