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8.wmf" ContentType="image/x-wmf"/>
  <Override PartName="/ppt/media/image9.png" ContentType="image/png"/>
  <Override PartName="/ppt/media/image11.jpeg" ContentType="image/jpeg"/>
  <Override PartName="/ppt/media/image7.wmf" ContentType="image/x-wmf"/>
  <Override PartName="/ppt/media/image6.jpeg" ContentType="image/jpeg"/>
  <Override PartName="/ppt/media/image10.png" ContentType="image/png"/>
  <Override PartName="/ppt/media/image20.png" ContentType="image/png"/>
  <Override PartName="/ppt/media/image2.wmf" ContentType="image/x-wmf"/>
  <Override PartName="/ppt/media/image19.png" ContentType="image/png"/>
  <Override PartName="/ppt/media/image1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wmf" ContentType="image/x-wmf"/>
  <Override PartName="/ppt/media/image14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5.png" ContentType="image/pn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D7416-39A7-4074-82AA-ACA6E230FAD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onsumo concentrado en países desarrollados: 56% en Europa y Norteamé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No se visualizan muchos nuevos proyectos mineros de cobre despues del año 2001, excepto expansión Fase IV de Escondida (inversión US$1.200 millon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scondida Norte (250-300 mil tpa Cu) y Spence (190 mil tpa Cu) en fase de estudios de prefactibil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xisten algunas expansiones en carpe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Radomiro Tom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7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l A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7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l Ten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7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Los Bro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07B0-F245-4446-92A4-EA2E33F80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487A-4A37-4566-879F-734C0B55D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7679-781E-4A60-8B49-EE67F931B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8C6A-91CD-4038-8EBE-78B6965B5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2322-A550-436B-810B-A79A474B6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11DF-46C1-4BFF-AB82-64C9996A3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2E6F-14AC-4DED-8425-86DFBA7C4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30BE-18E5-4C9E-B714-BF911C3B9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555F-BE6C-4CC0-9463-E8F2EE072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59DE-E4B0-4315-8ED5-1E8A5F09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5EEA-8DAD-4286-B9F9-20915B71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7FA3-BFC5-42A0-A056-683961B9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d2fe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430E3-4D5E-45F5-BE00-CF74886809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ochileco.cl/" TargetMode="External"/><Relationship Id="rId2" Type="http://schemas.openxmlformats.org/officeDocument/2006/relationships/hyperlink" Target="http://www.consejominero.cl/" TargetMode="External"/><Relationship Id="rId3" Type="http://schemas.openxmlformats.org/officeDocument/2006/relationships/hyperlink" Target="http://www.minmineria.cl/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d2fe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hili: un pays minier</a:t>
            </a:r>
            <a:r>
              <a:rPr b="0" lang="es-ES_tradnl" sz="4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partamento de Ingeniería de Mi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cultad de Ciencias Físicas y Matemát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d2fe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251760" y="912960"/>
            <a:ext cx="231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Times New Roman"/>
              </a:rPr>
              <a:t>Total transactions 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Times New Roman"/>
              </a:rPr>
              <a:t>financial instr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Times New Roman"/>
              </a:rPr>
              <a:t>on copp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Times New Roman"/>
              </a:rPr>
              <a:t>(1.700 millions of t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76200" y="990720"/>
            <a:ext cx="5562720" cy="5562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647800" y="3732120"/>
            <a:ext cx="2819520" cy="27813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8640" y="6316560"/>
            <a:ext cx="209520" cy="190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06800" y="6392880"/>
            <a:ext cx="133560" cy="1141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73" idx="1"/>
            <a:endCxn id="69" idx="6"/>
          </p:cNvCxnSpPr>
          <p:nvPr/>
        </p:nvCxnSpPr>
        <p:spPr>
          <a:xfrm flipH="1" flipV="1">
            <a:off x="5466960" y="5122080"/>
            <a:ext cx="1118160" cy="291240"/>
          </a:xfrm>
          <a:prstGeom prst="straightConnector1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7" idx="2"/>
          </p:cNvCxnSpPr>
          <p:nvPr/>
        </p:nvCxnSpPr>
        <p:spPr>
          <a:xfrm flipH="1">
            <a:off x="6570000" y="2103480"/>
            <a:ext cx="840600" cy="410400"/>
          </a:xfrm>
          <a:prstGeom prst="straightConnector1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145440" y="1065240"/>
            <a:ext cx="226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 the end of 1998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77" idx="1"/>
            <a:endCxn id="70" idx="7"/>
          </p:cNvCxnSpPr>
          <p:nvPr/>
        </p:nvCxnSpPr>
        <p:spPr>
          <a:xfrm flipH="1">
            <a:off x="4147920" y="3603600"/>
            <a:ext cx="1383120" cy="2742480"/>
          </a:xfrm>
          <a:prstGeom prst="straightConnector1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79" idx="3"/>
            <a:endCxn id="71" idx="3"/>
          </p:cNvCxnSpPr>
          <p:nvPr/>
        </p:nvCxnSpPr>
        <p:spPr>
          <a:xfrm>
            <a:off x="2997000" y="3639960"/>
            <a:ext cx="1028880" cy="2850480"/>
          </a:xfrm>
          <a:prstGeom prst="straightConnector1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152280" y="304920"/>
            <a:ext cx="8839440" cy="6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pper market and financial mar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-1440" y="3319560"/>
            <a:ext cx="30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Times New Roman"/>
              </a:rPr>
              <a:t>Physical Stocks of 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Times New Roman"/>
              </a:rPr>
              <a:t>in LME (0,7 millions de ton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585840" y="4818240"/>
            <a:ext cx="250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Times New Roman"/>
              </a:rPr>
              <a:t>Total trans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Times New Roman"/>
              </a:rPr>
              <a:t>of financial instr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Times New Roman"/>
              </a:rPr>
              <a:t>on copper in L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Times New Roman"/>
              </a:rPr>
              <a:t>(419 millions ton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529960" y="3282840"/>
            <a:ext cx="341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Times New Roman"/>
              </a:rPr>
              <a:t>Physical production throu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Times New Roman"/>
              </a:rPr>
              <a:t>stock exchange (2,3 millions ton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d2fe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irect production costs of mined Copper (“Cash Costs”) -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35080" y="927000"/>
            <a:ext cx="880092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d2fe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419720" y="19051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Production de cuiv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44240" y="1295280"/>
            <a:ext cx="2553480" cy="64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ing extr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underground or open pi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05320" y="2209680"/>
            <a:ext cx="1904760" cy="64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ushing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l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2057400"/>
            <a:ext cx="8229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4648320"/>
            <a:ext cx="8381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61160" y="1371600"/>
            <a:ext cx="174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Mining ext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8120" y="2133720"/>
            <a:ext cx="109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iner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74320" y="4724280"/>
            <a:ext cx="115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xtractiv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tallu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17000" y="1908000"/>
            <a:ext cx="1671840" cy="1337040"/>
            <a:chOff x="1917000" y="1908000"/>
            <a:chExt cx="1671840" cy="1337040"/>
          </a:xfrm>
        </p:grpSpPr>
        <p:sp>
          <p:nvSpPr>
            <p:cNvPr id="93" name=""/>
            <p:cNvSpPr/>
            <p:nvPr/>
          </p:nvSpPr>
          <p:spPr>
            <a:xfrm flipH="1">
              <a:off x="2582640" y="2477160"/>
              <a:ext cx="898200" cy="538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9702200">
              <a:off x="1950120" y="2285640"/>
              <a:ext cx="1605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3300"/>
                  </a:solidFill>
                  <a:latin typeface="Times New Roman"/>
                </a:rPr>
                <a:t>Pyrometallurg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3300"/>
                  </a:solidFill>
                  <a:latin typeface="Times New Roman"/>
                </a:rPr>
                <a:t>(sulfide ore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5351400" y="1817280"/>
            <a:ext cx="2469960" cy="1521720"/>
            <a:chOff x="5351400" y="1817280"/>
            <a:chExt cx="2469960" cy="1521720"/>
          </a:xfrm>
        </p:grpSpPr>
        <p:sp>
          <p:nvSpPr>
            <p:cNvPr id="96" name=""/>
            <p:cNvSpPr/>
            <p:nvPr/>
          </p:nvSpPr>
          <p:spPr>
            <a:xfrm>
              <a:off x="5468040" y="2455920"/>
              <a:ext cx="1405080" cy="585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1434000">
              <a:off x="5364000" y="2287440"/>
              <a:ext cx="2444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ff"/>
                  </a:solidFill>
                  <a:latin typeface="Times New Roman"/>
                </a:rPr>
                <a:t>Hydrometallurg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Times New Roman"/>
                </a:rPr>
                <a:t>(oxide ores, low grade sulfide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6094440" y="3124080"/>
            <a:ext cx="1744560" cy="3734640"/>
            <a:chOff x="6094440" y="3124080"/>
            <a:chExt cx="1744560" cy="3734640"/>
          </a:xfrm>
        </p:grpSpPr>
        <p:sp>
          <p:nvSpPr>
            <p:cNvPr id="99" name=""/>
            <p:cNvSpPr/>
            <p:nvPr/>
          </p:nvSpPr>
          <p:spPr>
            <a:xfrm>
              <a:off x="6934320" y="571500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934320" y="5105520"/>
              <a:ext cx="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934320" y="3733920"/>
              <a:ext cx="0" cy="106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094440" y="3124080"/>
              <a:ext cx="1505160" cy="642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uring 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gglome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31400" y="4800600"/>
              <a:ext cx="1034280" cy="368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each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400800" y="5410080"/>
              <a:ext cx="1143000" cy="368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00800" y="6019920"/>
              <a:ext cx="1143000" cy="368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934320" y="640080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935760" y="652140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atho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706040" y="3048120"/>
            <a:ext cx="3137040" cy="3385080"/>
            <a:chOff x="1706040" y="3048120"/>
            <a:chExt cx="3137040" cy="3385080"/>
          </a:xfrm>
        </p:grpSpPr>
        <p:sp>
          <p:nvSpPr>
            <p:cNvPr id="109" name=""/>
            <p:cNvSpPr/>
            <p:nvPr/>
          </p:nvSpPr>
          <p:spPr>
            <a:xfrm>
              <a:off x="2438280" y="518148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438280" y="449568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438280" y="358128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76600" y="3048120"/>
              <a:ext cx="1479240" cy="64260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ncent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flotatio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961280" y="4876920"/>
              <a:ext cx="1008360" cy="36828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mel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06040" y="5486400"/>
              <a:ext cx="1569240" cy="36828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lectrorefin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700800" y="4876920"/>
              <a:ext cx="1142280" cy="36828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cid pla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43840" y="3886200"/>
              <a:ext cx="1480680" cy="64260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iltration an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ry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48120" y="5105520"/>
              <a:ext cx="533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438280" y="586728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267080" y="525780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982520" y="609588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atho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965400" y="5486400"/>
              <a:ext cx="73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O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7772400" y="1066680"/>
            <a:ext cx="609480" cy="5486400"/>
          </a:xfrm>
          <a:custGeom>
            <a:avLst/>
            <a:gdLst>
              <a:gd name="textAreaLeft" fmla="*/ 0 w 609480"/>
              <a:gd name="textAreaRight" fmla="*/ 219960 w 609480"/>
              <a:gd name="textAreaTop" fmla="*/ 142920 h 5486400"/>
              <a:gd name="textAreaBottom" fmla="*/ 5343480 h 5486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106"/>
                </a:lnTo>
                <a:cubicBezTo>
                  <a:pt x="10800" y="10006"/>
                  <a:pt x="16200" y="10906"/>
                  <a:pt x="21600" y="10906"/>
                </a:cubicBezTo>
                <a:cubicBezTo>
                  <a:pt x="16200" y="10906"/>
                  <a:pt x="10800" y="11806"/>
                  <a:pt x="10800" y="12706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42280" y="2514600"/>
            <a:ext cx="48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d2fe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a de proces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371600" y="1257480"/>
            <a:ext cx="655308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d2fe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Rajo_15ene20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d2fe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Mina%202" descr=""/>
          <p:cNvPicPr/>
          <p:nvPr/>
        </p:nvPicPr>
        <p:blipFill>
          <a:blip r:embed="rId1"/>
          <a:stretch/>
        </p:blipFill>
        <p:spPr>
          <a:xfrm>
            <a:off x="1998720" y="0"/>
            <a:ext cx="5145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d2fe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Mina%201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d2fe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Chancado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d2fe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Flotación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d2fe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0" y="-6480"/>
          <a:ext cx="9144000" cy="687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6480"/>
                    <a:ext cx="9144000" cy="687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d2fe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Rajo_15ene20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09480" y="4572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 industria del cobre en cifr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1295280"/>
            <a:ext cx="8077320" cy="54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Producción anual de cobre 2004: 5,36 10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Comic Sans MS"/>
              </a:rPr>
              <a:t>6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Cobre refinado: más de 2,5 10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Comic Sans MS"/>
              </a:rPr>
              <a:t>6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Se generan diariamen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mic Sans MS"/>
              </a:rPr>
              <a:t>1,6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Comic Sans MS"/>
              </a:rPr>
              <a:t>6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t de last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mic Sans MS"/>
              </a:rPr>
              <a:t>650.000 t/día de rel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mic Sans MS"/>
              </a:rPr>
              <a:t>10.000 t SO</a:t>
            </a:r>
            <a:r>
              <a:rPr b="1" lang="es-CL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mic Sans MS"/>
              </a:rPr>
              <a:t>12.000 t de esco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mic Sans MS"/>
              </a:rPr>
              <a:t>....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d2fe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Cátodos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d2fe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Salar2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d2fe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Campamento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ecda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partamento de Ingeniería de Mi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ultad de Ciencias Físicas y Matemát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logo-depto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1047960" cy="1019160"/>
          </a:xfrm>
          <a:prstGeom prst="rect">
            <a:avLst/>
          </a:prstGeom>
          <a:ln w="0">
            <a:noFill/>
          </a:ln>
        </p:spPr>
      </p:pic>
      <p:pic>
        <p:nvPicPr>
          <p:cNvPr id="139" name="logo-uch" descr=""/>
          <p:cNvPicPr/>
          <p:nvPr/>
        </p:nvPicPr>
        <p:blipFill>
          <a:blip r:embed="rId2"/>
          <a:stretch/>
        </p:blipFill>
        <p:spPr>
          <a:xfrm>
            <a:off x="8001000" y="533520"/>
            <a:ext cx="533520" cy="109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ceddd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Black"/>
              </a:rPr>
              <a:t>Stu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vil Mining Engineers (12 semeste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80 students (over 3,5 yea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aster on Engineering Sciences Extractive Metallur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10 stud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aster on Mining Engine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w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ploma on Mineral Economics (with Curtin Univers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c5a8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átedra Barrick - Placer Dom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 Medio Ambiente en Minerí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Objetivo general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 establecer un grupo académico multidisciplinario cuya actividad fundamental sea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enseñar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investigar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difundir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la temática propia de las relaciones entre los procesos mineros y metalúrgicos y el medio ambien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l establecimiento de esta cátedra se enmarca dentro del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rograma de Modernización de la Enseñanza de la Ingeniería de Minas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que la Universidad de Chile está llevando adelante en estrecha colaboración con la industria minera chile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c5a8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áreas temát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Formación de pregr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Formación de postgrado y postítu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Investig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xten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des académ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c5a8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Líneas de investig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Caraterización y manejo de residuos mineros y metalúrg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LCA (Análisis de ciclo de vida)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c5a8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Transferencia y extens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NAMA: elaboración del manual de aplicación de la norma de emisión de arsén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Ministerio de Minería: metodología para la estimación de costo de planes de cierre y abandono de faenas mine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undición de cobre: estimación de las emisiones fugitivas de dióxido de azuf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ivisión Andina CODELCO: análisis geoquímico de tranques de rel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d2fe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Quelques chiff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cochileco.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consejominero.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minmineria.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d2fe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pper consump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by geographical are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33520" y="1295280"/>
          <a:ext cx="8443800" cy="562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95280"/>
                    <a:ext cx="8443800" cy="56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5791320" y="5105520"/>
            <a:ext cx="2743200" cy="1193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rld Copper Consumption in 1999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4,1 Millions of Tons de Cop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d2fe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ine Copper Produc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(Occide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35080" y="1003320"/>
            <a:ext cx="8813520" cy="60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d2fe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Black"/>
              </a:rPr>
              <a:t>Chilean Copper p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d2fe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chile" descr=""/>
          <p:cNvPicPr/>
          <p:nvPr/>
        </p:nvPicPr>
        <p:blipFill>
          <a:blip r:embed="rId1"/>
          <a:stretch/>
        </p:blipFill>
        <p:spPr>
          <a:xfrm>
            <a:off x="2971800" y="0"/>
            <a:ext cx="276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d2fe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mapa" descr=""/>
          <p:cNvPicPr/>
          <p:nvPr/>
        </p:nvPicPr>
        <p:blipFill>
          <a:blip r:embed="rId1"/>
          <a:stretch/>
        </p:blipFill>
        <p:spPr>
          <a:xfrm>
            <a:off x="1722600" y="-838080"/>
            <a:ext cx="5978520" cy="81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d2fe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pper pric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1996-2000 (c/l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27160" y="838080"/>
            <a:ext cx="8713800" cy="59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3T21:52:49Z</dcterms:created>
  <dc:creator>Jacques Wiertz</dc:creator>
  <dc:description/>
  <dc:language>en-US</dc:language>
  <cp:lastModifiedBy>Ingrid Rosas</cp:lastModifiedBy>
  <dcterms:modified xsi:type="dcterms:W3CDTF">2005-07-07T13:23:46Z</dcterms:modified>
  <cp:revision>17</cp:revision>
  <dc:subject/>
  <dc:title>Industrie Minière Chilienne</dc:title>
</cp:coreProperties>
</file>