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6116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EA83-978D-41B4-BD6B-4A0F7A442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D023-EB9D-4696-9B58-B9DECCC55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8811-AEB4-4AFE-938A-D15721CAD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7D25-EE43-4786-9499-4938FC1B2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D201-5862-41C3-98BB-0B9A7C38F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E363-3A67-4149-A253-376DF2620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30C2-5E7E-4497-959E-1B283B2CF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A3B2-5842-4675-8412-BA4CD9148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10A3-5470-4AAD-A056-F1D86944A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0386-D65E-47B1-AD3E-A2E42C3F8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331E-33B5-414E-BBEA-7DD0902B7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A414-CFBB-4A2B-97FE-D73C1E673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2E7E0-2B29-463E-B6E6-6FBDB09C03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8101080" cy="6165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619280" y="26028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Restricción V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5280" y="1219320"/>
            <a:ext cx="17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stas por sent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r ar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4T14:39:27Z</dcterms:created>
  <dc:creator>cc</dc:creator>
  <dc:description/>
  <dc:language>en-US</dc:language>
  <cp:lastModifiedBy>Cristián Cortés</cp:lastModifiedBy>
  <dcterms:modified xsi:type="dcterms:W3CDTF">2004-09-09T18:48:39Z</dcterms:modified>
  <cp:revision>5</cp:revision>
  <dc:subject/>
  <dc:title>Presentación de PowerPoint</dc:title>
</cp:coreProperties>
</file>