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0F4A-1249-4131-B8B4-8CF7BE98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3092-B15F-48AF-943C-5E368E62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5636-1F6A-4D3D-B0DD-584CB6CA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631D-E76A-4220-820F-FDE29834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EDB4-75EC-4681-BB3A-371B8B1D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8F2C-1528-4C85-AE56-EBAB60EF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2CCE-5B64-4D32-AC28-2B522083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E6A0-5675-4D47-A654-386AF254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254-50E7-41A1-987E-5898DF4E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4422-FE9D-48C2-AEDE-B4626CF6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F0D5-50CD-4454-83E3-321E4AC5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0387-0B95-43BA-83E2-21FFCAB5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5C3B-2A42-4E40-8AAE-527BC31AC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1160"/>
            <a:ext cx="7162560" cy="6832440"/>
            <a:chOff x="990720" y="11160"/>
            <a:chExt cx="7162560" cy="6832440"/>
          </a:xfrm>
        </p:grpSpPr>
        <p:pic>
          <p:nvPicPr>
            <p:cNvPr id="42" name="Zonas%20y%20red%20vial" descr=""/>
            <p:cNvPicPr/>
            <p:nvPr/>
          </p:nvPicPr>
          <p:blipFill>
            <a:blip r:embed="rId1"/>
            <a:stretch/>
          </p:blipFill>
          <p:spPr>
            <a:xfrm>
              <a:off x="990720" y="11160"/>
              <a:ext cx="7162560" cy="68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038480" y="28036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305240" y="276876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95680" y="2870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1784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89240" y="30481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18120" y="2286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92560" y="42926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35360" y="4749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11760" y="464832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54280" y="3797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22640" y="303516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67160" y="17654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68960" y="1955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84600" y="3174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35640" y="23875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40560" y="3098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43680" y="51436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57880" y="51944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51814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32120" y="42418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08440" y="31370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54480" y="1511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20:31:06Z</dcterms:created>
  <dc:creator>SECTRA</dc:creator>
  <dc:description/>
  <dc:language>en-US</dc:language>
  <cp:lastModifiedBy>SECTRA</cp:lastModifiedBy>
  <dcterms:modified xsi:type="dcterms:W3CDTF">2003-04-09T20:54:34Z</dcterms:modified>
  <cp:revision>3</cp:revision>
  <dc:subject/>
  <dc:title>Presentación de PowerPoint</dc:title>
</cp:coreProperties>
</file>