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296-5A1A-456A-8A65-BEA8EB6E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36B-7F47-485E-9252-A02955B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ACE-0014-4A20-B23B-4149D79A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A52-8D94-4A27-8DB7-F32E64CE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4517-C1F0-4CB3-B551-79E303AE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72A-CD04-4EB7-8855-7925A1BD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6B8C-2AF4-4B60-966B-9AE0F1C7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E4E8-A2C1-44BE-BD61-FA6C35A4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BD2F-C021-4FD5-A44F-54683999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D1EE-2084-47E3-832F-A966A792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CBC-0216-4DEE-BCEC-CBA02EB4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F67B-3157-43D1-9363-39BA9D48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7A36-4DCB-4B8E-B348-CDA73F56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7200-6EDC-4472-8171-58BE9A9A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49C-D9D7-4372-8B2A-1792A74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0BEA-7DE1-46F0-B74B-6690C8DA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EED1-198E-4094-BB29-0B8462B3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70A-9926-4F15-A4A2-13903DE6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33E-0872-42B0-B1C5-F717CA1A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65C2-0783-4B88-8DD4-03307605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8FC-79E5-436C-BCD9-DBC9D9CB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D2BC-9299-4DC2-B238-73F15380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3917-1E7F-4D0B-870B-37D0F0D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62E-B195-42A1-A9BB-8897332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6524-1903-4A1F-AD8E-2C499EDCD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D46-D54A-43A3-8F7A-7E2CBB5E4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ictor A. Ramiro 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ramiro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Victor Ramiro</cp:lastModifiedBy>
  <cp:lastPrinted>1904-01-01T00:00:00Z</cp:lastPrinted>
  <dcterms:modified xsi:type="dcterms:W3CDTF">2004-08-24T03:14:43Z</dcterms:modified>
  <cp:revision>26</cp:revision>
  <dc:subject/>
  <dc:title>Servicios de Internet</dc:title>
</cp:coreProperties>
</file>