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AE7-9A56-4074-807D-014E7DC0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1CCA-9EAD-4D22-A334-5EAF397A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39F2-062F-46D4-9388-6F821DB0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B13-8E81-45B4-A879-926EBE5C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64CB-5746-4B14-9A51-6BC97788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8CB4-D5F9-48E6-A7AF-15C16763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A3FD-FA0F-4718-8112-9F29AB3A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62E4-BCBF-41A6-BBD7-94DF12E6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C4B5-C329-456C-87E9-17DE56E8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A234-9F77-4AEE-B15D-3EBCBCF7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5339-F773-42D5-A7E5-7064AD18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290-F67F-41DF-93BF-C6E9E895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6E9B-7737-4E86-B50B-A40BA0A4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BF93-481D-419E-A648-6D25CB9F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6654-9C34-4789-86DC-BF736F49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C4BE-F276-462B-A09D-C7B03238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9665-74E2-49B3-A1FB-072BBA71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DF4-9297-42F3-837F-F3BD4920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EAB-A889-4ADC-94CE-BE2558B8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A2B-DC43-4B39-8D2E-1ADD136B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2FF-A343-4E7A-B329-35232B43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D42-D46B-4CB1-A4D2-6E3C28AB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546-2F38-44D7-AA0D-7B75DDB0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E87-00E6-4AEE-9F0E-30656EF1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C7BC-E3E6-4AC1-A429-4E1D3AC9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42EE-067C-4870-8A8D-9886AE82F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hyperlink" Target="http://www.w3.org/" TargetMode="External"/><Relationship Id="rId3" Type="http://schemas.openxmlformats.org/officeDocument/2006/relationships/hyperlink" Target="http://www.w3.org/" TargetMode="External"/><Relationship Id="rId4" Type="http://schemas.openxmlformats.org/officeDocument/2006/relationships/hyperlink" Target="http://www.w3.org/" TargetMode="External"/><Relationship Id="rId5" Type="http://schemas.openxmlformats.org/officeDocument/2006/relationships/hyperlink" Target="http://www.w3.org/" TargetMode="External"/><Relationship Id="rId6" Type="http://schemas.openxmlformats.org/officeDocument/2006/relationships/hyperlink" Target="http://www.php.net/" TargetMode="External"/><Relationship Id="rId7" Type="http://schemas.openxmlformats.org/officeDocument/2006/relationships/hyperlink" Target="http://www.php.net/" TargetMode="External"/><Relationship Id="rId8" Type="http://schemas.openxmlformats.org/officeDocument/2006/relationships/hyperlink" Target="http://www.php.net/" TargetMode="External"/><Relationship Id="rId9" Type="http://schemas.openxmlformats.org/officeDocument/2006/relationships/hyperlink" Target="http://www.php.net/" TargetMode="External"/><Relationship Id="rId10" Type="http://schemas.openxmlformats.org/officeDocument/2006/relationships/hyperlink" Target="http://www.php.net/" TargetMode="External"/><Relationship Id="rId11" Type="http://schemas.openxmlformats.org/officeDocument/2006/relationships/hyperlink" Target="http://www.php.net/" TargetMode="External"/><Relationship Id="rId12" Type="http://schemas.openxmlformats.org/officeDocument/2006/relationships/hyperlink" Target="http://www.php.net/" TargetMode="External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29000" y="2819520"/>
            <a:ext cx="50292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Aplicaciones web y 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Victor A. Ramiro 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hicago"/>
              </a:rPr>
              <a:t>vramiro@ing.uchile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guía practica para el  usuario Editorial Universit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cionario de Internet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hristian Crumlish, Ed MacGraw-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4"/>
              </a:rPr>
              <a:t>.w3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5"/>
              </a:rPr>
              <a:t>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6"/>
              </a:rPr>
              <a:t>htt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7"/>
              </a:rPr>
              <a:t>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8"/>
              </a:rPr>
              <a:t>www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9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0"/>
              </a:rPr>
              <a:t>php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1"/>
              </a:rPr>
              <a:t>.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Arial"/>
                <a:hlinkClick r:id="rId12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Red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d: Grupo de computadores u otros  dispositivos, conectados por un canal  de comunicación, que hace posible el  uso compartido de archivos y  recursos entre los usu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net, Intranet, LAN,  W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Cliente/Servido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ciones que se ejecutan bajo el  soporte físico y lógico de una red.  Constan de dos part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Aplicación Residente en el  computador “usuario”, que ocupa  servicios del Servi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Aplicación que “Ofrece”  servicios a la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Ejemplos C/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Web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nternet Explorer, Netscape, Oper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Apache, Jackarta, I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Corre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Outlook Express, Eudora, Pin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Sendmail, Ex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Más ejemplo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Noticia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tin, 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ftp, WSFTP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: wuftpd, ProFTP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RC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: irc, Mirc, Bitch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vidor de Im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Servicio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b (www) !=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dor: permite alojar en su disco  duro las paginas web del Usuario.  Luego ofrece mediante un nombre  (www.foo.bar) la pagina web a los  cli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iente: Típico navegador que  mediante un nombre identifica a una  pagina en particu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aginas we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HTML para construir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Universitarias, Estatales,  Empresas Privadas, Pers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Web =&gt; Mucha info “Grati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áginas Web == Panacea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Problemas del HTM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áginas Está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co intercambio de información del  Cliente al Serv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 de Dinamismo para crear  apl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Arial"/>
              </a:rPr>
              <a:t>Nuevas Solucion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s de Programación que  modifican el contenido de una pagina  web (html) dinámicamente,  dependiendo de parámetros  específicos del 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l, CGI, ASP, PHP, Servlets, 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sotros aprenderemos 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5:51:01Z</dcterms:created>
  <dc:creator>Victor Ramiro</dc:creator>
  <dc:description/>
  <dc:language>en-US</dc:language>
  <cp:lastModifiedBy>Victor Ramiro</cp:lastModifiedBy>
  <cp:lastPrinted>1904-01-01T00:00:00Z</cp:lastPrinted>
  <dcterms:modified xsi:type="dcterms:W3CDTF">2004-08-24T03:14:43Z</dcterms:modified>
  <cp:revision>26</cp:revision>
  <dc:subject/>
  <dc:title>Servicios de Internet</dc:title>
</cp:coreProperties>
</file>