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2D11-FCE7-44DE-A332-8A5EEC751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5DD8-278F-49A9-9119-665B86608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862B-731F-49E1-A963-4ABB05C4F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2455-759A-4083-A429-3A5A13DA8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E33DD-6A09-410F-8A6C-03F54F896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D1BCE-6E21-43E6-89E1-0CEB36EEA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C63A0-2F17-4054-83D1-4992518F5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FF4A9-DE71-40A6-AAE0-1E5105563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F18EC-43E5-46C6-8F1F-545460029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40BA1-9D10-4A8F-BCF4-BF045C316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D67BC-5915-4D8F-85FF-2E7580DC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EF0E-267E-4F90-A5BA-B4731EB2F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E5CCF-E5D0-4400-A3E0-7D3F3213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3317D-1702-4311-8E4B-5580C7B2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55ABE-7B4F-4965-861A-24453B9A8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B6FF-8395-4EA8-9EE9-D8C7ACFFD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98144-D4BB-43E2-B0D9-94A960207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8098-5BFB-4EC5-9463-2FC3EDE37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9DDE-4979-47FF-95F8-AA81E529C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ABDF-8882-412F-AA51-C41A46B5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2053-32B7-4F58-9973-F7A9F7C4C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B19E-A458-4332-AB6A-8A740347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B812-E373-4F55-9512-B31702F9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7951-7AA1-416B-95AB-B6463436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32A54-4664-4743-A73C-7F8E4CBE9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447560"/>
            <a:ext cx="7678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03D01-86FD-43CE-8D5A-864FFEE538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w3.org/" TargetMode="External"/><Relationship Id="rId2" Type="http://schemas.openxmlformats.org/officeDocument/2006/relationships/hyperlink" Target="http://www.w3.org/" TargetMode="External"/><Relationship Id="rId3" Type="http://schemas.openxmlformats.org/officeDocument/2006/relationships/hyperlink" Target="http://www.w3.org/" TargetMode="External"/><Relationship Id="rId4" Type="http://schemas.openxmlformats.org/officeDocument/2006/relationships/hyperlink" Target="http://www.w3.org/" TargetMode="External"/><Relationship Id="rId5" Type="http://schemas.openxmlformats.org/officeDocument/2006/relationships/hyperlink" Target="http://www.w3.org/" TargetMode="External"/><Relationship Id="rId6" Type="http://schemas.openxmlformats.org/officeDocument/2006/relationships/hyperlink" Target="http://www.php.net/" TargetMode="External"/><Relationship Id="rId7" Type="http://schemas.openxmlformats.org/officeDocument/2006/relationships/hyperlink" Target="http://www.php.net/" TargetMode="External"/><Relationship Id="rId8" Type="http://schemas.openxmlformats.org/officeDocument/2006/relationships/hyperlink" Target="http://www.php.net/" TargetMode="External"/><Relationship Id="rId9" Type="http://schemas.openxmlformats.org/officeDocument/2006/relationships/hyperlink" Target="http://www.php.net/" TargetMode="External"/><Relationship Id="rId10" Type="http://schemas.openxmlformats.org/officeDocument/2006/relationships/hyperlink" Target="http://www.php.net/" TargetMode="External"/><Relationship Id="rId11" Type="http://schemas.openxmlformats.org/officeDocument/2006/relationships/hyperlink" Target="http://www.php.net/" TargetMode="External"/><Relationship Id="rId12" Type="http://schemas.openxmlformats.org/officeDocument/2006/relationships/hyperlink" Target="http://www.php.net/" TargetMode="External"/><Relationship Id="rId1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447560"/>
            <a:ext cx="7678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Arial"/>
              </a:rPr>
              <a:t>Interne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429000" y="2819520"/>
            <a:ext cx="5029200" cy="31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6699"/>
                </a:solidFill>
                <a:latin typeface="Arial"/>
              </a:rPr>
              <a:t>Aplicaciones web y m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hicago"/>
              </a:rPr>
              <a:t>Victor A. Ramiro 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hicago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Chicago"/>
              </a:rPr>
              <a:t>vramiro@ing.uchile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Arial"/>
              </a:rPr>
              <a:t>Bibliografía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ternet, guía practica para el  usuario Editorial Universitar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ccionario de Internet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hristian Crumlish, Ed MacGraw-H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1"/>
              </a:rPr>
              <a:t>http</a:t>
            </a: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2"/>
              </a:rPr>
              <a:t>://</a:t>
            </a: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3"/>
              </a:rPr>
              <a:t>www</a:t>
            </a: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4"/>
              </a:rPr>
              <a:t>.w3.</a:t>
            </a: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5"/>
              </a:rPr>
              <a:t>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6"/>
              </a:rPr>
              <a:t>http</a:t>
            </a: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7"/>
              </a:rPr>
              <a:t>://</a:t>
            </a: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8"/>
              </a:rPr>
              <a:t>www</a:t>
            </a: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9"/>
              </a:rPr>
              <a:t>.</a:t>
            </a: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10"/>
              </a:rPr>
              <a:t>php</a:t>
            </a: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11"/>
              </a:rPr>
              <a:t>.</a:t>
            </a: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12"/>
              </a:rPr>
              <a:t>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Arial"/>
              </a:rPr>
              <a:t>Red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d: Grupo de computadores u otros  dispositivos, conectados por un canal  de comunicación, que hace posible el  uso compartido de archivos y  recursos entre los usuari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emplos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ternet, Intranet, LAN,  W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Arial"/>
              </a:rPr>
              <a:t>Cliente/Servidor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plicaciones que se ejecutan bajo el  soporte físico y lógico de una red.  Constan de dos part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liente: Aplicación Residente en el  computador “usuario”, que ocupa  servicios del Servid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rvidor: Aplicación que “Ofrece”  servicios a la 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Arial"/>
              </a:rPr>
              <a:t>Ejemplos C/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rvidor Web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: Internet Explorer, Netscape, Opera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: Apache, Jackarta, I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rvidor de Correo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: Outlook Express, Eudora, Pine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: Sendmail, Exi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Arial"/>
              </a:rPr>
              <a:t>Más ejemplo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rvidor de Noticias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: tin, p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rvidor de FTP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: ftp, WSFTP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: wuftpd, ProFTP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rvidor de IRC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: irc, Mirc, Bitch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rvidor de Impre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Arial"/>
              </a:rPr>
              <a:t>Servicios Web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eb (www) != Intern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rvidor: permite alojar en su disco  duro las paginas web del Usuario.  Luego ofrece mediante un nombre  (www.foo.bar) la pagina web a los  clien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liente: Típico navegador que  mediante un nombre identifica a una  pagina en particul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Arial"/>
              </a:rPr>
              <a:t>Paginas web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nguaje HTML para construir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áginas Universitarias, Estatales,  Empresas Privadas, Pers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áginas Web =&gt; Mucha info “Gratis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Páginas Web == Panacea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Arial"/>
              </a:rPr>
              <a:t>Problemas del HTML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áginas Estátic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co intercambio de información del  Cliente al Servi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ecesidad de Dinamismo para crear  aplicacio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Arial"/>
              </a:rPr>
              <a:t>Nuevas Solucion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nguajes de Programación que  modifican el contenido de una pagina  web (html) dinámicamente,  dependiendo de parámetros  específicos del cl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rl, CGI, ASP, PHP, Servlets, J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sotros aprenderemos PH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15:51:01Z</dcterms:created>
  <dc:creator>Victor Ramiro</dc:creator>
  <dc:description/>
  <dc:language>en-US</dc:language>
  <cp:lastModifiedBy>Victor Ramiro</cp:lastModifiedBy>
  <cp:lastPrinted>1904-01-01T00:00:00Z</cp:lastPrinted>
  <dcterms:modified xsi:type="dcterms:W3CDTF">2004-08-24T03:14:43Z</dcterms:modified>
  <cp:revision>26</cp:revision>
  <dc:subject/>
  <dc:title>Servicios de Internet</dc:title>
</cp:coreProperties>
</file>