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10D-EBFD-43BD-9FEB-CEFD588A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485-D922-4CD0-BF79-AF21F19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016-E560-49D7-A0C4-CF73DC40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6C4-6B92-48ED-A5DE-8209EFB7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242-DDCC-4662-A896-9CC7AB90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F7F1-F0C8-4403-9532-DD59936E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5BE6-85F2-4B14-A9CD-EC3CB46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E637-F946-4F72-9335-179A0E95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615-F1BA-4DDC-A03A-246C784A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508F-A1D0-4EB2-9CC6-62D66A9E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81AD-2A33-4070-AF28-8F21434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A7B-59A0-4F74-917E-9DE07C4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855A-C3BB-449E-8CE9-CE2D075A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35DB-7D45-4784-8173-C0C208E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E281-48F9-434B-BFB6-6D73C25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E86-1FEB-4B88-A75E-80C41F84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107-6F85-4903-B486-EAB45A38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351-85BB-4988-B96B-0D33DF7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044-696F-4844-AC14-D1823018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D41-DF5D-49B9-A822-6C49A4A8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7A1-6CA3-4EBD-84A6-CF1E888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9C6-A7D8-4D2E-8C05-0C7FFEA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BEF-5E22-47D2-A975-FC6BE30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3F3-EF17-43AF-86EB-87695C4C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E917-AF74-4ED0-8F06-8ABF7BCFF594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41D7-1B83-4126-B9C6-89A555DB111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Teorema de Bernoulli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stablece el principio de conservación de la energi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La altura de carga total es igual a la suma de las alturas de: carga estática = altura de pres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cinética = altura de veloc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de elevación = altura geodésic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sto que V = Q /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órmula anterior se puede expresar co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Q2 / A3 [mm c.a. o kg / m2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EFICIENTE DE RESISTENCIA AERODINA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ía de acuerdo al número de Reynolds, pero se hace insignificante a medida que Re cre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en las labores mineras el movimiento del aire es turbulento con un alto Re,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considera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puede determinar en terreno o por medio de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 1,2  corregido de acuerdo al peso específico del lugar.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eficiente de resistencia aerodinámica para el peso específico </a:t>
            </a: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cálculo 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sando la experimentación en terreno se hace por la fórmul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x Lf x P x 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 / 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ón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Hf*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Lf*p*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parámetros que intervienen pueden ser determinados en terr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 se trata de un proyecto donde no hay datos de terreno, se usan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br>
              <a:rPr sz="3200"/>
            </a:b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Valores de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*10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-5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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= 1,2 Kgr/m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523880"/>
          <a:ext cx="7696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ISTENCIA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s son de origen local, producidas por turbulencias, remolinos, frenadas del aire al enfrentar diversos accidentes dentro del circu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accidentes son, cambios de dirección, entradas, contracciones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dependen de la velocidad y del peso específic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x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 en mm de c.a.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local, que se determina de tab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método más adecuado para calcular estas pérd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 se asimilan a las pérdidas por fricción a través de los largos equivalentes, o sea se trata de determinar a que largo físico de una galería equivale la pérdida por cho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igualan las pérdidas por fricción con las pérdidas por cho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Hx,  luego:  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A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sumiendo el largo Lf el valor de largo equivalente 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= 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A )/( 2g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ción se adjuntan tablas de Le para pérdidas por choque más comunes y diferentes tamaños de galerí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s valores se obtuvieron para aire normal, y un coeficiente de resistencia aerodinámica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obtener datos de acuerdo a u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terminado los valores deben ser multiplicados por 0,00158*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543480"/>
            <a:ext cx="4648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87480"/>
            <a:ext cx="64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06720"/>
            <a:ext cx="57909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019240"/>
            <a:ext cx="6095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106720"/>
            <a:ext cx="647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ht = hs + hc + hz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reemplazando las alturas de carga en función de las presiones en un lugar 1 del movimiento del fluido se tiene: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2260440"/>
            <a:ext cx="6553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55120" y="1630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4480" y="1590840"/>
            <a:ext cx="400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órmula fundamental de ventilació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240" y="1951200"/>
            <a:ext cx="316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derando el reemplazo d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8680" y="1951200"/>
            <a:ext cx="2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omic Sans MS"/>
              </a:rPr>
              <a:t>H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1951200"/>
            <a:ext cx="25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r el largo equivalent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77480" y="1951200"/>
            <a:ext cx="25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1600" y="2255760"/>
            <a:ext cx="586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endremos, entonces, la fórmula para la caída de presión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2871720"/>
            <a:ext cx="267480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9080" y="289404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1920" y="2868480"/>
            <a:ext cx="183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* (Lf + Le) * P * 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720" y="2849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1800" y="28717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1800" y="3038400"/>
            <a:ext cx="51912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000" y="30351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1800" y="33433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717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038400"/>
            <a:ext cx="281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9520" y="3035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3433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080" y="3205080"/>
            <a:ext cx="2674800" cy="3081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15840" y="320508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1200" y="31860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6880" y="28717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6880" y="3038400"/>
            <a:ext cx="2594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1800" y="3035160"/>
            <a:ext cx="21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; (mm. de c.a. o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080" y="3014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840" y="3035160"/>
            <a:ext cx="66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6880" y="33433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2080" y="3176640"/>
            <a:ext cx="26748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080" y="41212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dond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0760" y="442584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3080" y="4425840"/>
            <a:ext cx="251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caída de presión,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44038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3720" y="475776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2440" y="4734000"/>
            <a:ext cx="41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oeficiente de resistencia aerodinám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4040" y="473400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, Kg* 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816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0480" y="4734000"/>
            <a:ext cx="28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4112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53440" y="473400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0080" y="5038560"/>
            <a:ext cx="18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Lf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15760" y="5038560"/>
            <a:ext cx="1671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largo f¡sic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1480" y="5346720"/>
            <a:ext cx="23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9920" y="534672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largo equivalente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7600" y="5651640"/>
            <a:ext cx="13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1280" y="56516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7760" y="5651640"/>
            <a:ext cx="70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rea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840" y="56293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5800" y="565164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7440" y="59562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2520" y="5956200"/>
            <a:ext cx="157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perímetr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9040" y="6264360"/>
            <a:ext cx="16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6264360"/>
            <a:ext cx="122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audal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6242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8960" y="6264360"/>
            <a:ext cx="43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/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1432080"/>
            <a:ext cx="6934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143080"/>
            <a:ext cx="7696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754280"/>
            <a:ext cx="6933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1752480"/>
          <a:ext cx="6933960" cy="43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93396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eorema de Bernoulli expresa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 movimiento de un fluido en un medio ideal, las sumas de las alturas permanecen constantes. Al disminuir una las otras aumentar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un medio ideal horizontal, las alturas geodésicas no cambian, pero si varía el diámetro del medio, variará la altura cinética y la altura de presión variará en la misma magnitud pero con sentido contr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alidad el fluido se moverá en un medio real, el que le opondrá resistencia al mov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tanto la ecuación de Bernoulli se transforma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s1 + hc1+ hz1 = hs2 + hc2 + hz2 +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que H es la pérdida de carga o pérdida de presión, producida a causa del roce con las paredes del medio real donde se mueve y a causa de las singularidades que encuentra en su recorrido por las turbulencias que ellas provoc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ocer H permite entregar la energía equivalente para permitir el movimient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ndo que las presiones geodésicas cambian según la estructura del yacimiento, del sistema de explotación usado y de las posibilidades de desarroll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erí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ventilación, poco aportan para ayudar 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resiones cinéticas o de velocidad dependen del tamaño de las galerías por donde se mueve el aire (V=Q/A), por lo que no pueden entregar presión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s formas de energía podrán usarse para vencer parte del H dependiendo de lo que se proyecte con el circuito de ventilación respecto a entradas y salidas y tamaño de galerí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ego es la presión estática la que debe aumentarse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general H = hs1 - hs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da consideración que las presiones de velocidad y los términos geodésicos se anulan mutu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empre un fluido se va a mover desde un punto de mayor presión a otro de menor presión y su diferencia será 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IDA DE PR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más importante determinar la diferencia de presión entre dos puntos que la determinación de la presión en el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lujo de aire se origina porque existe una diferencia de presión entre dos puntos del sistema y para poder lograr esta diferencia es necesario agregar energía a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energía es consumida en superar las resistencias que las labores mineras le ponen al paso de una cantidad determinada de ai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s resistencias originan una caída o pérdida de presión, llamada H y que está dada en mm de columna de agua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de presión están formadas por dos component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érdidas por fricción y pérdidas por cho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 = Hf + H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fric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representan las pérdidas de presión en el flujo lineal a lo largo del ducto y es producida por el roce del aire con las paredes del 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choqu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on de origen local, producidas por accidentes como cambio de área, bifurcaciones, uniones, obstrucciones, cambios de direcció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DE RE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diferencia de presión entre dos áreas de un ducto está dada por la ecuación de Atkin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Lf * p * V2 / A  [mm c.a. o kg / m2] don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f = larg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= área de la labor en 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 = perímetr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 = velocidad del aire en m / s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aerodinámica en kg seg2/m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f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8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= coeficiente de ro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peso específico del aire en kg / 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= aceleración de gravedad m/seg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0:53:14Z</dcterms:created>
  <dc:creator>Gustavo Reyes B.</dc:creator>
  <dc:description/>
  <dc:language>en-US</dc:language>
  <cp:lastModifiedBy>Minas</cp:lastModifiedBy>
  <dcterms:modified xsi:type="dcterms:W3CDTF">2002-08-16T23:43:46Z</dcterms:modified>
  <cp:revision>20</cp:revision>
  <dc:subject/>
  <dc:title>RESISTENCIA AL MOVIMIENTO DEL AIRE</dc:title>
</cp:coreProperties>
</file>