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B061-2BA1-4123-A376-58101112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2F0-DE94-469A-8351-6D3C04E3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09D8-74B2-4F60-89D7-0093D83A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CC8F-63AD-4154-9F92-3E07A1A3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174D-F2F5-4EB7-AEEC-622D810D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A423-BBD2-4254-8FFC-3E829D89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AD77-33AC-4DE2-9904-66009912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FD04-64D9-481E-A718-922C71CD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DDAA-7F1F-42D7-9D50-CA7FC71F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4820-53FC-4CD8-BD59-459E7454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E7AD-0E97-4FB1-A541-B24AAC13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8817-449F-42C2-BCA8-362000AA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74B2-CDFA-4E93-A9CC-E4B54D33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E65E-9069-42FA-8FDC-291EED23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1B28-FD97-4A29-8889-191F288C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00B0-B060-4D6A-BA53-D54FE068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2A0B-B881-4299-8018-75D1E681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B07B-9045-467B-B93E-E7637F38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45C9-0E94-48A6-92A1-48D22B49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637C-E042-4F08-A019-C425C2A2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4285-015E-418F-97EA-DBDAC622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F212-52C9-4B1B-8BCF-F64F831F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C47-EB03-4BFF-B323-07ACC77C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A02-CE27-4434-9508-A2D17B54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5C6F-953B-4A3C-89EA-8598115EB1D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71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09A4-CBBB-4645-9C8A-A219DCBEA00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ámetros básic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l aire de las minas se asemeja a los gases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erfectos en cuanto a sus propiedad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Densidad: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cantidad de masa de aire contenida en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una unidad de volume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d = m / v = G / g x v  [kg seg 2 / m4]  dond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G = peso en kilogram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g = aceleración de la fuerza de gravedad en m / seg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 = masa en kg x seg2 / 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 = volumen en metros cúbico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a los efectos de las presiones usuales, el aire se considera no viscos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p / R x T , peso específico varía con la presión y la temperatur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 constante si el fluido es incompresib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 variable si el fluido es compresib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ariación de presión: Se debe a dos motivos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diferencia de cota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; en 100 m de variación de altura la variación de presión es de 130 mm de c.a. Si es de 1000 m la presión varía en 1.300 mm de c.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pérdidas de carga ;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son muy variables y dependen del tipo de ventiladores y del tipo de instalacion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variación de temperatura puede ser importante. Una variación de 20 °C puede significar una variación del peso específico de 7 %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l introducir aire en una mina va a aumentar su presión y temperatura. El aumento de estos dos parámetros hace que la variación del peso específico no sea considerabl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Una diferencia de cota menor a 200 metros, mantiene un peso específico constant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umedad del aire:  siempre contiene cierta   cantidad de agu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gún la forma como se calcula la cantidad de vapor de agua tenemos dos tipos de humeda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umedad absoluta: contenido de vapor de agua en gramos en un metro cúbico de air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ientras mayor es la temperatura del aire, puede contener mayor cantidad de vapor de agu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umedad relativa: es la relación del contenido de vapor de agua en gramos por metro cúbico con el máximo posible que pueda contener a una temperatura dada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jemplo: Si hay 10,4 gr/m3 de vapor de agua a una temperatura de 15 °C y a una presión normal de 760 mm de Hg, el contenido máximo de vapor de agua (en el punto de saturación) a esa temperatura es de 12,8 gr/m3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humedad relativa = (10,4 / 12,8) x 100 = 81 %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humedad relativa del aire se mide con el psicómetro y el higrómetr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ovimiento del ai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el aire se mueve lentamente las líneas de flujo que lo componen, no se mezclan entre sí y se mueven paralelament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te tipo de flujo es lamina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la velocidad del aire aumenta, las líneas de flujo comienzan a mezclarse entre si, formando un torbellino. Es un flujo turbulent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minería el movimiento del aire es turbulent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l movimientos de los fluidos se determina a     través del número de Reinol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e = D x V /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dond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D = dimensión fundamental del ducto en metr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 = velocidad del fluido en m / se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viscocidad cinemática en m2 / seg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Re &lt; 2.000 es flujo lamina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2.000 &lt; Re &lt; 4.000 es flujo intermedi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Re &gt; 4.000 es flujo turbulent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jemplo: si V = 1 m/seg, D = 2 m y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1,44 x 10 E-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2/seg a 15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e = 1 x 2 x 10E5 / 1,44 = 139.000 = flujo turbulent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edición de la presión en el interior de una min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edición de la velocidad del aire de una min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edición del caudal de aire en una min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queda de tare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Teorema de Bernoulli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tablece el principio de conservación de la energi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xpresando que la altura de carga total de un fluido que circula por cualquier sistema se mantendrá constante si no hay pérdidas por rozamientos, compresión, incorporación de otro fluido o pérdida de fluid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altura de carga total es igual a la suma de las alturas de: carga estática = altura de presió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arga cinética = altura de velocida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arga de elevación = altura geodésic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t = Hs + Hv + Hz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eemplazando las alturas de carga en función de las presiones en un lugar 1 del movimiento del fluido se tien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t = Ps1 + Pv1 + Pz1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onsiderando el movimiento del fluido dentro de un ducto donde se ha definido un punto 1 y determinamos otro punto 2, sin tener agregación ni pérdida de fluido en este trayecto, el teorema de Bernoulli indica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s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+ V12 / 2g + Z1 = Ps2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+ V22 / 2g + Z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s1 y Ps2 = presiones estáticas en puntos 1 y 2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1 y V2 = velocidad del fluido en puntos 1 y 2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densidad del air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g = aceleración de graveda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Z1 y Z2 = altura geodésica de los puntos 1 y 2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ámetros básic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Peso específico: peso G del aire en una unidad de volume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= G / v en kg/m3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l peso específico usado en ventilación de minas es 1,2 kg/m3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ste es el peso de 1 metro cúbico de aire, con la presión de 1 atmósfera a una temperatura de 15 °C y una humedad de 60 %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Indica cuantas veces un gas es más pesado o más liviano que el ai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ámetros básic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Volumen específico: es el volumen v expresado en metros cúbicos ocupado por un kilogramo de aire a una presión y temperatura dad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v = 1 / G m3 / k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Presión: se expresa en atmósferas absolut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Una atmósfera absoluta es la presión p0 = 1,0333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kg / cm2 de una columna de 760 mm de mercurio a 0°C y al nivel del ma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Con el cambio de altura y de temperatura, la presión va cambiando.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og p = log p0 - a / ( 18,04 - 0,667 t )  dond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0 = presión a nivel del mar de 760 mm de mercuri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  = altura sobre el nivel del mar en metr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   = presión en la altura a en mm de mercuri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t    = temperatura media del aire entre el nivel del mar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y el punto considerad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362320" y="3962520"/>
          <a:ext cx="4933800" cy="31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962520"/>
                    <a:ext cx="493380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Temperatura: se expresa en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-19872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 considera como temperatura normal 15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-19872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alor específico: cantidad de calor (en calorías) que se necesita para calentar 1 kg de gas de 0 a 1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-19872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a calentar G kilos de gas de la temperatura t1 a t2, se necesitan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W = G x c x ( t2 - t1 ) en que c = calor específic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 = 0,24 a presión constante en kcal / kg x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 = 0,17 a volumen constan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iscocidad: resistencia del aire a los esfuerzos tangencial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 utiliza en ventilación para una temperatura de 15 °C un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1,44 x 10 E-5 m2/seg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ES BASICAS DE LOS GASES ( recordatorio 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 de Boyle Mariott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temperatura constante p1/p2 = v1/v2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 de Gay Lussa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presión constante T1/T2 = v1/v2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volumen constante p1/p2 = T1/T2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on el aumento o disminución de la temperatura en un grado el volumen del gas aumenta o disminuye 1/273 de su volume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 demuestra que v2 = v1 x (1+ 0,00366 t)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combinación de las leyes de Boyle Mariotte y de Gay Lussac conduce a la “ecuación general de estado de los gases perfectos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 x v = R x T = cte en que R constante que depende de la clase de g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 = 29,27 para aire seco y 47,1 para vapor de agu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 de Dalton: la presión de una mezcla de gases y vapor de agua es igual a la suma de las presiones parciales que tendría cada gas por separad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p</a:t>
            </a:r>
            <a:r>
              <a:rPr b="1" lang="es-ES_tradnl" sz="1200" spc="-1" strike="noStrike">
                <a:solidFill>
                  <a:srgbClr val="ffffff"/>
                </a:solidFill>
                <a:latin typeface="Arial Black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eso específico del aire:  como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1/v y v = R x T/ 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or lo que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p/R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rigor el aire no es un gas perfecto. Es compresible y viscoso, pero en ventilación de minas se acerca mucho a un gas perfect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un gas real p x v/ T = R x Z en que Z es el factor de compresibilida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l factor de compresibilidad depende de la temperatura y de la presión del g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ventilación de minas exageradamente  se podría llegar a 1000 mm de c.a. equivalente a 0,1 kg/cm2, en cuyo caso el valor de Z sigue siendo 1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00:47:55Z</dcterms:created>
  <dc:creator>Gustavo Reyes B.</dc:creator>
  <dc:description/>
  <dc:language>en-US</dc:language>
  <cp:lastModifiedBy>Minas</cp:lastModifiedBy>
  <dcterms:modified xsi:type="dcterms:W3CDTF">2002-08-16T23:44:05Z</dcterms:modified>
  <cp:revision>19</cp:revision>
  <dc:subject/>
  <dc:title>PROPIEDADES FISICAS DEL AIRE</dc:title>
</cp:coreProperties>
</file>