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0D8-57E6-4D30-871B-F4B44FD8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8D7-B118-44A0-8632-45EF7132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41A-7D0F-420D-9EF3-1656B893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620-456E-485C-987D-E2C16867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9E11-7B49-4F58-8D7F-0047F650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D746-CC9F-4165-918F-608863E5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7CFB-CB37-4722-A3E1-298FE544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E2EF-2253-448E-A879-AAEEF31C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5DE2-5C41-4653-B5B9-C57220C6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18F7-7324-4B24-92E8-66EED17D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D7A1-2E94-4501-9F45-DF34A343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351-FBFA-41F7-95E1-98FCA1D5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A144-77FE-4F39-BAE2-7D161063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088B-2973-425A-9FAF-9C0B0F8D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E78C-E625-4694-9F74-247C9CE3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A405-5190-435A-81A8-A72533B2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3390-3DF3-46C8-BA3B-C21DE585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445-D193-4150-AAE7-2679FE7B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56E-B9E5-4022-8ABC-0FE27E08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5FE-1D93-4E55-92BE-8A022547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A57-C78B-4609-B04C-FF9F307D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ECD-93FC-4DCC-A9B5-D2C42DCF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B54-4E1D-48D7-8B18-6EB4FF38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4ED-6839-4BC1-AC2C-2585551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A87E-B809-42FB-B78D-FC8BFA07883E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EF20-F3F8-4546-AD4A-28B94F06EE63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RMULA FUNDAMENTAL DE VENTILAC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456000" y="56275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101520"/>
            <a:ext cx="3095640" cy="520560"/>
            <a:chOff x="179280" y="101520"/>
            <a:chExt cx="3095640" cy="520560"/>
          </a:xfrm>
        </p:grpSpPr>
        <p:sp>
          <p:nvSpPr>
            <p:cNvPr id="93" name=""/>
            <p:cNvSpPr/>
            <p:nvPr/>
          </p:nvSpPr>
          <p:spPr>
            <a:xfrm>
              <a:off x="1308240" y="101520"/>
              <a:ext cx="1249200" cy="50508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5880" y="222120"/>
              <a:ext cx="785880" cy="3049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720" y="222120"/>
              <a:ext cx="777960" cy="320760"/>
            </a:xfrm>
            <a:prstGeom prst="rightArrow">
              <a:avLst>
                <a:gd name="adj1" fmla="val 50000"/>
                <a:gd name="adj2" fmla="val 60634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280" y="1015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10000"/>
                  </a:solidFill>
                  <a:latin typeface="Arial"/>
                </a:rPr>
                <a:t>f </a:t>
              </a:r>
              <a:r>
                <a:rPr b="1" lang="es-CL" sz="2800" spc="-1" strike="noStrike">
                  <a:solidFill>
                    <a:srgbClr val="010000"/>
                  </a:solidFill>
                  <a:latin typeface="Arial"/>
                </a:rPr>
                <a:t>(                    )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76360" y="1690560"/>
            <a:ext cx="6337440" cy="2105280"/>
            <a:chOff x="1476360" y="1690560"/>
            <a:chExt cx="6337440" cy="2105280"/>
          </a:xfrm>
        </p:grpSpPr>
        <p:sp>
          <p:nvSpPr>
            <p:cNvPr id="98" name=""/>
            <p:cNvSpPr/>
            <p:nvPr/>
          </p:nvSpPr>
          <p:spPr>
            <a:xfrm>
              <a:off x="2332080" y="3203640"/>
              <a:ext cx="2674800" cy="14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29120" y="3792600"/>
              <a:ext cx="2036880" cy="32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0800" y="1690560"/>
              <a:ext cx="2500560" cy="157644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2066760"/>
              <a:ext cx="1571760" cy="9511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066760"/>
              <a:ext cx="1557360" cy="1001880"/>
            </a:xfrm>
            <a:prstGeom prst="rightArrow">
              <a:avLst>
                <a:gd name="adj1" fmla="val 50000"/>
                <a:gd name="adj2" fmla="val 38861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1700280"/>
              <a:ext cx="633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600" spc="-1" strike="noStrike">
                  <a:solidFill>
                    <a:srgbClr val="010000"/>
                  </a:solidFill>
                  <a:latin typeface="Arial"/>
                </a:rPr>
                <a:t>f(            )</a:t>
              </a:r>
              <a:endParaRPr b="0" lang="en-US" sz="9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4221000"/>
            <a:ext cx="431964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66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4963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diagrama H-Q la ventilación natural se representa por una línea horizont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916360" y="2491920"/>
            <a:ext cx="0" cy="352908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6021360"/>
            <a:ext cx="345600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56360" y="6021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24000" y="242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16360" y="4221000"/>
            <a:ext cx="223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48360" y="4221000"/>
            <a:ext cx="0" cy="1800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21040" y="3070080"/>
            <a:ext cx="3060720" cy="2936880"/>
          </a:xfrm>
          <a:custGeom>
            <a:avLst/>
            <a:gdLst/>
            <a:ahLst/>
            <a:rect l="l" t="t" r="r" b="b"/>
            <a:pathLst>
              <a:path w="1928" h="1850">
                <a:moveTo>
                  <a:pt x="0" y="1850"/>
                </a:moveTo>
                <a:cubicBezTo>
                  <a:pt x="40" y="1844"/>
                  <a:pt x="108" y="1842"/>
                  <a:pt x="144" y="1818"/>
                </a:cubicBezTo>
                <a:cubicBezTo>
                  <a:pt x="179" y="1795"/>
                  <a:pt x="205" y="1779"/>
                  <a:pt x="240" y="1762"/>
                </a:cubicBezTo>
                <a:cubicBezTo>
                  <a:pt x="268" y="1748"/>
                  <a:pt x="286" y="1723"/>
                  <a:pt x="312" y="1706"/>
                </a:cubicBezTo>
                <a:cubicBezTo>
                  <a:pt x="358" y="1637"/>
                  <a:pt x="297" y="1718"/>
                  <a:pt x="352" y="1674"/>
                </a:cubicBezTo>
                <a:cubicBezTo>
                  <a:pt x="404" y="1633"/>
                  <a:pt x="332" y="1662"/>
                  <a:pt x="392" y="1642"/>
                </a:cubicBezTo>
                <a:cubicBezTo>
                  <a:pt x="428" y="1606"/>
                  <a:pt x="511" y="1530"/>
                  <a:pt x="560" y="1514"/>
                </a:cubicBezTo>
                <a:cubicBezTo>
                  <a:pt x="589" y="1485"/>
                  <a:pt x="625" y="1463"/>
                  <a:pt x="664" y="1450"/>
                </a:cubicBezTo>
                <a:cubicBezTo>
                  <a:pt x="702" y="1394"/>
                  <a:pt x="798" y="1361"/>
                  <a:pt x="856" y="1322"/>
                </a:cubicBezTo>
                <a:cubicBezTo>
                  <a:pt x="887" y="1275"/>
                  <a:pt x="950" y="1269"/>
                  <a:pt x="992" y="1234"/>
                </a:cubicBezTo>
                <a:cubicBezTo>
                  <a:pt x="1001" y="1227"/>
                  <a:pt x="1007" y="1217"/>
                  <a:pt x="1016" y="1210"/>
                </a:cubicBezTo>
                <a:cubicBezTo>
                  <a:pt x="1031" y="1198"/>
                  <a:pt x="1064" y="1178"/>
                  <a:pt x="1064" y="1178"/>
                </a:cubicBezTo>
                <a:cubicBezTo>
                  <a:pt x="1080" y="1131"/>
                  <a:pt x="1124" y="1129"/>
                  <a:pt x="1152" y="1082"/>
                </a:cubicBezTo>
                <a:cubicBezTo>
                  <a:pt x="1181" y="1034"/>
                  <a:pt x="1163" y="1051"/>
                  <a:pt x="1200" y="1026"/>
                </a:cubicBezTo>
                <a:cubicBezTo>
                  <a:pt x="1278" y="909"/>
                  <a:pt x="1362" y="799"/>
                  <a:pt x="1440" y="682"/>
                </a:cubicBezTo>
                <a:cubicBezTo>
                  <a:pt x="1448" y="669"/>
                  <a:pt x="1463" y="662"/>
                  <a:pt x="1472" y="650"/>
                </a:cubicBezTo>
                <a:cubicBezTo>
                  <a:pt x="1527" y="576"/>
                  <a:pt x="1454" y="659"/>
                  <a:pt x="1496" y="586"/>
                </a:cubicBezTo>
                <a:cubicBezTo>
                  <a:pt x="1509" y="563"/>
                  <a:pt x="1544" y="522"/>
                  <a:pt x="1544" y="522"/>
                </a:cubicBezTo>
                <a:cubicBezTo>
                  <a:pt x="1561" y="472"/>
                  <a:pt x="1587" y="416"/>
                  <a:pt x="1632" y="386"/>
                </a:cubicBezTo>
                <a:cubicBezTo>
                  <a:pt x="1665" y="337"/>
                  <a:pt x="1685" y="284"/>
                  <a:pt x="1736" y="250"/>
                </a:cubicBezTo>
                <a:cubicBezTo>
                  <a:pt x="1761" y="212"/>
                  <a:pt x="1772" y="186"/>
                  <a:pt x="1808" y="162"/>
                </a:cubicBezTo>
                <a:cubicBezTo>
                  <a:pt x="1845" y="106"/>
                  <a:pt x="1824" y="125"/>
                  <a:pt x="1864" y="98"/>
                </a:cubicBezTo>
                <a:cubicBezTo>
                  <a:pt x="1880" y="74"/>
                  <a:pt x="1903" y="53"/>
                  <a:pt x="1912" y="26"/>
                </a:cubicBezTo>
                <a:cubicBezTo>
                  <a:pt x="1915" y="18"/>
                  <a:pt x="1915" y="9"/>
                  <a:pt x="1920" y="2"/>
                </a:cubicBezTo>
                <a:cubicBezTo>
                  <a:pt x="1921" y="0"/>
                  <a:pt x="1925" y="2"/>
                  <a:pt x="1928" y="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602136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Q </a:t>
            </a:r>
            <a:r>
              <a:rPr b="1" lang="es-CL" sz="1600" spc="-1" strike="noStrike" baseline="-25000">
                <a:solidFill>
                  <a:srgbClr val="01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68360" y="407664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H </a:t>
            </a:r>
            <a:r>
              <a:rPr b="1" lang="es-CL" sz="1600" spc="-1" strike="noStrike" baseline="-25000">
                <a:solidFill>
                  <a:srgbClr val="01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611280" y="692280"/>
            <a:ext cx="3816000" cy="3366000"/>
            <a:chOff x="611280" y="692280"/>
            <a:chExt cx="3816000" cy="3366000"/>
          </a:xfrm>
        </p:grpSpPr>
        <p:sp>
          <p:nvSpPr>
            <p:cNvPr id="258" name=""/>
            <p:cNvSpPr/>
            <p:nvPr/>
          </p:nvSpPr>
          <p:spPr>
            <a:xfrm flipV="1">
              <a:off x="1288440" y="752040"/>
              <a:ext cx="0" cy="2968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8440" y="3720960"/>
              <a:ext cx="295416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88440" y="1418760"/>
              <a:ext cx="14778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8440" y="2629800"/>
              <a:ext cx="18468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88440" y="3174840"/>
              <a:ext cx="21546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03960" y="1418760"/>
              <a:ext cx="707040" cy="1760040"/>
            </a:xfrm>
            <a:custGeom>
              <a:avLst/>
              <a:gdLst/>
              <a:ahLst/>
              <a:rect l="l" t="t" r="r" b="b"/>
              <a:pathLst>
                <a:path w="472" h="896">
                  <a:moveTo>
                    <a:pt x="0" y="0"/>
                  </a:moveTo>
                  <a:cubicBezTo>
                    <a:pt x="37" y="37"/>
                    <a:pt x="35" y="83"/>
                    <a:pt x="72" y="120"/>
                  </a:cubicBezTo>
                  <a:cubicBezTo>
                    <a:pt x="92" y="180"/>
                    <a:pt x="119" y="231"/>
                    <a:pt x="144" y="288"/>
                  </a:cubicBezTo>
                  <a:cubicBezTo>
                    <a:pt x="160" y="325"/>
                    <a:pt x="163" y="352"/>
                    <a:pt x="184" y="384"/>
                  </a:cubicBezTo>
                  <a:cubicBezTo>
                    <a:pt x="203" y="478"/>
                    <a:pt x="251" y="532"/>
                    <a:pt x="288" y="616"/>
                  </a:cubicBezTo>
                  <a:cubicBezTo>
                    <a:pt x="307" y="659"/>
                    <a:pt x="312" y="701"/>
                    <a:pt x="352" y="728"/>
                  </a:cubicBezTo>
                  <a:cubicBezTo>
                    <a:pt x="370" y="782"/>
                    <a:pt x="345" y="723"/>
                    <a:pt x="384" y="768"/>
                  </a:cubicBezTo>
                  <a:cubicBezTo>
                    <a:pt x="418" y="807"/>
                    <a:pt x="425" y="872"/>
                    <a:pt x="472" y="896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04400" y="1418760"/>
              <a:ext cx="762480" cy="1741320"/>
            </a:xfrm>
            <a:custGeom>
              <a:avLst/>
              <a:gdLst/>
              <a:ahLst/>
              <a:rect l="l" t="t" r="r" b="b"/>
              <a:pathLst>
                <a:path w="472" h="896">
                  <a:moveTo>
                    <a:pt x="0" y="0"/>
                  </a:moveTo>
                  <a:cubicBezTo>
                    <a:pt x="37" y="37"/>
                    <a:pt x="35" y="83"/>
                    <a:pt x="72" y="120"/>
                  </a:cubicBezTo>
                  <a:cubicBezTo>
                    <a:pt x="92" y="180"/>
                    <a:pt x="119" y="231"/>
                    <a:pt x="144" y="288"/>
                  </a:cubicBezTo>
                  <a:cubicBezTo>
                    <a:pt x="160" y="325"/>
                    <a:pt x="163" y="352"/>
                    <a:pt x="184" y="384"/>
                  </a:cubicBezTo>
                  <a:cubicBezTo>
                    <a:pt x="203" y="478"/>
                    <a:pt x="251" y="532"/>
                    <a:pt x="288" y="616"/>
                  </a:cubicBezTo>
                  <a:cubicBezTo>
                    <a:pt x="307" y="659"/>
                    <a:pt x="312" y="701"/>
                    <a:pt x="352" y="728"/>
                  </a:cubicBezTo>
                  <a:cubicBezTo>
                    <a:pt x="370" y="782"/>
                    <a:pt x="345" y="723"/>
                    <a:pt x="384" y="768"/>
                  </a:cubicBezTo>
                  <a:cubicBezTo>
                    <a:pt x="418" y="807"/>
                    <a:pt x="425" y="872"/>
                    <a:pt x="472" y="896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66240" y="1176840"/>
              <a:ext cx="49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(3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95800" y="3054600"/>
              <a:ext cx="36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6440" y="2569680"/>
              <a:ext cx="6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(4)´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43400" y="2994480"/>
              <a:ext cx="36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1280" y="1115640"/>
              <a:ext cx="4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1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7160" y="299448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1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7160" y="2569680"/>
              <a:ext cx="36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1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8240" y="1236960"/>
              <a:ext cx="43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10000"/>
                  </a:solidFill>
                  <a:latin typeface="Arial"/>
                </a:rPr>
                <a:t>(b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88440" y="2872800"/>
              <a:ext cx="18468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88440" y="1963440"/>
              <a:ext cx="1415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03960" y="1963440"/>
              <a:ext cx="698760" cy="1217880"/>
            </a:xfrm>
            <a:custGeom>
              <a:avLst/>
              <a:gdLst/>
              <a:ahLst/>
              <a:rect l="l" t="t" r="r" b="b"/>
              <a:pathLst>
                <a:path w="880" h="1072">
                  <a:moveTo>
                    <a:pt x="880" y="1072"/>
                  </a:moveTo>
                  <a:cubicBezTo>
                    <a:pt x="854" y="1055"/>
                    <a:pt x="842" y="1033"/>
                    <a:pt x="816" y="1016"/>
                  </a:cubicBezTo>
                  <a:cubicBezTo>
                    <a:pt x="811" y="1008"/>
                    <a:pt x="807" y="999"/>
                    <a:pt x="800" y="992"/>
                  </a:cubicBezTo>
                  <a:cubicBezTo>
                    <a:pt x="793" y="985"/>
                    <a:pt x="782" y="984"/>
                    <a:pt x="776" y="976"/>
                  </a:cubicBezTo>
                  <a:cubicBezTo>
                    <a:pt x="771" y="969"/>
                    <a:pt x="772" y="960"/>
                    <a:pt x="768" y="952"/>
                  </a:cubicBezTo>
                  <a:cubicBezTo>
                    <a:pt x="751" y="918"/>
                    <a:pt x="755" y="935"/>
                    <a:pt x="728" y="912"/>
                  </a:cubicBezTo>
                  <a:cubicBezTo>
                    <a:pt x="719" y="905"/>
                    <a:pt x="713" y="895"/>
                    <a:pt x="704" y="888"/>
                  </a:cubicBezTo>
                  <a:cubicBezTo>
                    <a:pt x="689" y="876"/>
                    <a:pt x="656" y="856"/>
                    <a:pt x="656" y="856"/>
                  </a:cubicBezTo>
                  <a:cubicBezTo>
                    <a:pt x="636" y="825"/>
                    <a:pt x="611" y="823"/>
                    <a:pt x="584" y="800"/>
                  </a:cubicBezTo>
                  <a:cubicBezTo>
                    <a:pt x="545" y="768"/>
                    <a:pt x="496" y="735"/>
                    <a:pt x="464" y="696"/>
                  </a:cubicBezTo>
                  <a:cubicBezTo>
                    <a:pt x="428" y="653"/>
                    <a:pt x="464" y="691"/>
                    <a:pt x="440" y="648"/>
                  </a:cubicBezTo>
                  <a:cubicBezTo>
                    <a:pt x="425" y="621"/>
                    <a:pt x="407" y="595"/>
                    <a:pt x="392" y="568"/>
                  </a:cubicBezTo>
                  <a:cubicBezTo>
                    <a:pt x="361" y="514"/>
                    <a:pt x="320" y="465"/>
                    <a:pt x="296" y="408"/>
                  </a:cubicBezTo>
                  <a:cubicBezTo>
                    <a:pt x="274" y="358"/>
                    <a:pt x="255" y="304"/>
                    <a:pt x="208" y="272"/>
                  </a:cubicBezTo>
                  <a:cubicBezTo>
                    <a:pt x="196" y="255"/>
                    <a:pt x="180" y="241"/>
                    <a:pt x="168" y="224"/>
                  </a:cubicBezTo>
                  <a:cubicBezTo>
                    <a:pt x="163" y="217"/>
                    <a:pt x="165" y="207"/>
                    <a:pt x="160" y="200"/>
                  </a:cubicBezTo>
                  <a:cubicBezTo>
                    <a:pt x="146" y="180"/>
                    <a:pt x="129" y="162"/>
                    <a:pt x="112" y="144"/>
                  </a:cubicBezTo>
                  <a:cubicBezTo>
                    <a:pt x="94" y="124"/>
                    <a:pt x="56" y="88"/>
                    <a:pt x="56" y="88"/>
                  </a:cubicBezTo>
                  <a:cubicBezTo>
                    <a:pt x="44" y="51"/>
                    <a:pt x="17" y="3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88440" y="1721880"/>
              <a:ext cx="9849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45320" y="1749600"/>
              <a:ext cx="408240" cy="1431720"/>
            </a:xfrm>
            <a:custGeom>
              <a:avLst/>
              <a:gdLst/>
              <a:ahLst/>
              <a:rect l="l" t="t" r="r" b="b"/>
              <a:pathLst>
                <a:path w="301" h="1072">
                  <a:moveTo>
                    <a:pt x="301" y="1072"/>
                  </a:moveTo>
                  <a:cubicBezTo>
                    <a:pt x="296" y="1056"/>
                    <a:pt x="294" y="1038"/>
                    <a:pt x="285" y="1024"/>
                  </a:cubicBezTo>
                  <a:cubicBezTo>
                    <a:pt x="280" y="1016"/>
                    <a:pt x="273" y="1009"/>
                    <a:pt x="269" y="1000"/>
                  </a:cubicBezTo>
                  <a:cubicBezTo>
                    <a:pt x="249" y="955"/>
                    <a:pt x="237" y="903"/>
                    <a:pt x="221" y="856"/>
                  </a:cubicBezTo>
                  <a:cubicBezTo>
                    <a:pt x="199" y="790"/>
                    <a:pt x="190" y="723"/>
                    <a:pt x="173" y="656"/>
                  </a:cubicBezTo>
                  <a:cubicBezTo>
                    <a:pt x="148" y="556"/>
                    <a:pt x="110" y="460"/>
                    <a:pt x="85" y="360"/>
                  </a:cubicBezTo>
                  <a:cubicBezTo>
                    <a:pt x="65" y="280"/>
                    <a:pt x="39" y="199"/>
                    <a:pt x="13" y="120"/>
                  </a:cubicBezTo>
                  <a:cubicBezTo>
                    <a:pt x="0" y="82"/>
                    <a:pt x="13" y="40"/>
                    <a:pt x="13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3400" y="1721880"/>
              <a:ext cx="43020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8240" y="2751480"/>
              <a:ext cx="36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1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81120" y="275148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´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48840" y="1479960"/>
              <a:ext cx="37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42760" y="178056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56840" y="3720960"/>
              <a:ext cx="3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280" y="692280"/>
              <a:ext cx="3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427640" y="1484280"/>
            <a:ext cx="1663200" cy="1911960"/>
            <a:chOff x="4427640" y="1484280"/>
            <a:chExt cx="1663200" cy="1911960"/>
          </a:xfrm>
        </p:grpSpPr>
        <p:sp>
          <p:nvSpPr>
            <p:cNvPr id="286" name=""/>
            <p:cNvSpPr/>
            <p:nvPr/>
          </p:nvSpPr>
          <p:spPr>
            <a:xfrm>
              <a:off x="4905360" y="3144600"/>
              <a:ext cx="815400" cy="349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73520" y="3058920"/>
              <a:ext cx="36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21120" y="29984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81320" y="1968480"/>
              <a:ext cx="699840" cy="1217520"/>
            </a:xfrm>
            <a:custGeom>
              <a:avLst/>
              <a:gdLst/>
              <a:ahLst/>
              <a:rect l="l" t="t" r="r" b="b"/>
              <a:pathLst>
                <a:path w="880" h="1072">
                  <a:moveTo>
                    <a:pt x="880" y="1072"/>
                  </a:moveTo>
                  <a:cubicBezTo>
                    <a:pt x="854" y="1055"/>
                    <a:pt x="842" y="1033"/>
                    <a:pt x="816" y="1016"/>
                  </a:cubicBezTo>
                  <a:cubicBezTo>
                    <a:pt x="811" y="1008"/>
                    <a:pt x="807" y="999"/>
                    <a:pt x="800" y="992"/>
                  </a:cubicBezTo>
                  <a:cubicBezTo>
                    <a:pt x="793" y="985"/>
                    <a:pt x="782" y="984"/>
                    <a:pt x="776" y="976"/>
                  </a:cubicBezTo>
                  <a:cubicBezTo>
                    <a:pt x="771" y="969"/>
                    <a:pt x="772" y="960"/>
                    <a:pt x="768" y="952"/>
                  </a:cubicBezTo>
                  <a:cubicBezTo>
                    <a:pt x="751" y="918"/>
                    <a:pt x="755" y="935"/>
                    <a:pt x="728" y="912"/>
                  </a:cubicBezTo>
                  <a:cubicBezTo>
                    <a:pt x="719" y="905"/>
                    <a:pt x="713" y="895"/>
                    <a:pt x="704" y="888"/>
                  </a:cubicBezTo>
                  <a:cubicBezTo>
                    <a:pt x="689" y="876"/>
                    <a:pt x="656" y="856"/>
                    <a:pt x="656" y="856"/>
                  </a:cubicBezTo>
                  <a:cubicBezTo>
                    <a:pt x="636" y="825"/>
                    <a:pt x="611" y="823"/>
                    <a:pt x="584" y="800"/>
                  </a:cubicBezTo>
                  <a:cubicBezTo>
                    <a:pt x="545" y="768"/>
                    <a:pt x="496" y="735"/>
                    <a:pt x="464" y="696"/>
                  </a:cubicBezTo>
                  <a:cubicBezTo>
                    <a:pt x="428" y="653"/>
                    <a:pt x="464" y="691"/>
                    <a:pt x="440" y="648"/>
                  </a:cubicBezTo>
                  <a:cubicBezTo>
                    <a:pt x="425" y="621"/>
                    <a:pt x="407" y="595"/>
                    <a:pt x="392" y="568"/>
                  </a:cubicBezTo>
                  <a:cubicBezTo>
                    <a:pt x="361" y="514"/>
                    <a:pt x="320" y="465"/>
                    <a:pt x="296" y="408"/>
                  </a:cubicBezTo>
                  <a:cubicBezTo>
                    <a:pt x="274" y="358"/>
                    <a:pt x="255" y="304"/>
                    <a:pt x="208" y="272"/>
                  </a:cubicBezTo>
                  <a:cubicBezTo>
                    <a:pt x="196" y="255"/>
                    <a:pt x="180" y="241"/>
                    <a:pt x="168" y="224"/>
                  </a:cubicBezTo>
                  <a:cubicBezTo>
                    <a:pt x="163" y="217"/>
                    <a:pt x="165" y="207"/>
                    <a:pt x="160" y="200"/>
                  </a:cubicBezTo>
                  <a:cubicBezTo>
                    <a:pt x="146" y="180"/>
                    <a:pt x="129" y="162"/>
                    <a:pt x="112" y="144"/>
                  </a:cubicBezTo>
                  <a:cubicBezTo>
                    <a:pt x="94" y="124"/>
                    <a:pt x="56" y="88"/>
                    <a:pt x="56" y="88"/>
                  </a:cubicBezTo>
                  <a:cubicBezTo>
                    <a:pt x="44" y="51"/>
                    <a:pt x="17" y="3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22680" y="1753920"/>
              <a:ext cx="409320" cy="1432080"/>
            </a:xfrm>
            <a:custGeom>
              <a:avLst/>
              <a:gdLst/>
              <a:ahLst/>
              <a:rect l="l" t="t" r="r" b="b"/>
              <a:pathLst>
                <a:path w="301" h="1072">
                  <a:moveTo>
                    <a:pt x="301" y="1072"/>
                  </a:moveTo>
                  <a:cubicBezTo>
                    <a:pt x="296" y="1056"/>
                    <a:pt x="294" y="1038"/>
                    <a:pt x="285" y="1024"/>
                  </a:cubicBezTo>
                  <a:cubicBezTo>
                    <a:pt x="280" y="1016"/>
                    <a:pt x="273" y="1009"/>
                    <a:pt x="269" y="1000"/>
                  </a:cubicBezTo>
                  <a:cubicBezTo>
                    <a:pt x="249" y="955"/>
                    <a:pt x="237" y="903"/>
                    <a:pt x="221" y="856"/>
                  </a:cubicBezTo>
                  <a:cubicBezTo>
                    <a:pt x="199" y="790"/>
                    <a:pt x="190" y="723"/>
                    <a:pt x="173" y="656"/>
                  </a:cubicBezTo>
                  <a:cubicBezTo>
                    <a:pt x="148" y="556"/>
                    <a:pt x="110" y="460"/>
                    <a:pt x="85" y="360"/>
                  </a:cubicBezTo>
                  <a:cubicBezTo>
                    <a:pt x="65" y="280"/>
                    <a:pt x="39" y="199"/>
                    <a:pt x="13" y="120"/>
                  </a:cubicBezTo>
                  <a:cubicBezTo>
                    <a:pt x="0" y="82"/>
                    <a:pt x="13" y="40"/>
                    <a:pt x="13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51120" y="1726920"/>
              <a:ext cx="42984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27640" y="148428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21200" y="1785600"/>
              <a:ext cx="36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84963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Area de trabajo de ventilación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Lo que interesa es aumentar esta áre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Para aumentar la altura se debe profundizar la min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El aumento de ancho dependerá del mayor aumento de la temperatur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300720" y="1916280"/>
            <a:ext cx="2664000" cy="1452600"/>
            <a:chOff x="6300720" y="1916280"/>
            <a:chExt cx="2664000" cy="1452600"/>
          </a:xfrm>
        </p:grpSpPr>
        <p:sp>
          <p:nvSpPr>
            <p:cNvPr id="296" name=""/>
            <p:cNvSpPr/>
            <p:nvPr/>
          </p:nvSpPr>
          <p:spPr>
            <a:xfrm>
              <a:off x="6576120" y="2041920"/>
              <a:ext cx="0" cy="1041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3640" y="2041920"/>
              <a:ext cx="0" cy="915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3640" y="2958120"/>
              <a:ext cx="1837440" cy="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76120" y="3084120"/>
              <a:ext cx="2113200" cy="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8689320" y="2041920"/>
              <a:ext cx="0" cy="1041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551440" y="2041920"/>
              <a:ext cx="0" cy="915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0720" y="191628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88240" y="191628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43600" y="2957400"/>
              <a:ext cx="27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00720" y="300060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1258920" y="2421000"/>
          <a:ext cx="6095880" cy="26715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Profundidad de la Mina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Depresión Natural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400 – 5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25 – 30  mm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700 – 8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50 – 60 mm 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000 – 20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00 – 120  mm 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1320" y="981000"/>
          <a:ext cx="4522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981000"/>
                    <a:ext cx="4522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3680" y="22766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3680" y="2886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3680" y="3495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3680" y="41054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3680" y="4714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6480" y="402912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44100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9280" y="48672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6480" y="5172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8760" y="4638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5080" y="41814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5019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880" y="41814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0880" y="3114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0880" y="1971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26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1. Generalidad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 ventilación natural es utilizada en muchos casos como sistema únic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s cambiante, depende de la época del año, en algunos casos, del día y de la noch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s diferencias de presión entre la entrada y la salida son provocados por el intercambio termodinámico que se produce entre la superficie y el interior de una min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 energía térmica agregada al sistema se transforma a energía de presión, y produce flujo de aire. (por ejemplo el fenómeno de una chimenea dónde el aire caliente sube y se desplaza al aire frío produciendo circulación de ai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2. Ventilación Natural : Caso Mina Ide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 existe pérdida de fricción ni choque (H=0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os procesos al interior de la mina son adiabático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abrá entrega de calor en la explotación de la min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 existe evaporación ni se agrega gases al air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a presión atmosférica es la misma en los 2 brocales de los pique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3716280"/>
            <a:ext cx="287964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3933720"/>
            <a:ext cx="331164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356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96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86908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3716280"/>
            <a:ext cx="2160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933720"/>
            <a:ext cx="259416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4614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2454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708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614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98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370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gráfico presión - volu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1 -  2   Compresión adiabática producida por cambio de presió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2  - 3   Expansión a presión constant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3  - 4´  Expansión adiabática hasta el broc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 - 4´  Expansión en el brocal a la presión atmosférica ( Esta es la presión de ventilación natural 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 - 1  Compresión a presión constante, el aire arroja su calor hasta alcanzar su temperatura atmosféri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1699920"/>
            <a:ext cx="0" cy="237636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07664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27664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213000"/>
            <a:ext cx="216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716280"/>
            <a:ext cx="25210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9040" y="2298600"/>
            <a:ext cx="74952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2276640"/>
            <a:ext cx="74916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1989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35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29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1916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99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20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1700280"/>
            <a:ext cx="0" cy="792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3789360"/>
            <a:ext cx="180036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317080" y="2205000"/>
            <a:ext cx="0" cy="1224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55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3789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908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3716280"/>
            <a:ext cx="2160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933720"/>
            <a:ext cx="259416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4614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2454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3708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614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98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70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gráfico presión - volu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El área   a-1-2-b-a  = cambio de energía potencial y es igual al área b-3-4´-c-b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El área  c-4´-4-a-c--=  área  1-2-3-4-1  Trabajo de Ventilación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– 4´ Presión de Ventilación 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5640" y="1699920"/>
            <a:ext cx="0" cy="237636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07664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27664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3213000"/>
            <a:ext cx="216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3716280"/>
            <a:ext cx="25210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89040" y="2298600"/>
            <a:ext cx="74952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276640"/>
            <a:ext cx="74916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1989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5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29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1916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299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0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1700280"/>
            <a:ext cx="0" cy="792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3789360"/>
            <a:ext cx="180036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317080" y="2205000"/>
            <a:ext cx="0" cy="1224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39337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55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ueg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Hn = L * ( z1 – z2 ) = p1 – p2   mm c.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Dónde     L = altura del pozo (pique)  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z1  y z2  pesos específicos medios del aire en los pozos de aire entrante y saliente   en Kg/m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p1  y p2 = presiones de las corrientes entrante y saliente en la profundidad 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El peso específico del aire   z= 0,465*p / 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T es la temperatura absoluta en °K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p es la presión   mm de mercuri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as presiones p1  y p2 se determinan por las fórmul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og p1 = log p0 + 0,015 L/T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og p2 = log p0 + 0,015 L/T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Dónde T1 y T2 son las temperaturas medias absolutas del aire entrante y salien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2 mediciones por pozo son suficien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4963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3. Ventilación Natural : Caso Mina Re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 tienen pérdida por fricción y por choque (H distinto de 0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a posibilidad de entregar trabajo disminuye y la Presión de Ventilación (4´) tambié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3640" y="3018960"/>
            <a:ext cx="0" cy="352908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654840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381168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3640" y="5251320"/>
            <a:ext cx="216036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3640" y="5899320"/>
            <a:ext cx="252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3811680"/>
            <a:ext cx="827280" cy="209232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3811680"/>
            <a:ext cx="892080" cy="207000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352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8920" y="5756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35640" y="5180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4)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5683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45132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98920" y="56833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8920" y="5180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35956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5540400"/>
            <a:ext cx="2160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445932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59280" y="4459320"/>
            <a:ext cx="817560" cy="1447920"/>
          </a:xfrm>
          <a:custGeom>
            <a:avLst/>
            <a:gdLst/>
            <a:ahLst/>
            <a:rect l="l" t="t" r="r" b="b"/>
            <a:pathLst>
              <a:path w="880" h="1072">
                <a:moveTo>
                  <a:pt x="880" y="1072"/>
                </a:moveTo>
                <a:cubicBezTo>
                  <a:pt x="854" y="1055"/>
                  <a:pt x="842" y="1033"/>
                  <a:pt x="816" y="1016"/>
                </a:cubicBezTo>
                <a:cubicBezTo>
                  <a:pt x="811" y="1008"/>
                  <a:pt x="807" y="999"/>
                  <a:pt x="800" y="992"/>
                </a:cubicBezTo>
                <a:cubicBezTo>
                  <a:pt x="793" y="985"/>
                  <a:pt x="782" y="984"/>
                  <a:pt x="776" y="976"/>
                </a:cubicBezTo>
                <a:cubicBezTo>
                  <a:pt x="771" y="969"/>
                  <a:pt x="772" y="960"/>
                  <a:pt x="768" y="952"/>
                </a:cubicBezTo>
                <a:cubicBezTo>
                  <a:pt x="751" y="918"/>
                  <a:pt x="755" y="935"/>
                  <a:pt x="728" y="912"/>
                </a:cubicBezTo>
                <a:cubicBezTo>
                  <a:pt x="719" y="905"/>
                  <a:pt x="713" y="895"/>
                  <a:pt x="704" y="888"/>
                </a:cubicBezTo>
                <a:cubicBezTo>
                  <a:pt x="689" y="876"/>
                  <a:pt x="656" y="856"/>
                  <a:pt x="656" y="856"/>
                </a:cubicBezTo>
                <a:cubicBezTo>
                  <a:pt x="636" y="825"/>
                  <a:pt x="611" y="823"/>
                  <a:pt x="584" y="800"/>
                </a:cubicBezTo>
                <a:cubicBezTo>
                  <a:pt x="545" y="768"/>
                  <a:pt x="496" y="735"/>
                  <a:pt x="464" y="696"/>
                </a:cubicBezTo>
                <a:cubicBezTo>
                  <a:pt x="428" y="653"/>
                  <a:pt x="464" y="691"/>
                  <a:pt x="440" y="648"/>
                </a:cubicBezTo>
                <a:cubicBezTo>
                  <a:pt x="425" y="621"/>
                  <a:pt x="407" y="595"/>
                  <a:pt x="392" y="568"/>
                </a:cubicBezTo>
                <a:cubicBezTo>
                  <a:pt x="361" y="514"/>
                  <a:pt x="320" y="465"/>
                  <a:pt x="296" y="408"/>
                </a:cubicBezTo>
                <a:cubicBezTo>
                  <a:pt x="274" y="358"/>
                  <a:pt x="255" y="304"/>
                  <a:pt x="208" y="272"/>
                </a:cubicBezTo>
                <a:cubicBezTo>
                  <a:pt x="196" y="255"/>
                  <a:pt x="180" y="241"/>
                  <a:pt x="168" y="224"/>
                </a:cubicBezTo>
                <a:cubicBezTo>
                  <a:pt x="163" y="217"/>
                  <a:pt x="165" y="207"/>
                  <a:pt x="160" y="200"/>
                </a:cubicBezTo>
                <a:cubicBezTo>
                  <a:pt x="146" y="180"/>
                  <a:pt x="129" y="162"/>
                  <a:pt x="112" y="144"/>
                </a:cubicBezTo>
                <a:cubicBezTo>
                  <a:pt x="94" y="124"/>
                  <a:pt x="56" y="88"/>
                  <a:pt x="56" y="88"/>
                </a:cubicBezTo>
                <a:cubicBezTo>
                  <a:pt x="44" y="51"/>
                  <a:pt x="17" y="33"/>
                  <a:pt x="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4172040"/>
            <a:ext cx="1152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2880" y="4205160"/>
            <a:ext cx="477720" cy="1702080"/>
          </a:xfrm>
          <a:custGeom>
            <a:avLst/>
            <a:gdLst/>
            <a:ahLst/>
            <a:rect l="l" t="t" r="r" b="b"/>
            <a:pathLst>
              <a:path w="301" h="1072">
                <a:moveTo>
                  <a:pt x="301" y="1072"/>
                </a:moveTo>
                <a:cubicBezTo>
                  <a:pt x="296" y="1056"/>
                  <a:pt x="294" y="1038"/>
                  <a:pt x="285" y="1024"/>
                </a:cubicBezTo>
                <a:cubicBezTo>
                  <a:pt x="280" y="1016"/>
                  <a:pt x="273" y="1009"/>
                  <a:pt x="269" y="1000"/>
                </a:cubicBezTo>
                <a:cubicBezTo>
                  <a:pt x="249" y="955"/>
                  <a:pt x="237" y="903"/>
                  <a:pt x="221" y="856"/>
                </a:cubicBezTo>
                <a:cubicBezTo>
                  <a:pt x="199" y="790"/>
                  <a:pt x="190" y="723"/>
                  <a:pt x="173" y="656"/>
                </a:cubicBezTo>
                <a:cubicBezTo>
                  <a:pt x="148" y="556"/>
                  <a:pt x="110" y="460"/>
                  <a:pt x="85" y="360"/>
                </a:cubicBezTo>
                <a:cubicBezTo>
                  <a:pt x="65" y="280"/>
                  <a:pt x="39" y="199"/>
                  <a:pt x="13" y="120"/>
                </a:cubicBezTo>
                <a:cubicBezTo>
                  <a:pt x="0" y="82"/>
                  <a:pt x="13" y="40"/>
                  <a:pt x="13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4172040"/>
            <a:ext cx="5032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539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1640" y="539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38829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42433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6548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2948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1:30:58Z</dcterms:created>
  <dc:creator>Gustavo Reyes B.</dc:creator>
  <dc:description/>
  <dc:language>en-US</dc:language>
  <cp:lastModifiedBy>Home</cp:lastModifiedBy>
  <dcterms:modified xsi:type="dcterms:W3CDTF">2004-09-30T01:50:00Z</dcterms:modified>
  <cp:revision>33</cp:revision>
  <dc:subject/>
  <dc:title>VENTILADORES DE MINAS</dc:title>
</cp:coreProperties>
</file>