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BA64-A596-4932-B551-822EEBA6A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A7C2-D01F-42E8-8FAF-8C0E78A6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18F1-99E2-4B89-82DA-24772BA20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5575-6791-47F8-950E-8BE2A294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D002-11E2-4963-BCBC-7BD86F6A1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38B8-A16D-43D3-AAC1-7DF0ED5A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C327-965F-4DF5-AC07-DCC10E74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58FB-8106-4099-A9AC-5A45332A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D2DF-5D21-4749-A95F-28201919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E834-9C5E-47E7-BB5F-8A4A3A4D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4514-4037-46CB-8793-51C0FA79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FE2A-84AA-4A05-B93C-F094E51E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699B-95AC-4FB1-8F3D-D668CFC3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C7C0-3198-44CE-A02C-B589F451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CC69-9D33-4418-A0D3-0BEDD438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DC16-C426-485D-B13A-48B403BD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366C-1D1A-4FB6-8CB4-2D5CA4CF9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18B0-4499-4B24-8FAC-5D729047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70E9-BCEA-4635-AA7A-B23BA8F5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A05D-D2A1-494C-9692-09E069CE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7655-FD0E-4CB7-9F81-C1B80CB2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74E6-37C3-4AB3-8490-C89FD384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EA50-F3B3-4845-AEAF-05AF8815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6295-FCEE-42B4-A24F-6566FB4D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D96C-EA3C-4A45-A815-080618EC10D2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838080" y="59432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838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3733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E2DA-316E-4E81-88F9-E115611BA47E}" type="slidenum">
              <a:rPr b="0" lang="es-E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PROPIEDADES FISICAS DEL AIRE</a:t>
            </a:r>
            <a:endParaRPr b="0" lang="en-US" sz="29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92962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Teorema de Bernoulli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15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Establece el principio de conservación de la energia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expresando que la altura de carga total de un fluido que circula por cualquier sistema se mantendrá constante si no hay pérdidas por rozamientos, compresión, incorporación de otro fluido o pérdida de fluido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15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La altura de carga total es igual a la suma de las alturas de: carga estática = altura de presión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carga cinética = altura de velocidad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carga de elevación = altura geodésica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uesto que V = Q / 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 fórmula anterior se puede expresar com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f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Lf * p * Q2 / A3 [mm c.a. o kg / m2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EFICIENTE DE RESISTENCIA AERODINAM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aría de acuerdo al número de Reynolds, pero se hace insignificante a medida que Re cre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mo en las labores mineras el movimiento del aire es turbulento con un alto Re,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se considera consta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e puede determinar en terreno o por medio de tab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8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 (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)/ 1,2  corregido de acuerdo al peso específico del lugar.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Coeficiente de resistencia aerodinámica para el peso específico </a:t>
            </a:r>
            <a:r>
              <a:rPr b="0" lang="es-ES_tradnl" sz="16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cálculo de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usando la experimentación en terreno se hace por la fórmul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f = (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x Lf x P x Q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) / A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ónde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 (Hf*A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)/Lf*p*Q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odos los parámetros que intervienen pueden ser determinados en terren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 se trata de un proyecto donde no hay datos de terreno, se usan tab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839080" cy="990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br>
              <a:rPr sz="3200"/>
            </a:br>
            <a:r>
              <a:rPr b="1" lang="es-ES_tradnl" sz="3200" spc="-1" strike="noStrike">
                <a:solidFill>
                  <a:srgbClr val="cc9900"/>
                </a:solidFill>
                <a:latin typeface="Tahoma"/>
              </a:rPr>
              <a:t>Valores de </a:t>
            </a:r>
            <a:r>
              <a:rPr b="1" lang="es-ES_tradnl" sz="3200" spc="-1" strike="noStrike">
                <a:solidFill>
                  <a:srgbClr val="cc9900"/>
                </a:solidFill>
                <a:latin typeface="Symbol"/>
                <a:ea typeface="Symbol"/>
              </a:rPr>
              <a:t></a:t>
            </a:r>
            <a:r>
              <a:rPr b="1" lang="es-ES_tradnl" sz="3200" spc="-1" strike="noStrike">
                <a:solidFill>
                  <a:srgbClr val="cc9900"/>
                </a:solidFill>
                <a:latin typeface="Tahoma"/>
              </a:rPr>
              <a:t>*10</a:t>
            </a:r>
            <a:r>
              <a:rPr b="1" lang="es-ES_tradnl" sz="3200" spc="-1" strike="noStrike" baseline="30000">
                <a:solidFill>
                  <a:srgbClr val="cc9900"/>
                </a:solidFill>
                <a:latin typeface="Tahoma"/>
              </a:rPr>
              <a:t>-5</a:t>
            </a:r>
            <a:r>
              <a:rPr b="1" lang="es-ES_tradnl" sz="3200" spc="-1" strike="noStrike">
                <a:solidFill>
                  <a:srgbClr val="cc9900"/>
                </a:solidFill>
                <a:latin typeface="Tahoma"/>
              </a:rPr>
              <a:t> para </a:t>
            </a:r>
            <a:r>
              <a:rPr b="1" lang="es-ES_tradnl" sz="3200" spc="-1" strike="noStrike">
                <a:solidFill>
                  <a:srgbClr val="cc9900"/>
                </a:solidFill>
                <a:latin typeface="Symbol"/>
                <a:ea typeface="Symbol"/>
              </a:rPr>
              <a:t></a:t>
            </a:r>
            <a:r>
              <a:rPr b="1" lang="es-ES_tradnl" sz="3200" spc="-1" strike="noStrike">
                <a:solidFill>
                  <a:srgbClr val="cc9900"/>
                </a:solidFill>
                <a:latin typeface="Tahoma"/>
              </a:rPr>
              <a:t> = 1,2 Kgr/m</a:t>
            </a:r>
            <a:r>
              <a:rPr b="1" lang="es-ES_tradnl" sz="3200" spc="-1" strike="noStrike" baseline="30000">
                <a:solidFill>
                  <a:srgbClr val="cc99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14400" y="1523880"/>
          <a:ext cx="7696080" cy="47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3880"/>
                    <a:ext cx="76960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ESISTENCIAS LOC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pérdidas por choques son de origen local, producidas por turbulencias, remolinos, frenadas del aire al enfrentar diversos accidentes dentro del circui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os accidentes son, cambios de dirección, entradas, contracciones, et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ambién dependen de la velocidad y del peso específico del ai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x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V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/ 2g en mm de c.a. o kg/m2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 coeficiente de resistencia local, que se determina de tabl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Un método más adecuado para calcular estas pérdi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pérdidas por choque se asimilan a las pérdidas por fricción a través de los largos equivalentes, o sea se trata de determinar a que largo físico de una galería equivale la pérdida por choqu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e igualan las pérdidas por fricción con las pérdidas por choq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f = Hx,  luego:       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Lf * P * V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/ A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V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/ 2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sumiendo el largo Lf el valor de largo equivalente L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 =  (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A )/( 2g *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 P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7696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continuación se adjuntan tablas de Le para pérdidas por choque más comunes y diferentes tamaños de galerí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os valores se obtuvieron para aire normal, y un coeficiente de resistencia aerodinámica 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,001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 obtener datos de acuerdo a un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determinado los valores deben ser multiplicados por 0,00158*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0" y="3543480"/>
            <a:ext cx="464832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6477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OS EQUIVALENTES, PARA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,001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23880" y="1887480"/>
            <a:ext cx="64771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6477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OS EQUIVALENTES, PARA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,001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905120" y="2106720"/>
            <a:ext cx="579096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6477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OS EQUIVALENTES, PARA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,001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57400" y="2019240"/>
            <a:ext cx="60958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6477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OS EQUIVALENTES, PARA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,001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23880" y="2106720"/>
            <a:ext cx="647712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PROPIEDADES FISICAS DEL AIRE</a:t>
            </a:r>
            <a:endParaRPr b="0" lang="en-US" sz="29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9296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ht = hs + hc + hz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15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ffffff"/>
                </a:solidFill>
                <a:latin typeface="Tahoma"/>
              </a:rPr>
              <a:t>reemplazando las alturas de carga en función de las presiones en un lugar 1 del movimiento del fluido se tiene:h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6477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RGOS EQUIVALENTES, PARA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0,001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828800" y="2260440"/>
            <a:ext cx="6553080" cy="37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1455120" y="163044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44480" y="1590840"/>
            <a:ext cx="4007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Fórmula fundamental de ventilación.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68240" y="1951200"/>
            <a:ext cx="3166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Considerando el reemplazo de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08680" y="1951200"/>
            <a:ext cx="291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Comic Sans MS"/>
              </a:rPr>
              <a:t>Hx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96040" y="1951200"/>
            <a:ext cx="2535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por el largo equivalente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277480" y="1951200"/>
            <a:ext cx="250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mic Sans MS"/>
              </a:rPr>
              <a:t>L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31600" y="2255760"/>
            <a:ext cx="5863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tendremos, entonces, la fórmula para la caída de presión: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32080" y="2871720"/>
            <a:ext cx="267480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39080" y="2894040"/>
            <a:ext cx="137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Symbol"/>
                <a:ea typeface="Symbol"/>
              </a:rPr>
              <a:t>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61920" y="2868480"/>
            <a:ext cx="1837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10000"/>
                </a:solidFill>
                <a:latin typeface="Comic Sans MS"/>
              </a:rPr>
              <a:t> </a:t>
            </a:r>
            <a:r>
              <a:rPr b="1" lang="es-ES_tradnl" sz="1700" spc="-1" strike="noStrike">
                <a:solidFill>
                  <a:srgbClr val="010000"/>
                </a:solidFill>
                <a:latin typeface="Comic Sans MS"/>
              </a:rPr>
              <a:t>* (Lf + Le) * P * Q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33720" y="28494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31800" y="2871720"/>
            <a:ext cx="519120" cy="166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31800" y="3038400"/>
            <a:ext cx="51912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73000" y="3035160"/>
            <a:ext cx="166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mic Sans MS"/>
              </a:rPr>
              <a:t>H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31800" y="3343320"/>
            <a:ext cx="519120" cy="166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50920" y="2871720"/>
            <a:ext cx="281160" cy="166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0920" y="3038400"/>
            <a:ext cx="2811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89520" y="303516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=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50920" y="3343320"/>
            <a:ext cx="281160" cy="166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332080" y="3205080"/>
            <a:ext cx="2674800" cy="30816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15840" y="3205080"/>
            <a:ext cx="15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mic Sans MS"/>
              </a:rPr>
              <a:t>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51200" y="318600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1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06880" y="2871720"/>
            <a:ext cx="2594160" cy="166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06880" y="3038400"/>
            <a:ext cx="2594160" cy="30492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41800" y="3035160"/>
            <a:ext cx="2146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10000"/>
                </a:solidFill>
                <a:latin typeface="Comic Sans MS"/>
              </a:rPr>
              <a:t>; (mm. de c.a. o Kg/m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19080" y="301464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32840" y="3035160"/>
            <a:ext cx="66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)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06880" y="3343320"/>
            <a:ext cx="2594160" cy="16668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32080" y="3176640"/>
            <a:ext cx="2674800" cy="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32080" y="3203640"/>
            <a:ext cx="2674800" cy="14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39080" y="4121280"/>
            <a:ext cx="711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donde: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00760" y="4425840"/>
            <a:ext cx="160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H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93080" y="4425840"/>
            <a:ext cx="2518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10000"/>
                </a:solidFill>
                <a:latin typeface="Comic Sans MS"/>
              </a:rPr>
              <a:t>= caída de presión, Kg/m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53760" y="440388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13720" y="4757760"/>
            <a:ext cx="137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Symbol"/>
                <a:ea typeface="Symbol"/>
              </a:rPr>
              <a:t>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82440" y="4734000"/>
            <a:ext cx="419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= coeficiente de resistencia aerodinámic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4040" y="4734000"/>
            <a:ext cx="971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10000"/>
                </a:solidFill>
                <a:latin typeface="Comic Sans MS"/>
              </a:rPr>
              <a:t> </a:t>
            </a:r>
            <a:r>
              <a:rPr b="0" lang="es-ES_tradnl" sz="1700" spc="-1" strike="noStrike">
                <a:solidFill>
                  <a:srgbClr val="010000"/>
                </a:solidFill>
                <a:latin typeface="Comic Sans MS"/>
              </a:rPr>
              <a:t>, Kg* seg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868160" y="471168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980480" y="4734000"/>
            <a:ext cx="284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/m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241120" y="471168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353440" y="4734000"/>
            <a:ext cx="58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60080" y="5038560"/>
            <a:ext cx="188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10000"/>
                </a:solidFill>
                <a:latin typeface="Comic Sans MS"/>
              </a:rPr>
              <a:t>Lf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15760" y="5038560"/>
            <a:ext cx="1671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10000"/>
                </a:solidFill>
                <a:latin typeface="Comic Sans MS"/>
              </a:rPr>
              <a:t>= largo f¡sico, m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01480" y="5346720"/>
            <a:ext cx="23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L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89920" y="5346720"/>
            <a:ext cx="233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= largo equivalente, m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07600" y="5651640"/>
            <a:ext cx="139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81280" y="5651640"/>
            <a:ext cx="18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=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67760" y="5651640"/>
            <a:ext cx="708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rea, m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43840" y="562932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655800" y="5651640"/>
            <a:ext cx="58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7440" y="5956200"/>
            <a:ext cx="13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02520" y="5956200"/>
            <a:ext cx="157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= perímetro, m;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19040" y="6264360"/>
            <a:ext cx="169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Q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23240" y="6264360"/>
            <a:ext cx="1224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 </a:t>
            </a:r>
            <a:r>
              <a:rPr b="0" lang="en-US" sz="1700" spc="-1" strike="noStrike">
                <a:solidFill>
                  <a:srgbClr val="010000"/>
                </a:solidFill>
                <a:latin typeface="Comic Sans MS"/>
              </a:rPr>
              <a:t>= caudal, m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36800" y="6242040"/>
            <a:ext cx="8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28960" y="6264360"/>
            <a:ext cx="439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10000"/>
                </a:solidFill>
                <a:latin typeface="Comic Sans MS"/>
              </a:rPr>
              <a:t>/seg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332080" y="3203640"/>
            <a:ext cx="2674800" cy="14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143000" y="1432080"/>
            <a:ext cx="693432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2332080" y="3203640"/>
            <a:ext cx="2674800" cy="14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3520" y="2143080"/>
            <a:ext cx="76960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2332080" y="3203640"/>
            <a:ext cx="2674800" cy="14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19320" y="1754280"/>
            <a:ext cx="693396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2332080" y="3203640"/>
            <a:ext cx="2674800" cy="1440"/>
          </a:xfrm>
          <a:prstGeom prst="rect">
            <a:avLst/>
          </a:pr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219320" y="1752480"/>
          <a:ext cx="6933960" cy="432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752480"/>
                    <a:ext cx="6933960" cy="43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teorema de Bernoulli expresa qu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“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el movimiento de un fluido en un medio ideal, las sumas de las alturas permanecen constantes. Al disminuir una las otras aumentaran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un medio ideal horizontal, las alturas geodésicas no cambian, pero si varía el diámetro del medio, variará la altura cinética y la altura de presión variará en la misma magnitud pero con sentido contrar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la realidad el fluido se moverá en un medio real, el que le opondrá resistencia al movimient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or tanto la ecuación de Bernoulli se transforma e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s1 + hc1+ hz1 = hs2 + hc2 + hz2 + 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 que H es la pérdida de carga o pérdida de presión, producida a causa del roce con las paredes del medio real donde se mueve y a causa de las singularidades que encuentra en su recorrido por las turbulencias que ellas provoc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Conocer H permite entregar la energía equivalente para permitir el movimiento del ai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siderando que las presiones geodésicas cambian según la estructura del yacimiento, del sistema de explotación usado y de las posibilidades de desarrolla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lería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de ventilación, poco aportan para ayudar a vencer 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 presiones cinéticas o de velocidad dependen del tamaño de las galerías por donde se mueve el aire (V=Q/A), por lo que no pueden entregar presión para vencer 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as formas de energía podrán usarse para vencer parte del H dependiendo de lo que se proyecte con el circuito de ventilación respecto a entradas y salidas y tamaño de galerías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uego es la presión estática la que debe aumentarse para vencer 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 general H = hs1 - hs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bida consideración que las presiones de velocidad y los términos geodésicos se anulan mutuam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empre un fluido se va a mover desde un punto de mayor presión a otro de menor presión y su diferencia será H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IDA DE PRE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 más importante determinar la diferencia de presión entre dos puntos que la determinación de la presión en ell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flujo de aire se origina porque existe una diferencia de presión entre dos puntos del sistema y para poder lograr esta diferencia es necesario agregar energía al siste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a energía es consumida en superar las resistencias que las labores mineras le ponen al paso de una cantidad determinada de air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stas resistencias originan una caída o pérdida de presión, llamada H y que está dada en mm de columna de agua o kg/m2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s pérdidas de presión están formadas por dos componente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érdidas por fricción y pérdidas por cho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 = Hf + H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érdidas por fricción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, representan las pérdidas de presión en el flujo lineal a lo largo del ducto y es producida por el roce del aire con las paredes del du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Pérdidas por choque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son de origen local, producidas por accidentes como cambio de área, bifurcaciones, uniones, obstrucciones, cambios de dirección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RESISTENCIA AL MOVIMIENTO DEL AIRE</a:t>
            </a:r>
            <a:endParaRPr b="0" lang="en-US" sz="3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EY DE RESISTE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a diferencia de presión entre dos áreas de un ducto está dada por la ecuación de Atkinso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Hf =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*Lf * p * V2 / A  [mm c.a. o kg / m2] donde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f = largo de la labor en metr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 = área de la labor en m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 = perímetro de la labor en metr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 = velocidad del aire en m / se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 coeficiente de resistencia aerodinámica en kg seg2/m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= f * 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/ 8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 = coeficiente de ro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peso específico del aire en kg / m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6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= aceleración de gravedad m/seg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00:53:14Z</dcterms:created>
  <dc:creator>Gustavo Reyes B.</dc:creator>
  <dc:description/>
  <dc:language>en-US</dc:language>
  <cp:lastModifiedBy>Minas</cp:lastModifiedBy>
  <dcterms:modified xsi:type="dcterms:W3CDTF">2002-08-16T23:43:46Z</dcterms:modified>
  <cp:revision>20</cp:revision>
  <dc:subject/>
  <dc:title>RESISTENCIA AL MOVIMIENTO DEL AIRE</dc:title>
</cp:coreProperties>
</file>