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A2C-3139-4D3C-9CD7-8731EDD6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1E07-0C40-41EE-9D95-45DAF197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9A7-17D2-4817-B3A6-916AF2D2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B66-8CBE-4FD3-AC5D-185BEC78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AA4F-E107-4C89-8D2C-7658E20A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E9BA-FDDD-4212-B598-0CA3500D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7DD8-47E2-42C5-874E-72FA8C12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E505-2316-422B-BAC7-1BCA2E03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80CC-D271-4256-B5B1-7974A38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EEE3-6377-4BD9-BED4-DF761E10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7BFB-BB20-4F97-BEFF-4FFCCA50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11F-9AEB-401C-8569-47A3A7C3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2B08-4D6D-4E6B-B41F-1313335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3F79-950D-4D43-8516-8764FEA7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ADEE-0C12-454C-B92A-63F41415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604B-FA3A-4328-96CB-6D2B09DE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E109-92B9-4574-85AC-4DFF6BD6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C435-6160-4577-945C-BA208AA0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B97-9132-4435-8349-6B20C88A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DAB-2186-468B-977A-72A46048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3045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83F-DC75-4BBF-AE02-F78CB540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9B96-E11F-43CA-9F46-09144673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EC1-7D63-43FE-B72A-F530DA66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34E-FF82-470F-B9B2-96F4FE5E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8C98-9F30-4A42-978D-99C42F568726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71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3701-96BC-44DA-ABC0-EE6D5D13F1C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aire de las minas se asemeja a los gases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rfectos en cuanto a sus propiedad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Densidad: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cantidad de masa de aire contenida en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m / v = G / g x v  [kg seg 2 / m4] 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peso en kilogram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la fuerza de gravedad en m / seg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 = masa en kg x seg2 / 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olumen en metros cúbico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los efectos de las presiones usuales, el aire se considera no viscos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p / R x T , peso específico varía con la presión y la temperatur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constante si el fluido es in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 variable si el fluido es compresib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ariación de presión: Se debe a dos motivos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diferencia de cota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; en 100 m de variación de altura la variación de presión es de 130 mm de c.a. Si es de 1000 m la presión varía en 1.300 mm de c.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0000"/>
                </a:solidFill>
                <a:latin typeface="Arial Black"/>
              </a:rPr>
              <a:t>pérdidas de carga ;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son muy variables y dependen del tipo de ventiladores y del tipo de instalacion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variación de temperatura puede ser importante. Una variación de 20 °C puede significar una variación del peso específico de 7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l introducir aire en una mina va a aumentar su presión y temperatura. El aumento de estos dos parámetros hace que la variación del peso específico no sea considerabl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Una diferencia de cota menor a 200 metros, mantiene un peso específico consta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del aire:  siempre contiene cierta   cantidad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gún la forma como se calcula la cantidad de vapor de agua tenemos dos tipos de hume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absoluta: contenido de vapor de agua en gramos en un metro cúbico de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ientras mayor es la temperatura del aire, puede contener mayor cantidad de vapor de agu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umedad relativa: es la relación del contenido de vapor de agua en gramos por metro cúbico con el máximo posible que pueda contener a una temperatura dada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hay 10,4 gr/m3 de vapor de agua a una temperatura de 15 °C y a una presión normal de 760 mm de Hg, el contenido máximo de vapor de agua (en el punto de saturación) a esa temperatura es de 12,8 gr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humedad relativa = (10,4 / 12,8) x 100 = 81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humedad relativa del aire se mide con el psicómetro y el higrómetr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ovimiento d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el aire se mueve lentamente las líneas de flujo que lo componen, no se mezclan entre sí y se mueven paralelament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e tipo de flujo es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la velocidad del aire aumenta, las líneas de flujo comienzan a mezclarse entre si, formando un torbellino. Es un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minería el movimiento del aire es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movimientos de los fluidos se determina a     través del número de Rein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D x V /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dond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D = dimensión fundamental del ducto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 = velocidad del fluido en m / se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viscocidad cinemática en m2 / 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lt; 2.000 es flujo lamina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2.000 &lt; Re &lt; 4.000 es flujo intermed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i Re &gt; 4.000 es flujo turbulent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jemplo: si V = 1 m/seg, D = 2 m y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2/seg a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 = 1 x 2 x 10E5 / 1,44 = 139.000 = flujo turbulen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presión en el interior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 la velocidad del aire de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Medición del caudal de aire en una min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queda de tare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orema de Bernoulli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stablece el principio de conservación de la energi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altura de carga total es igual a la suma de las alturas de: carga estática = altura de presió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cinética = altura de veloci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rga de elevación = altura geodésic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Ht = Hs + Hv + Hz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eemplazando las alturas de carga en función de las presiones en un lugar 1 del movimiento del fluido se tien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t = Ps1 + Pv1 + Pz1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siderando el movimiento del fluido dentro de un ducto donde se ha definido un punto 1 y determinamos otro punto 2, sin tener agregación ni pérdida de fluido en este trayecto, el teorema de Bernoulli indica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12 / 2g + Z1 = Ps2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+ V22 / 2g + Z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s1 y Ps2 = presiones estáticas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1 y V2 = velocidad del fluido en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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= densidad del air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g = aceleración de graveda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Z1 y Z2 = altura geodésica de los puntos 1 y 2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eso específico: peso G del aire en una unidad de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= G / v en kg/m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l peso específico usado en ventilación de minas es 1,2 kg/m3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Este es el peso de 1 metro cúbico de aire, con la presión de 1 atmósfera a una temperatura de 15 °C y una humedad de 60 %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Indica cuantas veces un gas es más pesado o más liviano que el 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ámetros básic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olumen específico: es el volumen v expresado en metros cúbicos ocupado por un kilogramo de aire a una presión y temperatura dad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v = 1 / G m3 / k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Presión: se expresa en atmósferas absolut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Una atmósfera absoluta es la presión p0 = 1,0333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kg / cm2 de una columna de 760 mm de mercurio a 0°C y al nivel del ma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Con el cambio de altura y de temperatura, la presión va cambiando.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og p = log p0 - a / ( 18,04 - 0,667 t )  dond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0 = presión a nivel del mar de 760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  = altura sobre el nivel del mar en metro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  = presión en la altura a en mm de mercuri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    = temperatura media del aire entre el nivel del mar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y el punto conside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362320" y="3962520"/>
          <a:ext cx="4933800" cy="311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962520"/>
                    <a:ext cx="49338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Temperatura: se expresa en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considera como temperatura normal 15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alor específico: cantidad de calor (en calorías) que se necesita para calentar 1 kg de gas de 0 a 1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-19872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ara calentar G kilos de gas de la temperatura t1 a t2, se necesitan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W = G x c x ( t2 - t1 ) en que c = calor específic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24 a presión constante en kcal / kg x °C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 = 0,17 a volumen constan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Viscocidad: resistencia del aire a los esfuerzos tangencial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utiliza en ventilación para una temperatura de 15 °C un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,44 x 10 E-5 m2/seg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ES BASICAS DE LOS GASES ( recordatorio 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Boyle Mariotte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temperatura constante p1/p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Gay Luss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presión constante T1/T2 = v1/v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a volumen constante p1/p2 = T1/T2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1/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on el aumento o disminución de la temperatura en un grado el volumen del gas aumenta o disminuye 1/273 de su volume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Se demuestra que v2 = v1 x (1+ 0,00366 t)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a combinación de las leyes de Boyle Mariotte y de Gay Lussac conduce a la “ecuación general de estado de los gases perfectos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x v = R x T = cte en que R constante que depende de la clase de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R = 29,27 para aire seco y 47,1 para vapor de agua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Ley de Dalton: la presión de una mezcla de gases y vapor de agua es igual a la suma de las presiones parciales que tendría cada gas por separad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p</a:t>
            </a:r>
            <a:r>
              <a:rPr b="1" lang="es-ES_tradnl" sz="1200" spc="-1" strike="noStrike">
                <a:solidFill>
                  <a:srgbClr val="ffffff"/>
                </a:solidFill>
                <a:latin typeface="Arial Black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35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Black"/>
              </a:rPr>
              <a:t>PROPIEDADES FISICAS DEL AI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296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eso específico del aire:  como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1/v y v = R x T/ 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por lo qu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 = p/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rigor el aire no es un gas perfecto. Es compresible y viscoso, pero en ventilación de minas se acerca mucho a un gas perfecto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un gas real p x v/ T = R x Z en que Z es el factor de compresibilid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l factor de compresibilidad depende de la temperatura y de la presión del ga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En ventilación de minas exageradamente  se podría llegar a 1000 mm de c.a. equivalente a 0,1 kg/cm2, en cuyo caso el valor de Z sigue siendo 1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00:47:55Z</dcterms:created>
  <dc:creator>Gustavo Reyes B.</dc:creator>
  <dc:description/>
  <dc:language>en-US</dc:language>
  <cp:lastModifiedBy>Minas</cp:lastModifiedBy>
  <dcterms:modified xsi:type="dcterms:W3CDTF">2002-08-16T23:44:05Z</dcterms:modified>
  <cp:revision>19</cp:revision>
  <dc:subject/>
  <dc:title>PROPIEDADES FISICAS DEL AIRE</dc:title>
</cp:coreProperties>
</file>