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901-AD6C-4BE2-9686-FF6D313A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7BD-10C8-4EF2-83AE-D650D7A7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D18-469D-42B1-95CB-36688AA1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CD3-179F-4E2F-AD44-EB9F556C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04C2-2850-438F-B862-BD790AE7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5537-D7B2-4708-9F4E-86B659F8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B508-7A31-4CDD-8D53-899D02FD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A209-DCF4-47C3-9850-AD1DCA08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F7ED-719A-443F-B99F-504F9C67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1AFE-0626-403E-9CC4-EC143091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F881-3FAD-4EDE-8A5B-FDB4B814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70B-C6D2-444C-8DAC-D771D13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B530-234D-4F83-8585-8EAD8098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C16F-BF66-4917-ADAA-9194738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42D5-75B1-4155-AB33-8D156EEA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6C80-B3AF-4228-A197-5486471E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55B7-9AA5-4A80-BAB6-592CA09A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BDA-4D4A-41BB-8C56-2E23DEA4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FC3-0C9D-4DB6-9560-D550DCF6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CC0-9349-4CF6-9A02-7714DA5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B71-0B5C-4C8A-AFD7-CDAC28DF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F31-14E2-4B16-93E6-202FE613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7D1-ECD3-4673-AC0D-5EE6436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71C-BD80-48B2-B1BE-E0C3492A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DDB4-A67B-4D85-A961-EF037C7BDF3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A870-3106-417D-BCD2-C06C9CE35DF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aire de las minas se asemeja a los gases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rfectos en cuanto a sus propiedad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Densidad: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cantidad de masa de aire contenida en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m / v = G / g x v  [kg seg 2 / m4] 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peso en kilogram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la fuerza de gravedad en m / seg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 = masa en kg x seg2 / 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olumen en metros cúbico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los efectos de las presiones usuales, el aire se considera no viscos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p / R x T , peso específico varía con la presión y la temperatur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constante si el fluido es in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variable si el fluido es 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ariación de presión: Se debe a dos motivo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diferencia de cota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; en 100 m de variación de altura la variación de presión es de 130 mm de c.a. Si es de 1000 m la presión varía en 1.300 mm de c.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pérdidas de carga ;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son muy variables y dependen del tipo de ventiladores y del tipo de instalacion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variación de temperatura puede ser importante. Una variación de 20 °C puede significar una variación del peso específico de 7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l introducir aire en una mina va a aumentar su presión y temperatura. El aumento de estos dos parámetros hace que la variación del peso específico no sea considerabl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diferencia de cota menor a 200 metros, mantiene un peso específico consta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del aire:  siempre contiene cierta   cantidad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gún la forma como se calcula la cantidad de vapor de agua tenemos dos tipos de hume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absoluta: contenido de vapor de agua en gramos en un metro cúbico de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ientras mayor es la temperatura del aire, puede contener mayor cantidad de vapor de agu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relativa: es la relación del contenido de vapor de agua en gramos por metro cúbico con el máximo posible que pueda contener a una temperatura dada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hay 10,4 gr/m3 de vapor de agua a una temperatura de 15 °C y a una presión normal de 760 mm de Hg, el contenido máximo de vapor de agua (en el punto de saturación) a esa temperatura es de 12,8 gr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humedad relativa = (10,4 / 12,8) x 100 = 81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humedad relativa del aire se mide con el psicómetro y el higrómetr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ovimiento d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el aire se mueve lentamente las líneas de flujo que lo componen, no se mezclan entre sí y se mueven paralelame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e tipo de flujo es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la velocidad del aire aumenta, las líneas de flujo comienzan a mezclarse entre si, formando un torbellino. Es un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minería el movimiento del aire es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movimientos de los fluidos se determina a     través del número de Rein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D x V /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dimensión fundamental del ducto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elocidad del fluido en m / se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viscocidad cinemática en m2 / 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lt; 2.000 es flujo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2.000 &lt; Re &lt; 4.000 es flujo intermed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gt; 4.000 es flujo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V = 1 m/seg, D = 2 m y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2/seg a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1 x 2 x 10E5 / 1,44 = 139.000 =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presión en el interior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velocidad del aire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l caudal de aire en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queda de tare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orema de Bernoulli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ablece el principio de conservación de la energ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altura de carga total es igual a la suma de las alturas de: carga estática = altura de presió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cinética = altura de veloci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de elevación = altura geodésic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t = Hs + Hv + Hz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emplazando las alturas de carga en función de las presiones en un lugar 1 del movimiento del fluido se tien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t = Ps1 + Pv1 + Pz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siderando el movimiento del fluido dentro de un ducto donde se ha definido un punto 1 y determinamos otro punto 2, sin tener agregación ni pérdida de fluido en este trayecto, el teorema de Bernoulli indica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12 / 2g + Z1 = Ps2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22 / 2g + Z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 y Ps2 = presiones estáticas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1 y V2 = velocidad del fluido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densidad del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grave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Z1 y Z2 = altura geodésica de los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eso específico: peso G del aire en 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= G / v en kg/m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l peso específico usado en ventilación de minas es 1,2 kg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te es el peso de 1 metro cúbico de aire, con la presión de 1 atmósfera a una temperatura de 15 °C y una humedad de 60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ndica cuantas veces un gas es más pesado o más liviano que 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olumen específico: es el volumen v expresado en metros cúbicos ocupado por un kilogramo de aire a una presión y temperatura dad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 = 1 / G m3 / k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resión: se expresa en atmósferas absolut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Una atmósfera absoluta es la presión p0 = 1,0333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kg / cm2 de una columna de 760 mm de mercurio a 0°C y al nivel del ma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n el cambio de altura y de temperatura, la presión va cambiando.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og p = log p0 - a / ( 18,04 - 0,667 t )  don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0 = presión a nivel del mar de 760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  = altura sobre el nivel del mar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  = presión en la altura a en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    = temperatura media del aire entre el nivel del mar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y el punto conside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62320" y="3962520"/>
          <a:ext cx="493380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962520"/>
                    <a:ext cx="49338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mperatura: se expresa en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considera como temperatura normal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lor específico: cantidad de calor (en calorías) que se necesita para calentar 1 kg de gas de 0 a 1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calentar G kilos de gas de la temperatura t1 a t2, se necesitan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W = G x c x ( t2 - t1 ) en que c = calor específic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24 a presión constante en kcal / kg x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17 a volumen consta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iscocidad: resistencia del aire a los esfuerzos tangencial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utiliza en ventilación para una temperatura de 15 °C un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 m2/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ES BASICAS DE LOS GASES ( recordatorio 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Boyle Mariott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temperatura constante p1/p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Gay Luss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presión constante T1/T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volumen constante p1/p2 = T1/T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 el aumento o disminución de la temperatura en un grado el volumen del gas aumenta o disminuye 1/273 de su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demuestra que v2 = v1 x (1+ 0,00366 t)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combinación de las leyes de Boyle Mariotte y de Gay Lussac conduce a la “ecuación general de estado de los gases perfectos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x v = R x T = cte en que R constante que depende de la clase de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 = 29,27 para aire seco y 47,1 para vapor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Dalton: la presión de una mezcla de gases y vapor de agua es igual a la suma de las presiones parciales que tendría cada gas por sepa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p</a:t>
            </a:r>
            <a:r>
              <a:rPr b="1" lang="es-ES_tradnl" sz="12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so específico del aire:  como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/v y v = R x T/ 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or lo qu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p/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rigor el aire no es un gas perfecto. Es compresible y viscoso, pero en ventilación de minas se acerca mucho a un gas perfec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un gas real p x v/ T = R x Z en que Z es el factor de compresibili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factor de compresibilidad depende de la temperatura y de la presión del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ventilación de minas exageradamente  se podría llegar a 1000 mm de c.a. equivalente a 0,1 kg/cm2, en cuyo caso el valor de Z sigue siendo 1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0:47:55Z</dcterms:created>
  <dc:creator>Gustavo Reyes B.</dc:creator>
  <dc:description/>
  <dc:language>en-US</dc:language>
  <cp:lastModifiedBy>Minas</cp:lastModifiedBy>
  <dcterms:modified xsi:type="dcterms:W3CDTF">2002-08-16T23:44:05Z</dcterms:modified>
  <cp:revision>19</cp:revision>
  <dc:subject/>
  <dc:title>PROPIEDADES FISICAS DEL AIRE</dc:title>
</cp:coreProperties>
</file>