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1B0-EA27-45B4-868E-309F3CCC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A67-6FD9-4F1F-8618-ADFC3DB9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CD8-29DD-4E7F-8E35-AE5E8F97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A39-8971-477F-B741-0F0008B0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17D6-13EC-4264-BE59-B6B54D35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46EE-DE2D-4259-9513-D9671A28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B89C-E01B-40D9-A441-E26683F7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DD75-74F0-495A-AC9E-87ACE021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D747-EF0E-4A01-BB96-C4B8B738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56FA-4736-45A0-86C3-438B4838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1219-6ED1-4ACD-8AED-8A833658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849-167E-427C-AE26-3BFA973A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2AB-FE8E-49F8-A648-308F702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7361-462A-4A14-A523-723E0CD2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7C98-5DE5-4078-BEF9-D6B71091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34DF-E5E3-427E-B557-09AF2139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818E-53B3-479C-B903-54770DC4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0D8-C566-4BEB-BE33-1A06C416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B0D-F542-4972-BCBB-E054D589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77F-E35F-4B09-A6EB-2F5B0927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E43-9666-493D-8073-A599307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0FC-8FCD-44B2-B12E-7E1C1DC3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D7B-01A2-417D-B403-89686D23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0F9-A937-4D06-BB17-E4765F6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6A7-97F7-4F50-A9F6-E3EDD78F9A0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71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A6A1-6535-4E3D-B020-70BA66CC98F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aire de las minas se asemeja a los gases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rfectos en cuanto a sus propiedad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Densidad: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cantidad de masa de aire contenida en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m / v = G / g x v  [kg seg 2 / m4] 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peso en kilogram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la fuerza de gravedad en m / seg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 = masa en kg x seg2 / 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olumen en metros cúbico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los efectos de las presiones usuales, el aire se considera no viscos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p / R x T , peso específico varía con la presión y la temperatur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constante si el fluido es in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variable si el fluido es 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ariación de presión: Se debe a dos motivo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diferencia de cota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; en 100 m de variación de altura la variación de presión es de 130 mm de c.a. Si es de 1000 m la presión varía en 1.300 mm de c.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pérdidas de carga ;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son muy variables y dependen del tipo de ventiladores y del tipo de instalacion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variación de temperatura puede ser importante. Una variación de 20 °C puede significar una variación del peso específico de 7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l introducir aire en una mina va a aumentar su presión y temperatura. El aumento de estos dos parámetros hace que la variación del peso específico no sea considerabl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diferencia de cota menor a 200 metros, mantiene un peso específico consta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del aire:  siempre contiene cierta   cantidad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gún la forma como se calcula la cantidad de vapor de agua tenemos dos tipos de hume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absoluta: contenido de vapor de agua en gramos en un metro cúbico de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ientras mayor es la temperatura del aire, puede contener mayor cantidad de vapor de agu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relativa: es la relación del contenido de vapor de agua en gramos por metro cúbico con el máximo posible que pueda contener a una temperatura dada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hay 10,4 gr/m3 de vapor de agua a una temperatura de 15 °C y a una presión normal de 760 mm de Hg, el contenido máximo de vapor de agua (en el punto de saturación) a esa temperatura es de 12,8 gr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humedad relativa = (10,4 / 12,8) x 100 = 81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humedad relativa del aire se mide con el psicómetro y el higrómetr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ovimiento d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el aire se mueve lentamente las líneas de flujo que lo componen, no se mezclan entre sí y se mueven paralelame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e tipo de flujo es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la velocidad del aire aumenta, las líneas de flujo comienzan a mezclarse entre si, formando un torbellino. Es un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minería el movimiento del aire es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movimientos de los fluidos se determina a     través del número de Rein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D x V /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dimensión fundamental del ducto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elocidad del fluido en m / se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viscocidad cinemática en m2 / 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lt; 2.000 es flujo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2.000 &lt; Re &lt; 4.000 es flujo intermed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gt; 4.000 es flujo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V = 1 m/seg, D = 2 m y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2/seg a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1 x 2 x 10E5 / 1,44 = 139.000 =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presión en el interior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velocidad del aire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l caudal de aire en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queda de tare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orema de Bernoulli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ablece el principio de conservación de la energ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altura de carga total es igual a la suma de las alturas de: carga estática = altura de presió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cinética = altura de veloci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de elevación = altura geodésic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t = Hs + Hv + Hz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emplazando las alturas de carga en función de las presiones en un lugar 1 del movimiento del fluido se tien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t = Ps1 + Pv1 + Pz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siderando el movimiento del fluido dentro de un ducto donde se ha definido un punto 1 y determinamos otro punto 2, sin tener agregación ni pérdida de fluido en este trayecto, el teorema de Bernoulli indica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12 / 2g + Z1 = Ps2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22 / 2g + Z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 y Ps2 = presiones estáticas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1 y V2 = velocidad del fluido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densidad del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grave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Z1 y Z2 = altura geodésica de los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eso específico: peso G del aire en 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= G / v en kg/m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l peso específico usado en ventilación de minas es 1,2 kg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te es el peso de 1 metro cúbico de aire, con la presión de 1 atmósfera a una temperatura de 15 °C y una humedad de 60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ndica cuantas veces un gas es más pesado o más liviano que 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olumen específico: es el volumen v expresado en metros cúbicos ocupado por un kilogramo de aire a una presión y temperatura dad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 = 1 / G m3 / k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resión: se expresa en atmósferas absolut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Una atmósfera absoluta es la presión p0 = 1,0333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kg / cm2 de una columna de 760 mm de mercurio a 0°C y al nivel del ma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n el cambio de altura y de temperatura, la presión va cambiando.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og p = log p0 - a / ( 18,04 - 0,667 t )  dond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0 = presión a nivel del mar de 760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  = altura sobre el nivel del mar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  = presión en la altura a en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    = temperatura media del aire entre el nivel del mar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y el punto conside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62320" y="3962520"/>
          <a:ext cx="493380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962520"/>
                    <a:ext cx="49338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mperatura: se expresa en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considera como temperatura normal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lor específico: cantidad de calor (en calorías) que se necesita para calentar 1 kg de gas de 0 a 1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calentar G kilos de gas de la temperatura t1 a t2, se necesitan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W = G x c x ( t2 - t1 ) en que c = calor específic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24 a presión constante en kcal / kg x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17 a volumen consta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iscocidad: resistencia del aire a los esfuerzos tangencial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utiliza en ventilación para una temperatura de 15 °C un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 m2/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ES BASICAS DE LOS GASES ( recordatorio 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Boyle Mariott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temperatura constante p1/p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Gay Luss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presión constante T1/T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volumen constante p1/p2 = T1/T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 el aumento o disminución de la temperatura en un grado el volumen del gas aumenta o disminuye 1/273 de su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demuestra que v2 = v1 x (1+ 0,00366 t)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combinación de las leyes de Boyle Mariotte y de Gay Lussac conduce a la “ecuación general de estado de los gases perfectos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x v = R x T = cte en que R constante que depende de la clase de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 = 29,27 para aire seco y 47,1 para vapor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Dalton: la presión de una mezcla de gases y vapor de agua es igual a la suma de las presiones parciales que tendría cada gas por sepa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p</a:t>
            </a:r>
            <a:r>
              <a:rPr b="1" lang="es-ES_tradnl" sz="12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so específico del aire:  como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/v y v = R x T/ 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or lo qu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p/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rigor el aire no es un gas perfecto. Es compresible y viscoso, pero en ventilación de minas se acerca mucho a un gas perfec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un gas real p x v/ T = R x Z en que Z es el factor de compresibili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factor de compresibilidad depende de la temperatura y de la presión del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ventilación de minas exageradamente  se podría llegar a 1000 mm de c.a. equivalente a 0,1 kg/cm2, en cuyo caso el valor de Z sigue siendo 1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00:47:55Z</dcterms:created>
  <dc:creator>Gustavo Reyes B.</dc:creator>
  <dc:description/>
  <dc:language>en-US</dc:language>
  <cp:lastModifiedBy>Minas</cp:lastModifiedBy>
  <dcterms:modified xsi:type="dcterms:W3CDTF">2002-08-16T23:44:05Z</dcterms:modified>
  <cp:revision>19</cp:revision>
  <dc:subject/>
  <dc:title>PROPIEDADES FISICAS DEL AIRE</dc:title>
</cp:coreProperties>
</file>