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7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900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FE6E4B-3131-40A4-B320-6E885DF45D12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372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299ACB-DCD5-4745-969E-7D15D4F722C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6840" y="876096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C42D7B-1C5C-4E93-A08D-DE09DA11284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8620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8709120"/>
            <a:ext cx="2971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472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55640"/>
            <a:ext cx="50292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620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0" y="870912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5924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1150920" y="693720"/>
            <a:ext cx="455616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25B-76A9-46A8-916F-F6BF5BD8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DD60-4F9F-4D0E-B6DD-6819C4D1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6735-A3A8-4F19-8F34-D0F4F424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C9C-B1E4-4392-9DBA-977AF494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2AD-7AAC-47F2-9B6C-5024BB63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680-E0C2-4114-806C-3FE204B6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000-7706-4CD3-B99F-B8CEB938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BFA-7CEA-455B-B116-5D1BFE02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795-AD10-4847-84A5-0FA84B43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172-C0CC-4ED4-98D9-CF49F15A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0C4-D7D4-4ACA-BF74-B6F5691D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619-4403-4617-8263-DEC097E3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F42CA42-3F5F-491B-9793-45F1B7F9F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28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2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ISTEMA  DE  ADMINISTRACIÓN 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NTENIMIENTO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estión  de  los 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9600" y="365040"/>
            <a:ext cx="878976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de la falla de un equipo que involucra la deten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imiento correctivo 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o de obra, repuestos, materiales, herramientas, equip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rvici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  es una característica de la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No disponibilidad de la unidad  productiva a la que per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equipo  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 que se deja de ganar, pérdida eventual de materia pri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por castigos por atrasos en la entreg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 es una característica de la unidad produ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=  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2840" y="365040"/>
            <a:ext cx="7870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.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to de la falla en relación con la cantidad de ho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funcio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514600"/>
            <a:ext cx="4343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73080" y="4541760"/>
            <a:ext cx="47721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 +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=  ------------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BF + T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3680" y="1812960"/>
            <a:ext cx="428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                                      T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0200" y="3336840"/>
            <a:ext cx="611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BF = tiempo  de  buen funcionamiento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R = tiempo  total de reparación  (ho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20" y="212760"/>
            <a:ext cx="850752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:  “Equipo de interés para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 equipo,  conjunto  de  equipos o subconjun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quipo para el cual se desea llevar control detall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su mantenimiento.  Todo el Activo Fijo  de la empre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 representado por los EDI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ORMACION  ASOCI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ísticas técnicas y de la 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trabajo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storial de Costos, gasto anual, gasto acumu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 de Mantenimiento (preventivo, predi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uest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DIM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se pueden agregar en Familias  y  Grup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ales  y desagregar en  Componentes 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Mantención,  Subconjuntos  y  Re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84080" y="-81000"/>
            <a:ext cx="57718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CATALOGO DE EQUIPOS</a:t>
            </a:r>
            <a:br>
              <a:rPr sz="36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240" y="1273320"/>
            <a:ext cx="8577360" cy="54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ISTA CODIFICADA DE MAQUINAS E INSTALACION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ACTERISTICAS TECNIC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DESCRIPCIÓN  FUN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FORMACION DE COMPRA,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GARANTÍA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Y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EMPLA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REPUEST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TALOGO DE COMPONENTES 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REPARAB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UPOS OPERACIONA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MAN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ISTORIAL DE FALL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GISTRO DEL MEDIDOR DE UTILIZA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ACUMUL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STO DE LA HORA DE DETENC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IORIDAD OPERACION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bajo  de  Grupo  Nº  5</a:t>
            </a:r>
            <a:br>
              <a:rPr sz="3600"/>
            </a:b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Arial"/>
              </a:rPr>
              <a:t>Definición de equpos de interés para manten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LANIFICACION  DE  LA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An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Planificación  T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dc0081"/>
                </a:solidFill>
                <a:latin typeface="Arial"/>
              </a:rPr>
              <a:t>PLANIFICACION   DE   </a:t>
            </a:r>
            <a:r>
              <a:rPr b="1" lang="es-MX" sz="2400" spc="-1" strike="noStrike">
                <a:solidFill>
                  <a:srgbClr val="dc0081"/>
                </a:solidFill>
                <a:latin typeface="Arial"/>
              </a:rPr>
              <a:t>TRABAJ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3530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PRODUCTIVIDAD DEL RECURS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OPTIMIZAR RECURSOS 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MANTENIBILIDAD Y DISPONIBILIDAD DE LOS SISTEMA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EJORAR LA SEGURIDAD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537240" y="1981080"/>
          <a:ext cx="25304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7240" y="1981080"/>
                    <a:ext cx="25304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-37440"/>
            <a:ext cx="8489880" cy="11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Arial"/>
              </a:rPr>
              <a:t>PLANIFICACION  De La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2960" y="914400"/>
            <a:ext cx="76741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L  MANTENIMIEN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VENTIVO:  SISTEMATICO  Y 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DE  TRA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corrientes, repetitivos, cícl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arios,  correctivos,  preventivos, predi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IFICACION 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mat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nóstico  de 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4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SUPUESTO AN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tegrado al presupuest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5.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LANES  TA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 5 años, integrados al Plan  de In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583560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IFICACION DETALLADA 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BAJOS DE MANTENCION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828800"/>
            <a:ext cx="80773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900" spc="-1" strike="noStrike" u="sng">
                <a:solidFill>
                  <a:srgbClr val="ff0066"/>
                </a:solidFill>
                <a:uFillTx/>
                <a:latin typeface="Arial"/>
              </a:rPr>
              <a:t>CONTENI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LIZACION DEL MEJOR METODO 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ENERALIZACION DE SU U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IMACION EN HH POR ESPECIALIDAD Y EN   CO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O DE ESTANDARES PARA ESTIMAR 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S CON PRECIS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DENTIFICACION DE DIVERSOS NIVEL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CION SEGUN LA IMPORTANCIA DE LOS   TRABAJ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IVO PERMAN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PLANES DE TRABA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TROALIMENTACION A LOS PLANE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O EN BASE A LA REALIDAD DE SU   EJECU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200" y="334800"/>
            <a:ext cx="875916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 UNA  BUENA PLANIFICACION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 REQUI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L  ESTUDIO  DE  MET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 ESTUDIO DE METODOS ES EL REGISTRO, ANALISIS 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EN CRITICO SISTEMATICO DE LOS MODOS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PROPUESTOS DE LLEVAR A CABO UN TRABAJO, Y 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RROLLO Y APLICACIÓN DE METODOS MAS SENCIL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 EFIC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A MEDIDA DEL TRA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MEDIDA DEL TRABAJO ES LA APLICACIÓN DE TECN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TERMINAR EL CONTENIDO DE TRABAJO DE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EA DEFINIDA,  FIJANDO EL TIEMPO QUE UN TRABAJ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ICADO  INVIERTE EN LLEVARLA  A  CABO CON  ARREG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UNA NORMA DE RENDIMIENTO PRESTABLE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046240" y="304920"/>
          <a:ext cx="529596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6240" y="304920"/>
                    <a:ext cx="529596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CRIPCION  Y  ESTIMACION  (Có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es  o tareas  que  lo  constituy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ciones de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ción del tiempo para realizarlo 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H  por especi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ción en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 de  detención  del equip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IFICACION  DE  TRABAJOS  DE  MANTENCION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S NECESARIOS  (Con qu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   Repuestos y materiales  (Cantidad  y  c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   Herramientas, instrumentos  especiales, elem.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   Equipos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   Otr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   (Cot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o de obra  (HH)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eriales y repuestos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quipos de servicio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gastos                     $   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otal                                 $........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60199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220320"/>
            <a:ext cx="7908840" cy="7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NDARES PARA  TRABAJO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2880" y="1401840"/>
            <a:ext cx="835668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RESENTAN  EL  TIEMPO PROMEDIO QUE   NECESITA  U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ABAJADOR  CALIFICADO,  TRABAJANDO  A  RITMO  NORMAL,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TIDO A UNA ADECUADA  SUPERVISION  Y  SUJETO A 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MORAS  NORMALES,  PARA  REALIZAR UNA CANTIDAD  DEFINI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 TRABAJOS  DE  CALIDAD  ESPECIFICADA  SIGUIENDO  METO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CEPTABLES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ES  LA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CANTIDAD  DE  TIEMP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NECESARIA  PARA  REALIZA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N  DETERMINADO  TRABAJ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N  UNA 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HERRAMIENTA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USADA  POR LOS  PLANIFICAD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HACER 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ESTIMACIONE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ORRECTAS DE  LAS   HH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CESARI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727360" y="228600"/>
          <a:ext cx="4587840" cy="609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228600"/>
                    <a:ext cx="45878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362320" y="0"/>
          <a:ext cx="60404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60404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9560" y="-144720"/>
            <a:ext cx="83124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EJERCICIO  CORRECTO  DE  LA  PLANIFICACION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DE  LOS  TRABAJOS  ES  QUE  NO  SE  EJECUTE</a:t>
            </a:r>
            <a:br>
              <a:rPr sz="2400"/>
            </a:b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NINGU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ABAJO  SIN  UNA  PLANIFICACION  PRE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2160" y="1401840"/>
            <a:ext cx="76496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O  TODOS  LOS  TRABAJOS  SE  PUEDEN  NI  DEBE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LANIFICAR  CON  UN  MISMO 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NIVEL  DE  DETAL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N  EMBARGO:  TODOS  LOS  TRABAJOS  DEBEN  ESTIMARS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A  ESTIMACION  SIRVE PARA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PROGRAM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 u="sng">
                <a:solidFill>
                  <a:srgbClr val="fc0128"/>
                </a:solidFill>
                <a:uFillTx/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 CONTROLAR  LA  CARGA  DE  TRABAJO  PENDI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DEFINIR LA DOTACION  DE 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PRODUCTIVIDA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REALIZAR  EL  PRESUPUES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OLAR  LA  CALIDAD  DE  LA  PLANIFIC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-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OCER  LA  NECESIDAD  DE  SOBRETIEMPO  Y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fc0128"/>
                </a:solidFill>
                <a:latin typeface="Arial"/>
              </a:rPr>
              <a:t>CONTRATIST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7640" y="243000"/>
            <a:ext cx="75978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TODOS   DE    ESTI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1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XPERIENCIA   DEL  PLAN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2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EGISTRO   DEL  TIEMPO   REAL  DE   LAS   OT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JECUT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lculo   del  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ción  del   promedio  a  trabajos   simi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3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ANDARES  TECNICOS   PREDETERMINAD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PD   Sistemas  de  Normas  de  Tiemp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determin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tm   medición  de  tiempos -  mé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4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ESTUDIOS   DE 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5.-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CLASIFICACION   DE  TRABAJOS  EQUIVALENTES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RANG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(Uso  de  formulario   clasificador  de  trabaj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4120" y="138240"/>
            <a:ext cx="7270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DO  DE  PRECISION  EN  LOS  ESTAND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8080" y="2444760"/>
            <a:ext cx="166356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44560" y="198756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2901960"/>
            <a:ext cx="67284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682640"/>
            <a:ext cx="3340080" cy="3264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8760" y="130176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8840" y="2521080"/>
            <a:ext cx="1663920" cy="1663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2063880"/>
            <a:ext cx="2654280" cy="2654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26040" y="2978280"/>
            <a:ext cx="67320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760" y="1758960"/>
            <a:ext cx="3340080" cy="3263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25840" y="1378080"/>
            <a:ext cx="4025880" cy="394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716040"/>
            <a:ext cx="1983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89920" y="792000"/>
            <a:ext cx="1942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200" y="5440320"/>
            <a:ext cx="387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OS  DE  UN 4%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VIACION  EN TAREA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S DE 120 H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94120" y="5594400"/>
            <a:ext cx="2480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181480" y="3352320"/>
            <a:ext cx="121932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1371600"/>
            <a:ext cx="914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5%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35200" y="170028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1520" y="2079720"/>
            <a:ext cx="58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8200" y="2614680"/>
            <a:ext cx="497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4840" y="3757680"/>
            <a:ext cx="90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5200" y="4290840"/>
            <a:ext cx="81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2240" y="467208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12240" y="4975200"/>
            <a:ext cx="729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 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28600" y="3276360"/>
            <a:ext cx="1371600" cy="2361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3276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  ENTRE  ESTANDARES  PARA  PRODUCCION  Y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 DE TIEMPO LAR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EAS  DISTINTAS, NO REPETITI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ETODO COMUNMENTE ACEPTADO NO ES EL QUE S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CONTENIDO VARIABLE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.-LOS TRABAJOS GRANDES SON MAS PRECI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OS DE TIEMPO COR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ES RE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EX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IDO EXACTO D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  PREC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57200"/>
            <a:ext cx="7118640" cy="60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EFINCIÓN  DE  LOS  ACTIVOS POR  MANTE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2676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º   proce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stión  DE   LOS  ACTIVOS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nálisis 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minos  Críticos  de  Producción  y  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quipo  de  Interés  para  Mantención (EDI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fc0128"/>
                </a:solidFill>
                <a:latin typeface="Arial"/>
              </a:rPr>
              <a:t>CAJONERA  PARA  SLO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990720" y="236196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9907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12952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010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29600" y="12952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086600" y="3962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29600" y="3886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96080" y="40384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696080" y="5105160"/>
            <a:ext cx="1219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67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14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3623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4479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810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5146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971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581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11480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724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334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867280" y="1295280"/>
            <a:ext cx="121932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477120" y="1295280"/>
            <a:ext cx="121896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0060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53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86600" y="1295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96080" y="1295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1055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6172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83200" y="5105520"/>
            <a:ext cx="133560" cy="1047600"/>
          </a:xfrm>
          <a:custGeom>
            <a:avLst/>
            <a:gdLst/>
            <a:ahLst/>
            <a:rect l="l" t="t" r="r" b="b"/>
            <a:pathLst>
              <a:path w="84" h="660">
                <a:moveTo>
                  <a:pt x="23" y="0"/>
                </a:moveTo>
                <a:cubicBezTo>
                  <a:pt x="15" y="86"/>
                  <a:pt x="0" y="145"/>
                  <a:pt x="23" y="228"/>
                </a:cubicBezTo>
                <a:cubicBezTo>
                  <a:pt x="27" y="242"/>
                  <a:pt x="41" y="251"/>
                  <a:pt x="47" y="264"/>
                </a:cubicBezTo>
                <a:cubicBezTo>
                  <a:pt x="57" y="287"/>
                  <a:pt x="63" y="312"/>
                  <a:pt x="71" y="336"/>
                </a:cubicBezTo>
                <a:cubicBezTo>
                  <a:pt x="75" y="348"/>
                  <a:pt x="83" y="372"/>
                  <a:pt x="83" y="372"/>
                </a:cubicBezTo>
                <a:cubicBezTo>
                  <a:pt x="79" y="408"/>
                  <a:pt x="84" y="446"/>
                  <a:pt x="71" y="480"/>
                </a:cubicBezTo>
                <a:cubicBezTo>
                  <a:pt x="29" y="584"/>
                  <a:pt x="33" y="392"/>
                  <a:pt x="23" y="528"/>
                </a:cubicBezTo>
                <a:cubicBezTo>
                  <a:pt x="20" y="572"/>
                  <a:pt x="23" y="616"/>
                  <a:pt x="23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6172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5105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5124600"/>
            <a:ext cx="114480" cy="1047600"/>
          </a:xfrm>
          <a:custGeom>
            <a:avLst/>
            <a:gdLst/>
            <a:ahLst/>
            <a:rect l="l" t="t" r="r" b="b"/>
            <a:pathLst>
              <a:path w="72" h="660">
                <a:moveTo>
                  <a:pt x="12" y="0"/>
                </a:moveTo>
                <a:cubicBezTo>
                  <a:pt x="20" y="24"/>
                  <a:pt x="28" y="48"/>
                  <a:pt x="36" y="72"/>
                </a:cubicBezTo>
                <a:cubicBezTo>
                  <a:pt x="40" y="84"/>
                  <a:pt x="44" y="96"/>
                  <a:pt x="48" y="108"/>
                </a:cubicBezTo>
                <a:cubicBezTo>
                  <a:pt x="52" y="120"/>
                  <a:pt x="56" y="132"/>
                  <a:pt x="60" y="144"/>
                </a:cubicBezTo>
                <a:cubicBezTo>
                  <a:pt x="64" y="156"/>
                  <a:pt x="72" y="180"/>
                  <a:pt x="72" y="180"/>
                </a:cubicBezTo>
                <a:cubicBezTo>
                  <a:pt x="60" y="272"/>
                  <a:pt x="30" y="354"/>
                  <a:pt x="12" y="444"/>
                </a:cubicBezTo>
                <a:cubicBezTo>
                  <a:pt x="29" y="512"/>
                  <a:pt x="55" y="605"/>
                  <a:pt x="0" y="6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696080" y="510516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45720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58080" y="4781520"/>
            <a:ext cx="403200" cy="285840"/>
          </a:xfrm>
          <a:custGeom>
            <a:avLst/>
            <a:gdLst/>
            <a:ahLst/>
            <a:rect l="l" t="t" r="r" b="b"/>
            <a:pathLst>
              <a:path w="254" h="180">
                <a:moveTo>
                  <a:pt x="0" y="180"/>
                </a:moveTo>
                <a:cubicBezTo>
                  <a:pt x="72" y="108"/>
                  <a:pt x="137" y="87"/>
                  <a:pt x="228" y="48"/>
                </a:cubicBezTo>
                <a:cubicBezTo>
                  <a:pt x="254" y="9"/>
                  <a:pt x="252" y="26"/>
                  <a:pt x="25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4971960"/>
            <a:ext cx="133560" cy="95400"/>
          </a:xfrm>
          <a:custGeom>
            <a:avLst/>
            <a:gdLst/>
            <a:ahLst/>
            <a:rect l="l" t="t" r="r" b="b"/>
            <a:pathLst>
              <a:path w="84" h="60">
                <a:moveTo>
                  <a:pt x="0" y="60"/>
                </a:moveTo>
                <a:cubicBezTo>
                  <a:pt x="57" y="41"/>
                  <a:pt x="37" y="23"/>
                  <a:pt x="8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9000" y="575316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15" y="203"/>
                  <a:pt x="7" y="191"/>
                  <a:pt x="60" y="156"/>
                </a:cubicBezTo>
                <a:cubicBezTo>
                  <a:pt x="68" y="140"/>
                  <a:pt x="77" y="124"/>
                  <a:pt x="84" y="108"/>
                </a:cubicBezTo>
                <a:cubicBezTo>
                  <a:pt x="89" y="96"/>
                  <a:pt x="87" y="81"/>
                  <a:pt x="96" y="72"/>
                </a:cubicBezTo>
                <a:cubicBezTo>
                  <a:pt x="124" y="44"/>
                  <a:pt x="164" y="28"/>
                  <a:pt x="192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8600" y="3211560"/>
            <a:ext cx="84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AN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9320" y="3414600"/>
            <a:ext cx="653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0                025              090                 2,5                  4,5                  24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015                050               1,5                  3,5                 6,5                  28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16680"/>
            <a:ext cx="65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          B         C         D        E           F          G          H          I                        P      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5240" y="6340320"/>
            <a:ext cx="216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ASTA  80  HOR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N  ALGUNOS    CA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6400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1295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01080" y="1295280"/>
            <a:ext cx="37800" cy="400320"/>
          </a:xfrm>
          <a:custGeom>
            <a:avLst/>
            <a:gdLst/>
            <a:ahLst/>
            <a:rect l="l" t="t" r="r" b="b"/>
            <a:pathLst>
              <a:path w="24" h="252">
                <a:moveTo>
                  <a:pt x="24" y="0"/>
                </a:moveTo>
                <a:cubicBezTo>
                  <a:pt x="5" y="96"/>
                  <a:pt x="0" y="145"/>
                  <a:pt x="0" y="2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53440" y="1314360"/>
            <a:ext cx="33120" cy="190440"/>
          </a:xfrm>
          <a:custGeom>
            <a:avLst/>
            <a:gdLst/>
            <a:ahLst/>
            <a:rect l="l" t="t" r="r" b="b"/>
            <a:pathLst>
              <a:path w="21" h="120">
                <a:moveTo>
                  <a:pt x="21" y="0"/>
                </a:moveTo>
                <a:cubicBezTo>
                  <a:pt x="0" y="63"/>
                  <a:pt x="9" y="23"/>
                  <a:pt x="9" y="12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880" y="5726160"/>
            <a:ext cx="748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OMEDIO                       0,4       070      1,2       2.0      3.0          4.0         5.0                    26         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RITME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2120" y="37800"/>
            <a:ext cx="87314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TAPAS  PARA  EL  ESTABLECIMIENTO DE  UN  SISTEMA</a:t>
            </a:r>
            <a:br>
              <a:rPr sz="2400"/>
            </a:b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  ESTANDARES  UNIVERSALES  DE 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1720" y="1401840"/>
            <a:ext cx="86173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ESTANDARES  DE 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leccionar  trabajos  representativ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rminar sus  estándares  po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diciona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 SEGMENTOS  Y  TIEMPOS 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ganizar  secuencialmente  y  determinar  l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stribución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efinir  18  segmentos  en  la  distribución  estad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Calcular  el  promedio  de  los  tiempos  de  c/ seg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ae00"/>
                </a:solidFill>
                <a:latin typeface="Arial"/>
              </a:rPr>
              <a:t>ESTE  SERA  EL  VALOR  CARACTERISTICO  DEL 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ASIGNAR  LOS  TRABAJOS  AL  SEGMENTO 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VIDAD  EN  MANTENC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SE  ENTIENDE  POR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  EL CUOCIENTE  ENTRE  LA  PRODUCCION  Y/O  SERVICIOS  OBTENIDOS  Y  LOS  RECURSOS  EMPL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         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PRODUCCION Y/ O SERV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DAD  =                       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c0128"/>
                </a:solidFill>
                <a:latin typeface="Times New Roman"/>
              </a:rPr>
              <a:t>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4876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876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371600"/>
            <a:ext cx="662940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NO  ES  PRODUCT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ICIENCIA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RAZON  ENTRE  LA  PRODUCCION  OBTENIDA  Y  LA  PRODUCCION ESTANDAR 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EL GRADO  DE  CUMPLIMIENTO  DE  LOS  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ABILIDAD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LA  RAZON  ENTRE  LOS  INGRESOS  Y  LOS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PRODUCTIVIDAD  EN  MANTEN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 ES  EL  MUESTREO  DE ACTIVIDAD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 UNA  TECNICA  PARA  DETERMINAR  DATOS   QUE  PERMITAN  MEDIR  ACTIVIDADES  DE  HOMBRES  Y/O  MAQUINAS,  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EDIANTE  OBSERVACIONES  AL  AZ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BASANDOSE  EN  LEYES  PROBABILIS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 MUESTREO  DE  ACTIVIDADES   UTILIZA 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OBSERVACION  DEL  ANAL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Y 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OS  DE  MEDIC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28600" y="4114800"/>
          <a:ext cx="168768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114800"/>
                    <a:ext cx="168768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  DE MUESTREO  DEL 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835200"/>
          <a:ext cx="7993080" cy="58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5200"/>
                    <a:ext cx="7993080" cy="58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TRIBUCION  DEL TIEMPO DE LA JORNADA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Times New Roman"/>
              </a:rPr>
              <a:t>TIEMPO TOTAL DE LA MANO DE OBRA = 8 HRS,  10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MANOS AC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a0ab3"/>
                </a:solidFill>
                <a:latin typeface="Times New Roman"/>
              </a:rPr>
              <a:t>ACTIVIDADES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EN 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ESP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E HA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AUS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MPO ATRIBU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INDISCI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RSON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REL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O CONTR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7432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038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87692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279080" y="-34920"/>
            <a:ext cx="67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uctura de tiempo de un trabajo de ma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412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4480" y="17524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4120" y="914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4120" y="38098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4480" y="541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25920" y="838080"/>
            <a:ext cx="198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BA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op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2040" y="1676520"/>
            <a:ext cx="264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una mala defin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733920"/>
            <a:ext cx="2297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deficienci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533412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EMPO 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mputable a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18720" y="2590920"/>
            <a:ext cx="263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ENIDO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UPLEM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bido a métodos inefica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447560" y="62485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85440" y="6248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905120" y="685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9120" y="685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62120" y="68580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676160" y="3276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1828800" y="327636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93240" y="2754360"/>
            <a:ext cx="1451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 total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  operación 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as condi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istent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52520" y="4049640"/>
            <a:ext cx="1157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mproduc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1828800" y="685440"/>
            <a:ext cx="0" cy="2590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3480" y="1523880"/>
            <a:ext cx="114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tenido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685800"/>
            <a:ext cx="1752480" cy="990720"/>
          </a:xfrm>
          <a:prstGeom prst="rect">
            <a:avLst/>
          </a:prstGeom>
          <a:solidFill>
            <a:srgbClr val="00ae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1676520"/>
            <a:ext cx="1752480" cy="609480"/>
          </a:xfrm>
          <a:prstGeom prst="rect">
            <a:avLst/>
          </a:prstGeom>
          <a:solidFill>
            <a:srgbClr val="e6de7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2286000"/>
            <a:ext cx="1752480" cy="990720"/>
          </a:xfrm>
          <a:prstGeom prst="rect">
            <a:avLst/>
          </a:prstGeom>
          <a:solidFill>
            <a:srgbClr val="e0c27e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0920" y="3276720"/>
            <a:ext cx="1752480" cy="1828800"/>
          </a:xfrm>
          <a:prstGeom prst="rect">
            <a:avLst/>
          </a:prstGeom>
          <a:solidFill>
            <a:srgbClr val="ea9674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5105520"/>
            <a:ext cx="1752480" cy="1143000"/>
          </a:xfrm>
          <a:prstGeom prst="rect">
            <a:avLst/>
          </a:prstGeom>
          <a:solidFill>
            <a:srgbClr val="fc0128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914400"/>
            <a:ext cx="914400" cy="533520"/>
          </a:xfrm>
          <a:prstGeom prst="leftArrow">
            <a:avLst>
              <a:gd name="adj1" fmla="val 0"/>
              <a:gd name="adj2" fmla="val 49989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48320" y="16765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251460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7339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5334120"/>
            <a:ext cx="761760" cy="609480"/>
          </a:xfrm>
          <a:prstGeom prst="leftArrow">
            <a:avLst>
              <a:gd name="adj1" fmla="val 0"/>
              <a:gd name="adj2" fmla="val 36454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bajo de Grupo N° 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ificación de Traba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MANTENCION   PREVEN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NÁLISIS  DE  FALLA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1160" y="63000"/>
            <a:ext cx="7321680" cy="15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  LOS  ACTIVO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3560" y="1779480"/>
            <a:ext cx="8231760" cy="39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 importante  para la  producción  es  la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 realizan  las 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IMIENTO DE LA 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STABLECER UN SISTEMA DE CODIFICACION PARA REGISTR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STORIA - FALLAS  -  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SIGNARLES UN NUMERO DE CUENTA PARA ACUMULAR SU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S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IR UN SISTEMA DE AGREGACION Y DESAGREGA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A EFECTOS DE PLANES DE MANTEN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fc0128"/>
                </a:solidFill>
                <a:latin typeface="Arial"/>
              </a:rPr>
              <a:t>DESCRIPCION DE PROCEDIMIENTOS</a:t>
            </a:r>
            <a:br>
              <a:rPr sz="2800"/>
            </a:b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3º   procedimien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857160" indent="-476280">
              <a:spcBef>
                <a:spcPts val="700"/>
              </a:spcBef>
              <a:spcAft>
                <a:spcPts val="700"/>
              </a:spcAft>
              <a:buClr>
                <a:srgbClr val="fc0128"/>
              </a:buClr>
              <a:buFont typeface="Monotype Sorts" charset="2"/>
              <a:buChar char="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MANTENIMIENTO PREVENTIVO, establece los alcances de las actividades de previsión indispensables para asegurar la disponibilidad de la maquinaria y la continuidad de la producción. Se basa en un buen análisis de las fallas del equi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4080" y="1133640"/>
            <a:ext cx="79146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INSPEC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EMPLAZO DE REPUESTO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REPARACIONES MEN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a0ab3"/>
                </a:solidFill>
                <a:latin typeface="Arial"/>
              </a:rPr>
              <a:t>LUBRIC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CEPTO BASIC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INSPECCIONES  PERIODICAS  PROGRAMA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S  PEQUEÑA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 EL  REEMPLAZO  DE  REPUESTOS  O  COMPON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RAN  AUMENTAR  APRECIABLE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  TIEMPO  ENTRE  GRANDES  REPAR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 AYUDARAN  </a:t>
            </a: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A  REDUCIR  O  ELIMINAR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CONSECUENCIAS  DE  LAS  FALLAS  Y  L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c0128"/>
                </a:solidFill>
                <a:latin typeface="Arial"/>
              </a:rPr>
              <a:t>PARALIZACION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L  EQUI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22200"/>
            <a:ext cx="769788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2680" y="2016000"/>
            <a:ext cx="875268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DE ANALISIS DE FALLAS PARA DEFINCIO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ITICAS DE MANTENIMIENTO  Y  DEL  CONTEN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FRECUENCIA  DE  LAS PA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SUBDIVIDIR EL EQUIPO EN NIV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LAS FALLAS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BUSCAR LAS 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* IDENTIFICAR SEÑALES DEBILES Y METOD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CARTILLAS DE MP INTEG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3960" y="380880"/>
            <a:ext cx="6359760" cy="15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Procedimiento  </a:t>
            </a:r>
            <a:br>
              <a:rPr sz="28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Mantenimiento Preventivo</a:t>
            </a:r>
            <a:br>
              <a:rPr sz="39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2080" y="2057400"/>
            <a:ext cx="8362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R MANTENCION PREDICTIVA SOBRE 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SE  DE  LOS  METODOS   DE DET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R PAUTAS PROMEDIO ESTANDAR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ABAJOS  QUE SE ORIGINAN EN LA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DI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DENTIFICACION DEL COSTO DE LAS CARTIL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FINICION DE RUTAS DE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2000" y="1444680"/>
            <a:ext cx="7425720" cy="45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PERIENCIA DE LOS MANTEN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RECOMENDACIONES DEL FABRIC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 RETROALIMENTACION DE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USO  (Histo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FRECUENCIA DE FALLAS, TASA DE FA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RIODO  DE  DESARROLLO   DE  LA 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ORDENES DE TRABAJO GENERADAS C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ULTADO DE LAS INSP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DURACION DE LOS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METIDOS A DESG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 PENAL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45920" y="42228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Relación Costo / Edad de la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219320" y="838080"/>
            <a:ext cx="0" cy="472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562720"/>
            <a:ext cx="6781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206360"/>
            <a:ext cx="4470120" cy="3517920"/>
          </a:xfrm>
          <a:custGeom>
            <a:avLst/>
            <a:gdLst/>
            <a:ahLst/>
            <a:rect l="l" t="t" r="r" b="b"/>
            <a:pathLst>
              <a:path w="2816" h="2216">
                <a:moveTo>
                  <a:pt x="0" y="2168"/>
                </a:moveTo>
                <a:cubicBezTo>
                  <a:pt x="296" y="2192"/>
                  <a:pt x="592" y="2216"/>
                  <a:pt x="912" y="2168"/>
                </a:cubicBezTo>
                <a:cubicBezTo>
                  <a:pt x="1232" y="2120"/>
                  <a:pt x="1640" y="2080"/>
                  <a:pt x="1920" y="1880"/>
                </a:cubicBezTo>
                <a:cubicBezTo>
                  <a:pt x="2200" y="1680"/>
                  <a:pt x="2448" y="1256"/>
                  <a:pt x="2592" y="968"/>
                </a:cubicBezTo>
                <a:cubicBezTo>
                  <a:pt x="2736" y="680"/>
                  <a:pt x="2752" y="304"/>
                  <a:pt x="2784" y="152"/>
                </a:cubicBezTo>
                <a:cubicBezTo>
                  <a:pt x="2816" y="0"/>
                  <a:pt x="2800" y="28"/>
                  <a:pt x="2784" y="5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12193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553080" y="990720"/>
            <a:ext cx="1524240" cy="761760"/>
          </a:xfrm>
          <a:prstGeom prst="irregularSeal2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20640" y="11541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2200" y="32767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6480" y="112860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P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7200" y="5867280"/>
            <a:ext cx="18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E 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5257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7080" y="45720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7440" y="3973680"/>
            <a:ext cx="179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RIMER SÍNTO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 FA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19720"/>
            <a:ext cx="380880" cy="533160"/>
          </a:xfrm>
          <a:custGeom>
            <a:avLst/>
            <a:gdLst>
              <a:gd name="textAreaLeft" fmla="*/ 156960 w 380880"/>
              <a:gd name="textAreaRight" fmla="*/ 223920 w 380880"/>
              <a:gd name="textAreaTop" fmla="*/ 219600 h 533160"/>
              <a:gd name="textAreaBottom" fmla="*/ 3135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09680" y="572616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5867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5867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95520" y="6031080"/>
            <a:ext cx="20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tervalo de  inspec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711440" y="-234000"/>
            <a:ext cx="57211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013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600" spc="-1" strike="noStrike">
                <a:solidFill>
                  <a:srgbClr val="0a0ab3"/>
                </a:solidFill>
                <a:latin typeface="Arial"/>
              </a:rPr>
              <a:t>Frecu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5720" y="1521000"/>
            <a:ext cx="8620560" cy="33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 FRECUENCIA  DE  LAS  TAREAS  D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TENIMIENTO  PREDICTIVO  O CON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ERA  SER  FUNCION  DEL  PERIODO 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ARROLLO  DE  LA  FAL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ambién  conocido  como  “demora  en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ducción  de  la  falla”   o   intervalo  P  -  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68920" y="1967040"/>
            <a:ext cx="2464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581280" y="1676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6294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24382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51814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-3809520" y="2973240"/>
            <a:ext cx="10362240" cy="441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5486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33720" y="2209680"/>
            <a:ext cx="3808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46880" y="1738440"/>
            <a:ext cx="465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la falla 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o necesariamente ligado a la e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11440" y="3130560"/>
            <a:ext cx="63720" cy="633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3733920" y="2971440"/>
            <a:ext cx="205740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6320" y="2424240"/>
            <a:ext cx="2913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 se pu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ar que la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poten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16320" y="4479840"/>
            <a:ext cx="2161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o en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falla 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lla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6629040" y="47242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61960" y="2652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2320" y="5241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VA  P - 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2860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5181480"/>
            <a:ext cx="685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61040" y="5364000"/>
            <a:ext cx="1132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6200000">
            <a:off x="131760" y="4369320"/>
            <a:ext cx="119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124080" y="548640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685800" y="228564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5440" y="1204920"/>
            <a:ext cx="246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 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9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62720" y="6141960"/>
            <a:ext cx="208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08440" y="32148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08840" y="534816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257800" y="228564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229600" y="15238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57800" y="1981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3733920"/>
            <a:ext cx="380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52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33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8954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8128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10552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864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11640" y="3587760"/>
            <a:ext cx="29232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159760" y="5035680"/>
            <a:ext cx="139680" cy="2919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45440" y="2271600"/>
            <a:ext cx="223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 P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eto   8    m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31240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286360" y="3735360"/>
            <a:ext cx="594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78080" y="3740040"/>
            <a:ext cx="3873240" cy="14353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87840" y="1509840"/>
            <a:ext cx="311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valo de insp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    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8360" y="183960"/>
            <a:ext cx="6940440" cy="13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INICION DE LOS  ACTIVOS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R  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1600" y="1514520"/>
            <a:ext cx="6220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 importante para la producción  es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00ae00"/>
                </a:solidFill>
                <a:uFillTx/>
                <a:latin typeface="Arial"/>
              </a:rPr>
              <a:t>FUNCION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 realizan la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 DE LA FU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CION 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JE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TE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IMPORTANCIA  PARA 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COSTO DE LAS MA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O:   MAQU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NJUNTO DE MAQU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06520" y="-211680"/>
            <a:ext cx="6330960" cy="16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76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3300" spc="-1" strike="noStrike">
                <a:solidFill>
                  <a:srgbClr val="0a0ab3"/>
                </a:solidFill>
                <a:latin typeface="Arial"/>
              </a:rPr>
              <a:t>CAMBIOS TIPIC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1920" y="1514520"/>
            <a:ext cx="798048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ARTILL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  INSPECCION   Y   REPARACION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REFORMULAD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EN  BASE  AL  ANALIS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 FALLAS       (Para todos los equip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CONOCIMIENTO DEL COST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ON PREVENTIVA Y  CORREC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GRAMA ANUAL, MENSUAL 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ANAL DE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M.P. ,   PREDICTIVA  Y  DE  DETEC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FRECUENCI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TERMINADAS  EN  BASE  A 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SA  DE  FALLAS  Y  AL  INTERVALO  P - 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6600"/>
                </a:solidFill>
                <a:latin typeface="Arial"/>
              </a:rPr>
              <a:t>OPERADORES ENTRENADO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ARA M.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7120" y="1133640"/>
            <a:ext cx="8975520" cy="54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 COSTO  DE  M.P.  ES  PARECIDO  AL  DE  UNA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IMA DE SEGU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el  costo  de  la  prima  exede  el  costo  del  ries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 cubre,  debe  ser  reducida  o  elimin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20  grandes  calefactores  de  edificios  indust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babilidad  de  falla  es  ba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 uno  falla  no  habrá  pérdida  de  produ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rá  difícil  justificar  un  trabajo  de  MP  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sea  una  inspección  y  revisión  anu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)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Una  gran  unidad  de  aire  acondicionado  de  un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s-ES_tradnl" sz="2200" spc="-1" strike="noStrike">
                <a:solidFill>
                  <a:srgbClr val="ff0066"/>
                </a:solidFill>
                <a:latin typeface="Arial"/>
              </a:rPr>
              <a:t>de 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quipo  complejo  con  fallas  por  diversos  mot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 falla  afecta  a  todo  el  edif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  justifica  un completo  plan  de  MP  durante el añ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8200" y="-234720"/>
            <a:ext cx="806760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MANTENCION PREVENTIVA</a:t>
            </a:r>
            <a:br>
              <a:rPr sz="3600"/>
            </a:br>
            <a:r>
              <a:rPr b="1" lang="en-US" sz="2400" spc="-1" strike="noStrike">
                <a:solidFill>
                  <a:srgbClr val="0a0ab3"/>
                </a:solidFill>
                <a:latin typeface="Arial"/>
              </a:rPr>
              <a:t>SISTEMA  SIMPLE  PARA  PRIORIZAR LOS  EQUIPO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1209600"/>
            <a:ext cx="8178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ALEFACTOR 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sim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pérdida de 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al  con  poc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ibles  incomod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1 + 2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ENTRAL  DE  AIRE  ACONDICIO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BABILIDAD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o  complej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 hay  equipo de  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os contro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  personas  en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ere much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 ventanas  no  se  ab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ajo  de  manten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 debe evacuar  el  edi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AJE  =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ESGO TOTAL  8 + 9 =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TAS  DE  M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96840" y="1530360"/>
            <a:ext cx="7378920" cy="4330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30360" y="198756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92680" y="1987560"/>
            <a:ext cx="67284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26040" y="1987560"/>
            <a:ext cx="67320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88160" y="29019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83040" y="29782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9680" y="2901960"/>
            <a:ext cx="67284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30360" y="389268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68640" y="3892680"/>
            <a:ext cx="67320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26040" y="39686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9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73360" y="4959360"/>
            <a:ext cx="6732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30360" y="4883040"/>
            <a:ext cx="673200" cy="5209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2096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2286000"/>
            <a:ext cx="1676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2209680"/>
            <a:ext cx="60948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3276720"/>
            <a:ext cx="83808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4572000" y="419112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666520" y="4191120"/>
            <a:ext cx="1295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133360" y="4191120"/>
            <a:ext cx="53316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533160" y="5181480"/>
            <a:ext cx="990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4191120"/>
            <a:ext cx="1371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18480" y="5157720"/>
            <a:ext cx="83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70760" y="6073920"/>
            <a:ext cx="112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867280"/>
            <a:ext cx="144792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1200" y="1654200"/>
            <a:ext cx="131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200" y="4624560"/>
            <a:ext cx="104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AL  DE  FALLAS  DE   UN  EQUIP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960" y="2063880"/>
            <a:ext cx="8140680" cy="250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66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71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676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28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133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438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048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200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505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9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62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114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7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419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24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029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86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34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008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530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102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1629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52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674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7724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246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0773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22960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381880" y="205740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534520" y="2057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9480" y="24382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7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068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23320" y="218124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14280" y="2103480"/>
            <a:ext cx="203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75960" y="21812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44440" y="2152800"/>
            <a:ext cx="406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27160" y="2255760"/>
            <a:ext cx="28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74040" y="2181240"/>
            <a:ext cx="7608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 A B C A  B  C A B  C A B  C A  B C A B C A B  C A B  C A B  C A B C A  B C A B C A  B  C A B C A B  C A B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13680" y="2203560"/>
            <a:ext cx="62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U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9480" y="2057040"/>
            <a:ext cx="0" cy="2514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0280" y="1752480"/>
            <a:ext cx="828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1     02     03     04     05     06     07     08     09     10     11     12     13     14     15     16     17     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14040" y="1822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28240" y="2486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5854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570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4240" y="26384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66520" y="27907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09480" y="304812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2864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844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442000" y="25621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3809880"/>
            <a:ext cx="815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14400" y="2660760"/>
            <a:ext cx="537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14400" y="327024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GO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14760" y="3954600"/>
            <a:ext cx="71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PTI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0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4264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41600" y="324792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796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082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36880" y="309564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6132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79880" y="35514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984800" y="332280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509120" y="38559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0932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7144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84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37040" y="436572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851080" y="43131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070400" y="408456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222680" y="43894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1400040" y="0"/>
          <a:ext cx="622008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0"/>
                    <a:ext cx="62200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0" y="434880"/>
          <a:ext cx="9144000" cy="598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48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609480" y="204840"/>
          <a:ext cx="9829800" cy="74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4840"/>
                    <a:ext cx="9829800" cy="74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380880" y="692280"/>
          <a:ext cx="8534520" cy="55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92280"/>
                    <a:ext cx="8534520" cy="55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0" y="990720"/>
          <a:ext cx="876312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876312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144720"/>
            <a:ext cx="842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 ACTIVO  FIJO  COMO OBJETO  DE LA MANTEN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200" y="906480"/>
            <a:ext cx="8233560" cy="52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es:  Maquinaria de producción y serv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talaciones fij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ficios, galpones, talle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tios, caminos, camp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dentificación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ificación y codificación pa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bicación, registro  de  capital, costo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llas,  his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1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visión en partes, componentes  y  repuestos  pa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álisis de consumo y abastecimien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2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ción en familias, clases, tipos  para anális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 trabajos de manten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cedent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 téc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 Historia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de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tención,  Costos,  Fall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atos  Claves  En   El  Historial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Para   ANALISIS  Cuantitativo  </a:t>
            </a:r>
            <a:br>
              <a:rPr sz="3600"/>
            </a:b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De   F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99"/>
                </a:solidFill>
                <a:latin typeface="Times New Roman"/>
              </a:rPr>
              <a:t>DESCRIPCION  del  evento  de  fa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úmero  corre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ripción  intel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ctura  del  horó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dicación  si  detiene  el  ED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uración  de  la 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 de  la 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CURVA DE LA BAÑERA</a:t>
            </a:r>
            <a:br>
              <a:rPr sz="1600"/>
            </a:b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LA  TASA  DE  FALLAS  EN  FUNCION  DEL  TIEMPO   DE  OPERA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43828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5800" y="5181480"/>
            <a:ext cx="761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61400" y="5365800"/>
            <a:ext cx="890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54240" y="5486400"/>
            <a:ext cx="2044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5800" y="1060560"/>
            <a:ext cx="0" cy="161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7320" y="1523880"/>
            <a:ext cx="318384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Vida  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tasa de fallas 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9560" y="4959360"/>
            <a:ext cx="63360" cy="21600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662940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438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305920" y="1517400"/>
            <a:ext cx="0" cy="36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6840360" y="1858680"/>
            <a:ext cx="1486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ONA 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G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57400" y="4502160"/>
            <a:ext cx="4565520" cy="67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59360" y="1149480"/>
            <a:ext cx="3339720" cy="33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800" y="3048120"/>
            <a:ext cx="1371600" cy="1460520"/>
          </a:xfrm>
          <a:custGeom>
            <a:avLst/>
            <a:gdLst/>
            <a:ahLst/>
            <a:rect l="l" t="t" r="r" b="b"/>
            <a:pathLst>
              <a:path w="864" h="920">
                <a:moveTo>
                  <a:pt x="0" y="0"/>
                </a:moveTo>
                <a:cubicBezTo>
                  <a:pt x="12" y="40"/>
                  <a:pt x="24" y="80"/>
                  <a:pt x="48" y="144"/>
                </a:cubicBezTo>
                <a:cubicBezTo>
                  <a:pt x="72" y="208"/>
                  <a:pt x="96" y="296"/>
                  <a:pt x="144" y="384"/>
                </a:cubicBezTo>
                <a:cubicBezTo>
                  <a:pt x="192" y="472"/>
                  <a:pt x="264" y="592"/>
                  <a:pt x="336" y="672"/>
                </a:cubicBezTo>
                <a:cubicBezTo>
                  <a:pt x="408" y="752"/>
                  <a:pt x="504" y="824"/>
                  <a:pt x="576" y="864"/>
                </a:cubicBezTo>
                <a:cubicBezTo>
                  <a:pt x="648" y="904"/>
                  <a:pt x="720" y="904"/>
                  <a:pt x="768" y="912"/>
                </a:cubicBezTo>
                <a:cubicBezTo>
                  <a:pt x="816" y="920"/>
                  <a:pt x="848" y="912"/>
                  <a:pt x="864" y="9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-47520" y="620640"/>
            <a:ext cx="4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057400" y="15998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6234200">
            <a:off x="530280" y="19105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L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05920" y="51814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08880" y="6218280"/>
            <a:ext cx="2190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1295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190512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4674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236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14400" y="2971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7467480" y="2209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914400" y="3505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14400" y="411480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746748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14400" y="4572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51814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7467480" y="46479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90720" y="5562720"/>
            <a:ext cx="0" cy="68580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172200"/>
            <a:ext cx="65530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7543800" y="5638680"/>
            <a:ext cx="0" cy="53352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380880"/>
            <a:ext cx="0" cy="6858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990720"/>
            <a:ext cx="655308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7467480" y="76320"/>
            <a:ext cx="0" cy="91440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13480" y="3049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840" y="121932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880" y="2286000"/>
            <a:ext cx="48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37520" y="3503520"/>
            <a:ext cx="51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37880" y="4417920"/>
            <a:ext cx="46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37520" y="5484960"/>
            <a:ext cx="43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762120"/>
            <a:ext cx="4800600" cy="0"/>
          </a:xfrm>
          <a:prstGeom prst="line">
            <a:avLst/>
          </a:prstGeom>
          <a:ln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915840" y="-304920"/>
            <a:ext cx="152388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34120" y="-304920"/>
            <a:ext cx="21330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1676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91320" y="914040"/>
            <a:ext cx="16758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914400" y="2437920"/>
            <a:ext cx="6553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3809880"/>
            <a:ext cx="6019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5840" y="3811680"/>
            <a:ext cx="10666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976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9769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14400" y="495288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5943600"/>
            <a:ext cx="5638680" cy="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2160" y="4876560"/>
            <a:ext cx="1828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79520" y="204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79520" y="134784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79520" y="256716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79520" y="3557520"/>
            <a:ext cx="585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55480" y="4700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831800" y="58435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68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  EL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TENIMIENTO  CENTRADO  EN LA  CONFIABILID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E  LOGRA  DISMINUIR  EL  TIEMPO PERDIDO  POR  LAS  MAQU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693720" y="1547640"/>
          <a:ext cx="7769160" cy="470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47640"/>
                    <a:ext cx="776916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bla comparativa de los principios de RCM  antes y después de la experiencia de John Moub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1371600"/>
            <a:ext cx="8751600" cy="57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volución del método MANTENCION  CENTRADA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FIABILIDAD    R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CE PROPOSICIONES PARA TERMINAR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DEAS  TRADI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z años de aplicación del método RCM  y de su derivado RC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mas de 500 plantas industriales en 27 países han permit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ecer una síntesis de quince cambios más importantes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n ser introducidos en el campo de la gestión de los equip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cia un nuevo paradigma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undo cambia, el mundo se mueve....El mantenimiento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á estan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os equipos fís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 prevenir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primer objetivo de la función mantenimiento es optimizar la disponibilidad de la planta al costo míni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   Cuanto mas envejece  el equipo mas probable es que ocurran las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 Es indispensable disponer de datos completos acerca de la tasa de fallas antes de desarrollar un programa de mantenimiento verdaderamente exito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tres tipos de mantenimiento:  predictivo, preventivo, correc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 de la frecuencia de las fallas y / o de la criticidad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La   inspección o el reemplazo a intervalos fijos, si estan técnicamente bien diseñados, son mas eficaces que el mantenimiento condicio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os incidentes serios  o los accidentes catastróficos  que acompañan  a las fallas múltiples de los equipos son, habitualmente, el resultado de  “mala suerte”  o de “ fuerza mayor” y, por lo tanto, no pueden ser gestionados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47960" y="68580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   El objetivo del mantenimiento es conservar la función de los equi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   El objetivo del mantenimiento preventivo es reducir o eliminar las consecuencias de las fal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   El  mantenimiento integra todos los aspectos:  desde el rendimiento de la actividad  pasando por la seguridad, la integridad ambiental, la eficacia energética, la calidad del producto y el servicio a los clientes; y no sólo la disponibilidad de la planta y los cos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  En la mayor parte de los casos las fallas no son mas probables con el envejecimi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 Las decisiones relacionadas con la gestión de las fallas de los equipos deberán ser tomadas, casi siempre, con datos insuficientes en relación a la tasa de fall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  Hay cuatro tipos de mantenimiento:  predictivo, preventivo, correctivo, de detec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  La   frecuencia de las tareas de mantenimiento condicional deberá ser función del período  de desarrollo de la falla (también conocido como “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ra en la producción de la falla” o  “intervalo P -F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 El  mantenimiento condicional es casi siempre un mejor procedimiento y mas eficaz que la inspección o el reemplazo a  intervalos fijos  durante toda la vida del equi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-  La probabilidad  de que se produzcan fallas múltiples  es una variable que puede  ser  gestionada,  especialmente en los sistemas bien proteg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CM2 : LAS CLAVES DEL CAMBI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TRADICIONAL</a:t>
            </a:r>
            <a:r>
              <a:rPr b="0" lang="es-MX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La  forma  mas rápida  y  segura de mejorar el rendimiento de los equipos  “no confiables” que tiene la planta es mejorar su 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Es posible desarrollar  políticas generales de mantenimiento para la mayor parte de lo tipos de equip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responsables y los planes,  elaborados por especialistas  calificados o consultores externos (en un esquema de arriba hacia abajo, top - dow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Solamente el departamento de mantención puede desarrollar un programa de mantenimiento exitoso y perman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son los que están en la mejor posición para desarrollar los programas de mantenimiento correspo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 Es posible encontrar  una solución rápida e inmediata a todos los problemas  relacionados con la eficacia  del manten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47960" y="68544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MX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ERSION   NUEVA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  Para  mejorar el rendimiento de los equipos  “no confiables” que tiene la planta es,  generalmente,  mas rentable empezar por actuar sobre la forma  en que son operados y mantenidos.  Si esto no resulta  habrá que preocuparse del diseñ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  Las  políticas generales de mantenimiento deberán ser aplicadas solamente a equipos idénticos  y siempre que  el contexto operacional,  las funciones y  las normas de rendimiento también sean idéntic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-  Las  políticas  de mantenimiento deberán ser formuladas por los  personas mas cercanas a los equipos.  El papel  de los responsables es proporcionar las herramientas para ayudarlos a tomar las mejores decisiones y asegurar que las decisiones sean comprobadas y defendi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-  El  desarrollo de un programa de mantenimiento exitoso y permanente  debe ser el fruto de la colaboración entre los mantenedores y los usuarios de los equip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-  Los fabricantes de los equipos deberán contribuir al desarrollo de  los programas de mantenimiento de  los  equipos  nuev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-  Los problemas  de  mantenimiento  deben ser resueltos en dos etapas:  la primera consiste en cambiar los esquemas de pensamiento de los hombres de mantención, la segunda tiene por objeto incentivarlos a aplicar  estos  nuevos esquemas a los problemas técnicos y a los proce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06440" y="152280"/>
            <a:ext cx="6502320" cy="9651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560" y="3021120"/>
            <a:ext cx="2241360" cy="87156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532320" y="2900520"/>
            <a:ext cx="1974600" cy="1135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00440" y="1589040"/>
            <a:ext cx="1616040" cy="83808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397560" y="3925800"/>
            <a:ext cx="2747880" cy="1454400"/>
          </a:xfrm>
          <a:custGeom>
            <a:avLst/>
            <a:gdLst/>
            <a:ahLst/>
            <a:rect l="l" t="t" r="r" b="b"/>
            <a:pathLst>
              <a:path w="1731" h="916">
                <a:moveTo>
                  <a:pt x="1730" y="455"/>
                </a:moveTo>
                <a:lnTo>
                  <a:pt x="909" y="0"/>
                </a:lnTo>
                <a:lnTo>
                  <a:pt x="909" y="132"/>
                </a:lnTo>
                <a:lnTo>
                  <a:pt x="0" y="132"/>
                </a:lnTo>
                <a:lnTo>
                  <a:pt x="1" y="785"/>
                </a:lnTo>
                <a:lnTo>
                  <a:pt x="908" y="785"/>
                </a:lnTo>
                <a:lnTo>
                  <a:pt x="908" y="915"/>
                </a:lnTo>
                <a:lnTo>
                  <a:pt x="1730" y="455"/>
                </a:lnTo>
                <a:lnTo>
                  <a:pt x="1730" y="455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97560" y="5442120"/>
            <a:ext cx="2747880" cy="1417320"/>
          </a:xfrm>
          <a:custGeom>
            <a:avLst/>
            <a:gdLst/>
            <a:ahLst/>
            <a:rect l="l" t="t" r="r" b="b"/>
            <a:pathLst>
              <a:path w="1731" h="893">
                <a:moveTo>
                  <a:pt x="1730" y="443"/>
                </a:moveTo>
                <a:lnTo>
                  <a:pt x="909" y="0"/>
                </a:lnTo>
                <a:lnTo>
                  <a:pt x="909" y="129"/>
                </a:lnTo>
                <a:lnTo>
                  <a:pt x="0" y="129"/>
                </a:lnTo>
                <a:lnTo>
                  <a:pt x="1" y="765"/>
                </a:lnTo>
                <a:lnTo>
                  <a:pt x="908" y="765"/>
                </a:lnTo>
                <a:lnTo>
                  <a:pt x="908" y="892"/>
                </a:lnTo>
                <a:lnTo>
                  <a:pt x="1730" y="443"/>
                </a:lnTo>
                <a:lnTo>
                  <a:pt x="1730" y="443"/>
                </a:lnTo>
              </a:path>
            </a:pathLst>
          </a:custGeom>
          <a:noFill/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16000" y="4289400"/>
            <a:ext cx="1766880" cy="836640"/>
          </a:xfrm>
          <a:prstGeom prst="rect">
            <a:avLst/>
          </a:prstGeom>
          <a:noFill/>
          <a:ln w="50760">
            <a:solidFill>
              <a:srgbClr val="0a0a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44920" y="2457360"/>
            <a:ext cx="106560" cy="397080"/>
          </a:xfrm>
          <a:custGeom>
            <a:avLst/>
            <a:gdLst/>
            <a:ahLst/>
            <a:rect l="l" t="t" r="r" b="b"/>
            <a:pathLst>
              <a:path w="67" h="250">
                <a:moveTo>
                  <a:pt x="33" y="249"/>
                </a:moveTo>
                <a:lnTo>
                  <a:pt x="66" y="184"/>
                </a:lnTo>
                <a:lnTo>
                  <a:pt x="44" y="184"/>
                </a:lnTo>
                <a:lnTo>
                  <a:pt x="44" y="0"/>
                </a:lnTo>
                <a:lnTo>
                  <a:pt x="22" y="0"/>
                </a:lnTo>
                <a:lnTo>
                  <a:pt x="22" y="184"/>
                </a:lnTo>
                <a:lnTo>
                  <a:pt x="0" y="184"/>
                </a:lnTo>
                <a:lnTo>
                  <a:pt x="33" y="249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327400" y="3394080"/>
            <a:ext cx="1176120" cy="104760"/>
          </a:xfrm>
          <a:custGeom>
            <a:avLst/>
            <a:gdLst/>
            <a:ahLst/>
            <a:rect l="l" t="t" r="r" b="b"/>
            <a:pathLst>
              <a:path w="741" h="66">
                <a:moveTo>
                  <a:pt x="0" y="32"/>
                </a:moveTo>
                <a:lnTo>
                  <a:pt x="66" y="0"/>
                </a:lnTo>
                <a:lnTo>
                  <a:pt x="66" y="22"/>
                </a:lnTo>
                <a:lnTo>
                  <a:pt x="740" y="22"/>
                </a:lnTo>
                <a:lnTo>
                  <a:pt x="740" y="43"/>
                </a:lnTo>
                <a:lnTo>
                  <a:pt x="66" y="43"/>
                </a:lnTo>
                <a:lnTo>
                  <a:pt x="66" y="65"/>
                </a:lnTo>
                <a:lnTo>
                  <a:pt x="0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81800" y="4600440"/>
            <a:ext cx="796680" cy="104760"/>
          </a:xfrm>
          <a:custGeom>
            <a:avLst/>
            <a:gdLst/>
            <a:ahLst/>
            <a:rect l="l" t="t" r="r" b="b"/>
            <a:pathLst>
              <a:path w="502" h="66">
                <a:moveTo>
                  <a:pt x="501" y="33"/>
                </a:moveTo>
                <a:lnTo>
                  <a:pt x="435" y="0"/>
                </a:lnTo>
                <a:lnTo>
                  <a:pt x="435" y="22"/>
                </a:lnTo>
                <a:lnTo>
                  <a:pt x="0" y="22"/>
                </a:lnTo>
                <a:lnTo>
                  <a:pt x="0" y="44"/>
                </a:lnTo>
                <a:lnTo>
                  <a:pt x="435" y="44"/>
                </a:lnTo>
                <a:lnTo>
                  <a:pt x="435" y="65"/>
                </a:lnTo>
                <a:lnTo>
                  <a:pt x="50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013120" y="4600440"/>
            <a:ext cx="1479240" cy="104760"/>
          </a:xfrm>
          <a:custGeom>
            <a:avLst/>
            <a:gdLst/>
            <a:ahLst/>
            <a:rect l="l" t="t" r="r" b="b"/>
            <a:pathLst>
              <a:path w="932" h="66">
                <a:moveTo>
                  <a:pt x="931" y="33"/>
                </a:moveTo>
                <a:lnTo>
                  <a:pt x="864" y="0"/>
                </a:lnTo>
                <a:lnTo>
                  <a:pt x="864" y="22"/>
                </a:lnTo>
                <a:lnTo>
                  <a:pt x="0" y="22"/>
                </a:lnTo>
                <a:lnTo>
                  <a:pt x="0" y="44"/>
                </a:lnTo>
                <a:lnTo>
                  <a:pt x="864" y="44"/>
                </a:lnTo>
                <a:lnTo>
                  <a:pt x="864" y="65"/>
                </a:lnTo>
                <a:lnTo>
                  <a:pt x="931" y="33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28880" y="6192720"/>
            <a:ext cx="2328840" cy="104760"/>
          </a:xfrm>
          <a:custGeom>
            <a:avLst/>
            <a:gdLst/>
            <a:ahLst/>
            <a:rect l="l" t="t" r="r" b="b"/>
            <a:pathLst>
              <a:path w="1467" h="66">
                <a:moveTo>
                  <a:pt x="1466" y="32"/>
                </a:moveTo>
                <a:lnTo>
                  <a:pt x="1400" y="0"/>
                </a:lnTo>
                <a:lnTo>
                  <a:pt x="1400" y="21"/>
                </a:lnTo>
                <a:lnTo>
                  <a:pt x="0" y="21"/>
                </a:lnTo>
                <a:lnTo>
                  <a:pt x="0" y="43"/>
                </a:lnTo>
                <a:lnTo>
                  <a:pt x="1400" y="43"/>
                </a:lnTo>
                <a:lnTo>
                  <a:pt x="1400" y="65"/>
                </a:lnTo>
                <a:lnTo>
                  <a:pt x="1466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56080" y="5376960"/>
            <a:ext cx="106560" cy="298440"/>
          </a:xfrm>
          <a:custGeom>
            <a:avLst/>
            <a:gdLst/>
            <a:ahLst/>
            <a:rect l="l" t="t" r="r" b="b"/>
            <a:pathLst>
              <a:path w="67" h="188">
                <a:moveTo>
                  <a:pt x="33" y="187"/>
                </a:moveTo>
                <a:lnTo>
                  <a:pt x="66" y="122"/>
                </a:lnTo>
                <a:lnTo>
                  <a:pt x="44" y="122"/>
                </a:lnTo>
                <a:lnTo>
                  <a:pt x="44" y="0"/>
                </a:lnTo>
                <a:lnTo>
                  <a:pt x="22" y="0"/>
                </a:lnTo>
                <a:lnTo>
                  <a:pt x="22" y="122"/>
                </a:lnTo>
                <a:lnTo>
                  <a:pt x="0" y="122"/>
                </a:lnTo>
                <a:lnTo>
                  <a:pt x="33" y="187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98640" y="5146560"/>
            <a:ext cx="106200" cy="1055880"/>
          </a:xfrm>
          <a:custGeom>
            <a:avLst/>
            <a:gdLst/>
            <a:ahLst/>
            <a:rect l="l" t="t" r="r" b="b"/>
            <a:pathLst>
              <a:path w="67" h="665">
                <a:moveTo>
                  <a:pt x="33" y="0"/>
                </a:moveTo>
                <a:lnTo>
                  <a:pt x="66" y="65"/>
                </a:lnTo>
                <a:lnTo>
                  <a:pt x="44" y="65"/>
                </a:lnTo>
                <a:lnTo>
                  <a:pt x="44" y="664"/>
                </a:lnTo>
                <a:lnTo>
                  <a:pt x="22" y="664"/>
                </a:lnTo>
                <a:lnTo>
                  <a:pt x="22" y="65"/>
                </a:lnTo>
                <a:lnTo>
                  <a:pt x="0" y="65"/>
                </a:lnTo>
                <a:lnTo>
                  <a:pt x="33" y="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22440" y="206280"/>
            <a:ext cx="420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 INFLUENCIA DE LA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1840" y="568440"/>
            <a:ext cx="548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 LAS CONDICIONES DEL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35080" y="1741320"/>
            <a:ext cx="13280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000" spc="-1" strike="noStrike">
                <a:solidFill>
                  <a:srgbClr val="fc0128"/>
                </a:solidFill>
                <a:latin typeface="Courier New"/>
              </a:rPr>
              <a:t>M. 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320" y="303048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-12960" y="3314880"/>
            <a:ext cx="2013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emprana de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-13320" y="358920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bl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67160" y="2909880"/>
            <a:ext cx="1160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66800" y="315288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ubr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466800" y="339552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reemplaz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466440" y="3638520"/>
            <a:ext cx="1282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7200" y="4309920"/>
            <a:ext cx="152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ISMINU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87200" y="4552920"/>
            <a:ext cx="164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 los d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86840" y="47973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del 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84600" y="411804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384600" y="4361040"/>
            <a:ext cx="1891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tiempo perd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384960" y="460548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y pérdida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384600" y="48481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86040" y="5626080"/>
            <a:ext cx="794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86400" y="5869080"/>
            <a:ext cx="23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cantidad de M.O.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386400" y="6113520"/>
            <a:ext cx="1770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terial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386040" y="637704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063680" y="431316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J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720600" y="4572000"/>
            <a:ext cx="1556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stado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94920" y="4832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63680" y="5783400"/>
            <a:ext cx="8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09840" y="6041880"/>
            <a:ext cx="23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Carga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515760" y="6302520"/>
            <a:ext cx="196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de 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661000" y="6192720"/>
            <a:ext cx="717480" cy="104760"/>
          </a:xfrm>
          <a:custGeom>
            <a:avLst/>
            <a:gdLst/>
            <a:ahLst/>
            <a:rect l="l" t="t" r="r" b="b"/>
            <a:pathLst>
              <a:path w="452" h="66">
                <a:moveTo>
                  <a:pt x="451" y="32"/>
                </a:moveTo>
                <a:lnTo>
                  <a:pt x="385" y="0"/>
                </a:lnTo>
                <a:lnTo>
                  <a:pt x="385" y="21"/>
                </a:lnTo>
                <a:lnTo>
                  <a:pt x="0" y="21"/>
                </a:lnTo>
                <a:lnTo>
                  <a:pt x="0" y="43"/>
                </a:lnTo>
                <a:lnTo>
                  <a:pt x="385" y="43"/>
                </a:lnTo>
                <a:lnTo>
                  <a:pt x="385" y="65"/>
                </a:lnTo>
                <a:lnTo>
                  <a:pt x="451" y="32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98640" y="3917880"/>
            <a:ext cx="106200" cy="319320"/>
          </a:xfrm>
          <a:custGeom>
            <a:avLst/>
            <a:gdLst/>
            <a:ahLst/>
            <a:rect l="l" t="t" r="r" b="b"/>
            <a:pathLst>
              <a:path w="67" h="201">
                <a:moveTo>
                  <a:pt x="33" y="200"/>
                </a:moveTo>
                <a:lnTo>
                  <a:pt x="66" y="136"/>
                </a:lnTo>
                <a:lnTo>
                  <a:pt x="44" y="136"/>
                </a:lnTo>
                <a:lnTo>
                  <a:pt x="44" y="0"/>
                </a:lnTo>
                <a:lnTo>
                  <a:pt x="22" y="0"/>
                </a:lnTo>
                <a:lnTo>
                  <a:pt x="22" y="136"/>
                </a:lnTo>
                <a:lnTo>
                  <a:pt x="0" y="136"/>
                </a:lnTo>
                <a:lnTo>
                  <a:pt x="33" y="200"/>
                </a:lnTo>
              </a:path>
            </a:pathLst>
          </a:custGeom>
          <a:solidFill>
            <a:srgbClr val="618ffd"/>
          </a:solidFill>
          <a:ln cap="rnd" w="50760">
            <a:solidFill>
              <a:srgbClr val="0a0a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5040" y="318960"/>
            <a:ext cx="839808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L PROCESO DE ANÁLISIS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RENDE TRES ET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enunciado del servicio pr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o de acción  +  un complem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l rendimiento asociado a la 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primer nivel de rendimient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interrupción de la función detiene la producción  y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e en peligro la seguridad de las personas o de los bie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el segundo nivel de rendimiento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fiabilid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tenibilidad,  disponibilidad de los elemen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s,  estudio de prevención de riesg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Los costos 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trata de los costos asociados a la función o a 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e,  y al presupuesto de mantenció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74680" y="198360"/>
            <a:ext cx="828360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rimer  nivel de rend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estudia para cada función con la ayuda de una tabl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fun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deben definir las etapas sigu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producción  (C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detiene la produ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ducción = objetivo de la instal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crítico de la seguridad (C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pone en peligro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uridad de las personas o (y)  de los bi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Times New Roman"/>
              </a:rPr>
              <a:t>El camino   sub-crítico de producción  (CSC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el inventario de componentes cuya falla  no de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mediatamente  la producció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amino crítico de producción  CCP   puede esquematizarse  como una cade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2280" y="2673360"/>
            <a:ext cx="113004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8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4496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940440" y="2673360"/>
            <a:ext cx="113040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8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048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2971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5012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26280" y="27734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26840" y="2849400"/>
            <a:ext cx="439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21600" y="2849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3520" y="3870360"/>
            <a:ext cx="6738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falla  de  uno  sólo  de  los  componentes detie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 producción  de vap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bjetivo  de  la  insta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1998-05-14T10:23:20Z</cp:lastPrinted>
  <dcterms:modified xsi:type="dcterms:W3CDTF">2003-11-13T18:02:52Z</dcterms:modified>
  <cp:revision>21310</cp:revision>
  <dc:subject/>
  <dc:title>ADMINISTRACION  DEL  MANTENIMIENTO</dc:title>
</cp:coreProperties>
</file>