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8E72-B9A3-46C8-989D-B66C10CC2D5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388620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8620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F98-8841-4C5F-A9D7-5EE9A6E9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0DF-AEAA-47BA-816C-C35DF1F2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35B-8378-4744-A9D7-BB17EC42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2F5-D729-4498-BEA4-AF5BF375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C9A-9E09-4A42-A2E8-31D373B2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651-4DAA-41CF-8100-EEB922AD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59A6-CE49-4B35-B958-6E914BC9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ADA-2064-492A-8678-9CD9B10C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3C1-DBC6-42AC-8E54-1E3FA8F9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C9B-E6A8-442C-AF0F-4CB9DF68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AE2-0B61-4132-9D5A-C9268256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7E1-E71B-45E7-B878-385BB9DC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96BF-1ED6-4810-A521-CE2F300AC275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-457200"/>
            <a:ext cx="10515600" cy="68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00" y="-23760"/>
            <a:ext cx="474372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GESTION  MODERN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ANTENIMI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INERO  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00" y="5638680"/>
            <a:ext cx="64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G. ERNESTO GRAMSCH SANJ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6" name=""/>
          <p:cNvGraphicFramePr/>
          <p:nvPr/>
        </p:nvGraphicFramePr>
        <p:xfrm>
          <a:off x="533520" y="263520"/>
          <a:ext cx="685800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3520"/>
                    <a:ext cx="68580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8" name=""/>
          <p:cNvSpPr/>
          <p:nvPr/>
        </p:nvSpPr>
        <p:spPr>
          <a:xfrm>
            <a:off x="365040" y="537516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 MINERIA:  desde   75.000 ton de Cobre fino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 de 100 MUS al año   a 70 c/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9" name=""/>
          <p:cNvGraphicFramePr/>
          <p:nvPr/>
        </p:nvGraphicFramePr>
        <p:xfrm>
          <a:off x="533520" y="452520"/>
          <a:ext cx="716256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2520"/>
                    <a:ext cx="716256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"/>
          <p:cNvSpPr/>
          <p:nvPr/>
        </p:nvSpPr>
        <p:spPr>
          <a:xfrm>
            <a:off x="605160" y="5222880"/>
            <a:ext cx="736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8  DE  15  EMPRESAS     (53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OTACION DE PERSONAL  DE  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A EL  20 %    DE  LA DOTACION  TO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2" name=""/>
          <p:cNvGraphicFramePr/>
          <p:nvPr/>
        </p:nvGraphicFramePr>
        <p:xfrm>
          <a:off x="762120" y="228600"/>
          <a:ext cx="7315200" cy="49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731520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4" name=""/>
          <p:cNvSpPr/>
          <p:nvPr/>
        </p:nvSpPr>
        <p:spPr>
          <a:xfrm>
            <a:off x="602640" y="5146560"/>
            <a:ext cx="769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6  DE  15  EMPRESAS     (40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10 %   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LAS VE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5" name=""/>
          <p:cNvGraphicFramePr/>
          <p:nvPr/>
        </p:nvGraphicFramePr>
        <p:xfrm>
          <a:off x="609480" y="168120"/>
          <a:ext cx="8229600" cy="50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8120"/>
                    <a:ext cx="8229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771840" y="53341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7  DE  15  EMPRESAS     (47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20 %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S  DE  P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8" name=""/>
          <p:cNvGraphicFramePr/>
          <p:nvPr/>
        </p:nvGraphicFramePr>
        <p:xfrm>
          <a:off x="846000" y="299880"/>
          <a:ext cx="7320240" cy="48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299880"/>
                    <a:ext cx="732024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289080" y="4994280"/>
            <a:ext cx="873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10  DE  15  EMPRESAS     (66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S  DEL  20 % DEL GASTO DE MANTENCION  SE EJE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 CONTRATIST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615960" y="1454040"/>
            <a:ext cx="281304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33520" y="4273560"/>
            <a:ext cx="2736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124080" y="2819520"/>
            <a:ext cx="281304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950080" y="1454040"/>
            <a:ext cx="265428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873760" y="4273560"/>
            <a:ext cx="265428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73200" y="2163600"/>
            <a:ext cx="268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943600" y="2209680"/>
            <a:ext cx="2724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9900"/>
                </a:solidFill>
                <a:latin typeface="Times New Roman"/>
              </a:rPr>
              <a:t>MANTEN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082560" y="4983120"/>
            <a:ext cx="201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73840" y="3276720"/>
            <a:ext cx="2620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LOGRO  DE 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CONTINUIDAD 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36400" y="5105520"/>
            <a:ext cx="275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DISPON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57150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 flipV="1">
            <a:off x="29718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2971800" y="43434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62720" y="4419720"/>
            <a:ext cx="533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DEL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6" name=""/>
          <p:cNvGraphicFramePr/>
          <p:nvPr/>
        </p:nvGraphicFramePr>
        <p:xfrm>
          <a:off x="3048120" y="1290600"/>
          <a:ext cx="182880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90600"/>
                    <a:ext cx="1828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8" name=""/>
          <p:cNvGraphicFramePr/>
          <p:nvPr/>
        </p:nvGraphicFramePr>
        <p:xfrm>
          <a:off x="6450120" y="2514600"/>
          <a:ext cx="17269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0120" y="2514600"/>
                    <a:ext cx="17269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0" name=""/>
          <p:cNvSpPr/>
          <p:nvPr/>
        </p:nvSpPr>
        <p:spPr>
          <a:xfrm>
            <a:off x="7451280" y="760320"/>
            <a:ext cx="13219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ntidad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353040" y="1754280"/>
            <a:ext cx="31996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19360" y="2360520"/>
            <a:ext cx="1219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,  MC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095880" y="341316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394240" y="1217520"/>
            <a:ext cx="291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NFIABILIDAD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(t)  FA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1840" y="1295640"/>
            <a:ext cx="533376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323880" y="3122640"/>
            <a:ext cx="249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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t)  REPA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270880" y="1446120"/>
            <a:ext cx="1503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QUE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C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  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457200" y="1724040"/>
          <a:ext cx="99072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240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"/>
          <p:cNvGraphicFramePr/>
          <p:nvPr/>
        </p:nvGraphicFramePr>
        <p:xfrm>
          <a:off x="228600" y="2409840"/>
          <a:ext cx="99072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4098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"/>
          <p:cNvGraphicFramePr/>
          <p:nvPr/>
        </p:nvGraphicFramePr>
        <p:xfrm>
          <a:off x="990720" y="2638440"/>
          <a:ext cx="990360" cy="51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638440"/>
                    <a:ext cx="990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"/>
          <p:cNvSpPr/>
          <p:nvPr/>
        </p:nvSpPr>
        <p:spPr>
          <a:xfrm>
            <a:off x="64080" y="3274920"/>
            <a:ext cx="2321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  DE  RESE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ntidad  y  ub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994800" y="4265640"/>
            <a:ext cx="20901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amaño  del  T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Dotación  de 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G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er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8001000" y="1600200"/>
            <a:ext cx="533520" cy="8380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334120" y="5146560"/>
            <a:ext cx="1657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AR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955320" y="6475320"/>
            <a:ext cx="493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ALLERES  DE  REPARACION  DE 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302080" y="5073480"/>
            <a:ext cx="1492560" cy="8258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6229080" y="4267080"/>
            <a:ext cx="533160" cy="762120"/>
          </a:xfrm>
          <a:prstGeom prst="line">
            <a:avLst/>
          </a:prstGeom>
          <a:ln w="507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863960" y="6197760"/>
            <a:ext cx="61596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816520" y="6197760"/>
            <a:ext cx="577800" cy="177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597720" y="6178680"/>
            <a:ext cx="69192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4724280" y="5657760"/>
            <a:ext cx="457200" cy="4572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6769080" y="5838840"/>
            <a:ext cx="558720" cy="3240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397640" y="692280"/>
            <a:ext cx="13590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17320" y="4929120"/>
            <a:ext cx="202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VERSION  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QUIPOS  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ntabilidad 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asa  de  Descu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80" y="4654440"/>
            <a:ext cx="3035160" cy="1282680"/>
          </a:xfrm>
          <a:custGeom>
            <a:avLst/>
            <a:gdLst>
              <a:gd name="textAreaLeft" fmla="*/ 692640 w 3035160"/>
              <a:gd name="textAreaRight" fmla="*/ 2342520 w 3035160"/>
              <a:gd name="textAreaTop" fmla="*/ 292680 h 1282680"/>
              <a:gd name="textAreaBottom" fmla="*/ 99000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609480" y="3047760"/>
            <a:ext cx="152640" cy="190476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104920" y="2908080"/>
            <a:ext cx="819360" cy="172692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035880" y="4494240"/>
            <a:ext cx="2931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CIÓN  DE  RIES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2" name=""/>
          <p:cNvGraphicFramePr/>
          <p:nvPr/>
        </p:nvGraphicFramePr>
        <p:xfrm>
          <a:off x="4606920" y="3765600"/>
          <a:ext cx="557280" cy="73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06920" y="3765600"/>
                    <a:ext cx="5572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4" name=""/>
          <p:cNvGraphicFramePr/>
          <p:nvPr/>
        </p:nvGraphicFramePr>
        <p:xfrm>
          <a:off x="3581280" y="3859200"/>
          <a:ext cx="908280" cy="64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3859200"/>
                    <a:ext cx="908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5113440" y="3454560"/>
          <a:ext cx="449280" cy="135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13440" y="3454560"/>
                    <a:ext cx="4492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3124080" y="990720"/>
            <a:ext cx="198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051920" y="3984480"/>
            <a:ext cx="1791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LITICA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REEMPLAZO 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OVERHA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Clasificación de las actividade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e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ventivo siste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ogramación de las actividad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de em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n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 trabaj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Trabajo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p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ju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br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 flipH="1">
            <a:off x="2440080" y="2211480"/>
            <a:ext cx="1141200" cy="22082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440080" y="4343400"/>
            <a:ext cx="3351240" cy="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3583080" y="2211480"/>
            <a:ext cx="2131920" cy="213192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957960" y="1477800"/>
            <a:ext cx="5875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amiento com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veedores + compradores +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elemento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65640" y="4373640"/>
            <a:ext cx="2858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ución integral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.  Producto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estandar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698000" y="4449600"/>
            <a:ext cx="3748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amiento del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. 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sto mas baj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9160" y="365040"/>
            <a:ext cx="495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“DELTA”   DEL 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87883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41840" y="220680"/>
            <a:ext cx="8996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ES  QUE  CONTRIBUYEN  A  L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gún  la  Norma  Francesa  AFNOR  x 60-5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5080" y="3078000"/>
            <a:ext cx="22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819520" y="1297080"/>
            <a:ext cx="0" cy="4570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879440" y="1141560"/>
            <a:ext cx="400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TRICCIONES   DE OPT I M IZ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938840" y="243684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GI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66880" y="2970360"/>
            <a:ext cx="1265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461640" y="2970360"/>
            <a:ext cx="133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243760" y="4494240"/>
            <a:ext cx="192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482360" y="5713560"/>
            <a:ext cx="178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94840" y="1469880"/>
            <a:ext cx="2780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sto  de  adqui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explo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no  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555000" y="3375000"/>
            <a:ext cx="279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es de mante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nt. Correctiva / Preven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Reordenam.  del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5040" y="3298680"/>
            <a:ext cx="25138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Docu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teriales de Man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 de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160240" y="4898880"/>
            <a:ext cx="272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de diagnó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cces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para el desar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398480" y="6041880"/>
            <a:ext cx="4638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rquite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fil  de  la  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Tasa  de  Fallas  y  duración  de  los  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20960" y="129528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2820600" y="2590920"/>
            <a:ext cx="19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2820960" y="46483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2820600" y="58672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889520" y="1079640"/>
            <a:ext cx="393696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889520" y="2374920"/>
            <a:ext cx="13460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511440" y="2901960"/>
            <a:ext cx="1359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30960" y="2901960"/>
            <a:ext cx="1511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194440" y="4508640"/>
            <a:ext cx="203184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432320" y="5727600"/>
            <a:ext cx="187956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486400" y="1449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505320" y="32018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324480" y="327816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181480" y="4802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419720" y="6021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527760" y="166680"/>
            <a:ext cx="8125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408480" y="1325520"/>
            <a:ext cx="241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  TIEMPO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33520" y="2011320"/>
            <a:ext cx="8413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1  TIEMPO  NECESARIO                         1.2  TIEMPO  NO  NEC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30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806200" y="2665440"/>
            <a:ext cx="1815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0922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149600" y="2620800"/>
            <a:ext cx="181584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19160" y="4876920"/>
            <a:ext cx="2090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2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ESP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19160" y="3962520"/>
            <a:ext cx="209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1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NCION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6320" y="3583080"/>
            <a:ext cx="0" cy="15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77760" y="4268520"/>
            <a:ext cx="745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7760" y="510552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967760" y="403704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102920" y="4037040"/>
            <a:ext cx="2688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2   TIEMPO 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 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 CAUSAS  EXTER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978120" y="5484960"/>
            <a:ext cx="2096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1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NO 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LA 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033720" y="548496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2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PERA 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015880" y="5484960"/>
            <a:ext cx="20412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3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48520" y="556092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4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REPOSI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  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991800" y="2363760"/>
            <a:ext cx="53172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97280" y="2363760"/>
            <a:ext cx="6080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5792760" y="236376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316640" y="2440080"/>
            <a:ext cx="68436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744640" y="3735360"/>
            <a:ext cx="532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2560" y="3735360"/>
            <a:ext cx="98892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1754280" y="4802040"/>
            <a:ext cx="76032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20960" y="4802040"/>
            <a:ext cx="106524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430440" y="4878360"/>
            <a:ext cx="22082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11680" y="4878360"/>
            <a:ext cx="396072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27040" y="166680"/>
            <a:ext cx="8364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725560" y="1325520"/>
            <a:ext cx="385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 TIEMPO  DE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33520" y="2011320"/>
            <a:ext cx="8413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  Tiempo de Mantención                             2.2  Tiempo de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ventiva                                                           corr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3360" y="3078000"/>
            <a:ext cx="4999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.1 Tiempo de               2.1.2  Tiemp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tención                     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stemática                       Condicio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04760" y="4419720"/>
            <a:ext cx="89600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1.1.1              2.1.1.2               2.1.2.1            2.1.2.2                 2.2.1                       2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ivo de         Anexo  de          Activo  de      Anexo  de           Activo  de               Anexo  d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ntención     mantención       mantención     mantención         mantención            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ática       sistemática        condicional     condicional         correctiva                corr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logística                                 -  logística           -  ubicac.falla          - administr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preparación                            -  preparación      -  diagnóstico          - logí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reparación           - téc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verificación         - prep.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1144080" y="2668680"/>
            <a:ext cx="68436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211480" y="2668680"/>
            <a:ext cx="106524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53496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7304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3430080" y="4040280"/>
            <a:ext cx="22716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6240" y="4116240"/>
            <a:ext cx="379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6249600" y="2744640"/>
            <a:ext cx="98892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697880" y="2744640"/>
            <a:ext cx="68400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5" name=""/>
          <p:cNvGraphicFramePr/>
          <p:nvPr/>
        </p:nvGraphicFramePr>
        <p:xfrm>
          <a:off x="304920" y="609480"/>
          <a:ext cx="36576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3657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433440" y="544680"/>
            <a:ext cx="84484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BAJO DE GRUPO Nª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GRACION DEL MANTENIMIENTO DENTRO DEL SISTEMA DE LA EMPRESA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las empresas representadas en el Grup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 grado de coordinación existe  entre  Operaciones y Mantención?      BUENO ...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......    MALO....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actica la relación  Cliente - Servidor   SI......NO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 se detecta la satisfacción  del Clien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 u  observaciones verbales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u  observaciones formales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que lleva mantención..................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leva operaciones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é  indicadores?   mencione u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el  Diagrama adjunto llamado  “Tiempos relacionad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nción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ón  de  las  Máquinas”   indique  l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s  que  se dan  hoy  en su empresa  para una máqui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ìtica de la plan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que el valor  de la hora de detención:  USA $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 el valor del item 1.1.2  “Tiempo efectivo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que el ahorro posible mejorando los tiempos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840" y="1461960"/>
            <a:ext cx="71816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FNOR  NF  X  60-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 de acciones que permiten conservar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tablecer un bien a un estado espec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 a una situación tal  que pueda asegurar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icio determinad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2520" y="3747960"/>
            <a:ext cx="78080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S  38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binación de todas las acciones técnicas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tivas asociadas tendientes a conservar 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tem o restablecerlo a un estado tal que pueda re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función requeri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ta:  la función requerida puede ser definida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condición d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4320" y="1461960"/>
            <a:ext cx="8239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IL  - STD  -  721 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s  las  acciones  necesarias para conservar un í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estado especificado o restablecerlo a é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800" y="3062160"/>
            <a:ext cx="88336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GANIZACION EUROPEA DE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ción empresarial a la que se encomienda e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ante  de las instalaciones así como el conjunto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s de reparación y revisión necesarios para garant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funcionamiento regular y el buen estado de conser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as instalaciones productivas, servicios e instr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os establecimient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5920" y="396720"/>
            <a:ext cx="87346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sta hace poco se dec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l  OBJETIVO   DE  MANTENCION  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ISPONIBILIDAD  al Cost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Hoy, el MANTENIMIENTO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  integrar otros  aspec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ndimiento de la activ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tegridad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ficacia energ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calidad del producto y del servicio a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El   rendimiento  de  la función  mantenimiento  tiene relación  con cinco áreas de  gest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re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ex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9120" y="101520"/>
            <a:ext cx="75841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ONTROL   OPERACIONAL   DE   LA    PLA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31600" y="520560"/>
            <a:ext cx="2131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. O .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4240" y="3938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34240" y="397656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424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922720" y="4052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21280" y="4078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21280" y="411624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9760" y="41544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9716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96080" y="42181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84560" y="4255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87232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59000" y="4319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4640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83380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820840" y="4421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808240" y="4446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795640" y="44845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70440" y="45100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5748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44880" y="45734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19680" y="4611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69448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681160" y="4662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656320" y="4700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3076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617800" y="47512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592240" y="47768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67400" y="48020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4184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1664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108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65880" y="49039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27360" y="49291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0216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76960" y="4979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8440" y="50054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13240" y="5030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288040" y="5043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49520" y="50688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23960" y="508176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86160" y="5106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60960" y="5119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22800" y="5145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08464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46480" y="5183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21280" y="519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83120" y="52084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4496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906800" y="5234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68640" y="52466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43440" y="525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805280" y="5272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67120" y="52848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28960" y="52974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69080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40400" y="5310360"/>
            <a:ext cx="489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0188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63720" y="5322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259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487760" y="5335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4496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1144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61040" y="53467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52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8436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24620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084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57280" y="53467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119480" y="5335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0813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043160" y="5322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00500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966840" y="53103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92868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890880" y="5297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52720" y="5284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14560" y="5271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776400" y="5258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738240" y="5246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700080" y="5233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66228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637080" y="520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98560" y="5195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560400" y="5182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2260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497400" y="5144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458880" y="511920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433680" y="5106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395520" y="508176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370320" y="506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331800" y="504360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306240" y="50302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81400" y="50054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242880" y="49798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21804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92480" y="4929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66560" y="49039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14172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11616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09096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065400" y="48016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040200" y="47768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014640" y="4751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98944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97612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51280" y="466236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92572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912760" y="46116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887560" y="457344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7460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862000" y="4509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836800" y="44841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823840" y="44463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11600" y="44211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79828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78568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773080" y="4319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76084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59040" y="42559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747520" y="42177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73492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33840" y="415440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722320" y="41162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20880" y="407808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20880" y="4052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2088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709360" y="39765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08280" y="39384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08280" y="3900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709720" y="38620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72088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20880" y="3798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20880" y="37605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722680" y="37224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33840" y="36972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3528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747880" y="36208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759040" y="35956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76084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77344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604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798640" y="3455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811600" y="3430080"/>
            <a:ext cx="1080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24200" y="3392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36800" y="3367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62360" y="3328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87496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87560" y="3278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913120" y="3240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2572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51280" y="31892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976480" y="315108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8944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014640" y="31003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040200" y="3075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065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9096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11616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41720" y="29728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66920" y="29480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192480" y="29224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1804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43240" y="28717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81400" y="2858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306600" y="28332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332160" y="280836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370320" y="27957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95520" y="27702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33680" y="2757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459240" y="27320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497400" y="2719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52260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6076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98920" y="26683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37080" y="2655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662280" y="2642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00440" y="26301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38600" y="26175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776760" y="2604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814920" y="2592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852720" y="25794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90880" y="25779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92904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967200" y="2553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0536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043520" y="25412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813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948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57640" y="25286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08400" y="252720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4656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8472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2288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61040" y="252720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180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49600" y="2529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8776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259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64080" y="2541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0224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0400" y="25542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9116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9320" y="2577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67120" y="2579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5280" y="25923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43440" y="260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9000" y="2617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06800" y="26305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44960" y="2643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83120" y="2655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1280" y="2668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4684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8464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22800" y="2719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60960" y="2732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6520" y="275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24320" y="277020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49880" y="27957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88040" y="280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13240" y="2833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8800" y="28591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76960" y="2871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0216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7720" y="29224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65880" y="2948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91080" y="29732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1664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4184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67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2600" y="30751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8160" y="31003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076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56320" y="315108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81520" y="3189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9448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9680" y="324000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45240" y="3278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784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70440" y="33289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3367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08600" y="3392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21200" y="343044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34160" y="34560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4676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936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7232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4920" y="35956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96080" y="3621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9752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10120" y="3697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1280" y="3722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1280" y="37609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3080" y="37987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3424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34240" y="3862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34240" y="39006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17560" y="2801880"/>
            <a:ext cx="120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17560" y="2992320"/>
            <a:ext cx="133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18280" y="3182760"/>
            <a:ext cx="153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 LA  PLANT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7560" y="3360600"/>
            <a:ext cx="37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51280" y="3492360"/>
            <a:ext cx="26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0760" y="34923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95480" y="1182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08396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252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071720" y="12063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992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5840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5732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045800" y="1233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03320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02024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00764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995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969840" y="1270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956880" y="1271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94428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919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906120" y="1284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80560" y="12952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6796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43120" y="1297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1756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0460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79400" y="1309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5420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286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034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778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6760" y="13222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7636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2560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474840" y="132192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492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23360" y="13208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9852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296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347760" y="1309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3444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0960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284040" y="1296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7108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46240" y="12952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32920" y="1283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08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9476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169920" y="1271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7320" y="1270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144000" y="1258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3140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18800" y="1245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0584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93240" y="123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9216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8064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8400" y="12078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660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508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400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4000" y="1169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4000" y="1157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44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6600" y="1144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66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40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00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93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20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916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1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443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73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69920" y="106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5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0808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32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6240" y="1054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7144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404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960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34800" y="1029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77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29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852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3720" y="10288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9280" y="1017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84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60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636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120" y="10159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78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86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42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94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496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756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4312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6832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80920" y="1054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064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9080" y="1055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4464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5724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69840" y="1079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54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08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206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3356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4616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58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71720" y="11318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8252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843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5480" y="1157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30440" y="1068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30440" y="1081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51892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7840" y="1093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5063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4937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480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46816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4555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443320" y="1144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4300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4174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91840" y="115740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37924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366640" y="1170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341440" y="1181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316240" y="1182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303640" y="1193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27808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252160" y="11937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39560" y="11955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21472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18916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163240" y="1206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138400" y="1208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1128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06172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01096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96020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90944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8842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859040" y="1207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8334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8082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794960" y="1206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770120" y="1195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7445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7193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70604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1681200" y="1182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668600" y="1181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1643040" y="1169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63008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617840" y="1157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6045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5796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156636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5537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54116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539720" y="1118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52892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1515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15030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501920" y="1080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149040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488960" y="1055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907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50192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50192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0336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514520" y="1017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159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528920" y="10044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54152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541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566720" y="97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579680" y="966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488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17840" y="965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3044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43040" y="952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668600" y="941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8120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0640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719360" y="92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4456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701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953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80828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3348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590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842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980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6056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1132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6208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128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3840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63600" y="914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89160" y="915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147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399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52520" y="927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8080" y="928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0364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1624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41440" y="941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700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79600" y="954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92200" y="9651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1776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3036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43320" y="9795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559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68520" y="992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81120" y="1003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9228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940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06680" y="1017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1928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30440" y="1042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3044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684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76840" y="1017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6532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85236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5128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8397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82716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8149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8016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89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7764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76344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738600" y="1106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7260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71268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687840" y="111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67524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649680" y="1131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623760" y="1143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6111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586320" y="1144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6076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534840" y="1155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51000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4844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4592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408480" y="11574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357720" y="1168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306240" y="1168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3255480" y="11570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2306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2050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1798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15432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14136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3116160" y="1144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09096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06540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305244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027240" y="1130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301428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989440" y="1117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97612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9635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9509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2925720" y="1093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912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2900520" y="108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87200" y="1079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886120" y="1068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87460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862000" y="105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86056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84904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84796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83644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835360" y="1004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83680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2847960" y="979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84940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86236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7496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886120" y="941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8756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900520" y="928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131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92572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5128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963880" y="902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6480" y="901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989440" y="890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14640" y="888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272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052800" y="8780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6540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909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161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141720" y="864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5432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798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050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2306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255840" y="85212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6600" y="8510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57720" y="8510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08480" y="85248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592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844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1000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35200" y="8636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60760" y="865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8632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11520" y="876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24120" y="8762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49680" y="878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75240" y="888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878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13040" y="890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26000" y="901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38600" y="903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6380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76760" y="915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8936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1960" y="928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492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27520" y="941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4012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51280" y="954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5272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63880" y="9669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65680" y="979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76840" y="992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46240" y="4014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46240" y="4027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34720" y="4038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33640" y="4040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122120" y="4051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20680" y="405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109160" y="4065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1096560" y="4076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083960" y="40784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1071720" y="40892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58400" y="4091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1045800" y="4102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033200" y="410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008000" y="4114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99504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982800" y="4116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957240" y="412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944280" y="412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9190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8938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880560" y="414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557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8301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8049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779400" y="415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75420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7286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67752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2676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7636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2560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000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748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49280" y="4154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423360" y="415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10760" y="415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859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360360" y="4141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47400" y="4140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297000" y="4128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83680" y="412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58840" y="411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46240" y="4114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3292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220320" y="4103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94760" y="4102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182160" y="4090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69560" y="4089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57320" y="40784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144000" y="406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131400" y="405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118800" y="4039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17360" y="4026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105840" y="4014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04760" y="4001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6200" y="4000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17360" y="3989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7360" y="3976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9160" y="3975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30320" y="3963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1760" y="3962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44360" y="3951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57320" y="393876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9920" y="3936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2520" y="3925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5120" y="3924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20680" y="3912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3280" y="3911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46240" y="3900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58840" y="3898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84040" y="3887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70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22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47760" y="3874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03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59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1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23720" y="38620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928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48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00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2560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636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712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788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286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42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94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4960" y="3862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01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557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809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93880" y="3875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908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44640" y="3886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57240" y="3887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82800" y="3898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95400" y="3900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08000" y="3911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33560" y="3913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46160" y="3924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8760" y="3925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71720" y="3936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84320" y="39387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96920" y="3949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09520" y="3951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22480" y="3963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35080" y="3976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46240" y="3989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46240" y="4002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3800" y="2616120"/>
            <a:ext cx="1258920" cy="700200"/>
          </a:xfrm>
          <a:custGeom>
            <a:avLst/>
            <a:gdLst/>
            <a:ahLst/>
            <a:rect l="l" t="t" r="r" b="b"/>
            <a:pathLst>
              <a:path w="793" h="441">
                <a:moveTo>
                  <a:pt x="0" y="0"/>
                </a:moveTo>
                <a:lnTo>
                  <a:pt x="792" y="0"/>
                </a:lnTo>
                <a:lnTo>
                  <a:pt x="792" y="440"/>
                </a:lnTo>
                <a:lnTo>
                  <a:pt x="0" y="44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61960" y="5397480"/>
            <a:ext cx="1495440" cy="776160"/>
          </a:xfrm>
          <a:custGeom>
            <a:avLst/>
            <a:gdLst/>
            <a:ahLst/>
            <a:rect l="l" t="t" r="r" b="b"/>
            <a:pathLst>
              <a:path w="849" h="489">
                <a:moveTo>
                  <a:pt x="0" y="0"/>
                </a:moveTo>
                <a:lnTo>
                  <a:pt x="848" y="0"/>
                </a:lnTo>
                <a:lnTo>
                  <a:pt x="848" y="488"/>
                </a:lnTo>
                <a:lnTo>
                  <a:pt x="0" y="488"/>
                </a:lnTo>
                <a:lnTo>
                  <a:pt x="0" y="0"/>
                </a:lnTo>
              </a:path>
            </a:pathLst>
          </a:custGeom>
          <a:solidFill>
            <a:srgbClr val="cee17d"/>
          </a:solidFill>
          <a:ln cap="rnd"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35360" y="601992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17960" y="584208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34160" y="572760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88048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88048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880480" y="509436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8868960" y="51195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67880" y="514512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8856360" y="51703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8844120" y="51958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83080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88182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8805600" y="527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79264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8780040" y="53103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8755200" y="5335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8741880" y="53481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8717040" y="5373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8704440" y="5398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678880" y="5411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8652960" y="54244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862812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8602560" y="5462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8577360" y="5475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8551800" y="5487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8526600" y="5500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8501040" y="5513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8462880" y="5526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843768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8412120" y="5538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8373960" y="5551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834876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31024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828504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824688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822168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8183520" y="5562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815832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811980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8094600" y="55512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8056440" y="553896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803124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8005680" y="5525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7980480" y="5513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7941960" y="55004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916760" y="5487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7891560" y="5474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7866000" y="5462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84080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7827480" y="54244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7802640" y="5411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7777080" y="5398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764120" y="537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7738560" y="53478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7725960" y="5335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7701120" y="5310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768780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7675200" y="527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76626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764964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7637040" y="5195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635960" y="5169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7624440" y="51451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623000" y="51192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7612200" y="50943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61040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1040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61040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761040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612200" y="49672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7623000" y="49291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7624800" y="4916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635960" y="48906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637400" y="48657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765000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76629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76755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768816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7701120" y="4750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726320" y="4726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738920" y="47005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764480" y="4687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7777080" y="467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780264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827840" y="4636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84080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86600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891560" y="458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916760" y="4573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942320" y="4560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8048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8005680" y="4547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803124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056440" y="45338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8094600" y="4522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120160" y="4521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8158320" y="4509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83520" y="45086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22168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247240" y="45086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28504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10600" y="45100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8760" y="4521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73960" y="45226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412120" y="4533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43768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2880" y="45482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50104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526600" y="456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551800" y="4573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577360" y="4586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60256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62812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653320" y="463716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67888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704440" y="46753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717040" y="4687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74224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75520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780400" y="4751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79300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8059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8185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3116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844120" y="48657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856720" y="48909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867880" y="4916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869320" y="49291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880480" y="49672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88048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88048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61240" y="2933640"/>
            <a:ext cx="27000" cy="90720"/>
          </a:xfrm>
          <a:custGeom>
            <a:avLst/>
            <a:gdLst/>
            <a:ahLst/>
            <a:rect l="l" t="t" r="r" b="b"/>
            <a:pathLst>
              <a:path w="17" h="57">
                <a:moveTo>
                  <a:pt x="0" y="0"/>
                </a:moveTo>
                <a:lnTo>
                  <a:pt x="16" y="0"/>
                </a:lnTo>
                <a:lnTo>
                  <a:pt x="16" y="56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48640" y="2959200"/>
            <a:ext cx="1220760" cy="547560"/>
          </a:xfrm>
          <a:custGeom>
            <a:avLst/>
            <a:gdLst/>
            <a:ahLst/>
            <a:rect l="l" t="t" r="r" b="b"/>
            <a:pathLst>
              <a:path w="769" h="345">
                <a:moveTo>
                  <a:pt x="0" y="0"/>
                </a:moveTo>
                <a:lnTo>
                  <a:pt x="768" y="0"/>
                </a:lnTo>
                <a:lnTo>
                  <a:pt x="768" y="344"/>
                </a:lnTo>
                <a:lnTo>
                  <a:pt x="0" y="3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94400" y="3365640"/>
            <a:ext cx="1221120" cy="636480"/>
          </a:xfrm>
          <a:custGeom>
            <a:avLst/>
            <a:gdLst/>
            <a:ahLst/>
            <a:rect l="l" t="t" r="r" b="b"/>
            <a:pathLst>
              <a:path w="769" h="401">
                <a:moveTo>
                  <a:pt x="0" y="0"/>
                </a:moveTo>
                <a:lnTo>
                  <a:pt x="768" y="0"/>
                </a:lnTo>
                <a:lnTo>
                  <a:pt x="768" y="400"/>
                </a:lnTo>
                <a:lnTo>
                  <a:pt x="0" y="40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08080" y="1233360"/>
            <a:ext cx="0" cy="9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476360" y="113184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17840" y="11318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517840" y="190656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76360" y="194472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2506320" y="199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2493720" y="198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492280" y="1969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92160" y="119556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5440" y="209700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200" y="2135160"/>
            <a:ext cx="2527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0360" y="2236680"/>
            <a:ext cx="227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8896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01560" y="2261880"/>
            <a:ext cx="214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817560" y="2223720"/>
            <a:ext cx="11268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932040" y="2198160"/>
            <a:ext cx="99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033560" y="216036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096920" y="214740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3536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7684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836800" y="181764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13120" y="1906560"/>
            <a:ext cx="30312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218040" y="2021040"/>
            <a:ext cx="315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535200" y="1855800"/>
            <a:ext cx="30348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840120" y="1817640"/>
            <a:ext cx="619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15960" y="19954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28920" y="2033640"/>
            <a:ext cx="489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79680" y="2058840"/>
            <a:ext cx="22680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808280" y="213480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189160" y="1995480"/>
            <a:ext cx="3031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494080" y="196956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6494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92960" y="1271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92960" y="1284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492960" y="129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6481440" y="1309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480000" y="1322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6469200" y="1335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6455880" y="1347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54800" y="1360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6443280" y="1371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30680" y="1373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6418440" y="138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6405120" y="1398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639252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6379920" y="1411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36696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35436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341760" y="143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329520" y="14479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6316200" y="1449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291360" y="14605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6278040" y="1461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265440" y="1473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624060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6227280" y="147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620244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6189840" y="1486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16428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615132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612612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611316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08796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07500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6049440" y="1486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03684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601200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99868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5973840" y="1474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961240" y="14731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93568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5922720" y="1461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5909760" y="1460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5897160" y="1449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5872320" y="1447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5859000" y="1436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584640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583380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5820840" y="1410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580824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5795640" y="1398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783400" y="1385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5770080" y="137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757480" y="136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5744880" y="1347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743440" y="13352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5732640" y="1321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730840" y="1309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730840" y="1296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571932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5718240" y="128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5718240" y="1271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5718240" y="1258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5718240" y="1245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5718240" y="1233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71824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19680" y="1207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73084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3084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732640" y="1169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745240" y="1157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75784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7690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77044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834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7960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8086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8212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58341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84676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593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87232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89752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591012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92308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3568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5961240" y="10299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9738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990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120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603720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49800" y="10159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753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8796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1352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12612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1516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1642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89840" y="10288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202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2276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40600" y="1030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2658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784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291360" y="1042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3165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9520" y="1055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42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5472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6732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8028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39288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40548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41844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3104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44364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5480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56240" y="115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69200" y="11685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8000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81800" y="1182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49296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9296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9296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92960" y="1233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49440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6303960" y="1690200"/>
            <a:ext cx="13824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6265800" y="16776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6214680" y="165276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138720" y="160128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100560" y="1588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087600" y="1525680"/>
            <a:ext cx="111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6062760" y="1512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6062760" y="13860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087960" y="1360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100920" y="1297080"/>
            <a:ext cx="871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189840" y="127152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6265800" y="1258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03960" y="1258920"/>
            <a:ext cx="353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659640" y="1271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684840" y="12970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35600" y="13096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61160" y="1335240"/>
            <a:ext cx="6192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811560" y="1424160"/>
            <a:ext cx="1116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773760" y="156384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60800" y="1589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6684840" y="160164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608520" y="165276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570360" y="1677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6443640" y="1690560"/>
            <a:ext cx="1252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608520" y="1893600"/>
            <a:ext cx="1760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6558120" y="1855440"/>
            <a:ext cx="489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6506640" y="18428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 flipV="1">
            <a:off x="6481800" y="18176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405120" y="172836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6405480" y="1589040"/>
            <a:ext cx="2376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431040" y="15638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469200" y="1550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6481800" y="1487520"/>
            <a:ext cx="745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6558120" y="1474560"/>
            <a:ext cx="745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6634080" y="1461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659640" y="1461960"/>
            <a:ext cx="328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89760" y="147492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053120" y="151272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78680" y="1525680"/>
            <a:ext cx="10008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7155000" y="1639800"/>
            <a:ext cx="237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7053120" y="176688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6989760" y="18558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951600" y="18684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786720" y="189396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 flipV="1">
            <a:off x="6989400" y="2109960"/>
            <a:ext cx="1508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6951600" y="20966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691344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6888240" y="2058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6849720" y="20336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6760800" y="1931760"/>
            <a:ext cx="87480" cy="9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6761160" y="1805040"/>
            <a:ext cx="111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6773760" y="1716120"/>
            <a:ext cx="11268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6888240" y="1690200"/>
            <a:ext cx="489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6939000" y="167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977160" y="167796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358040" y="169056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08800" y="1728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446960" y="1741320"/>
            <a:ext cx="745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7497720" y="18432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7396200" y="196992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7357680" y="2058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731988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7205400" y="2097000"/>
            <a:ext cx="112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7142040" y="2109960"/>
            <a:ext cx="619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7319880" y="231264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7281720" y="2287080"/>
            <a:ext cx="36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7243560" y="2274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7205400" y="2261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 flipV="1">
            <a:off x="7180200" y="2236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 flipV="1">
            <a:off x="7103880" y="214740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7104240" y="1995120"/>
            <a:ext cx="1080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7116840" y="1982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155000" y="1969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18020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7243920" y="18936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307280" y="18684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332840" y="1868400"/>
            <a:ext cx="3664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01120" y="1893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2632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790040" y="1969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827840" y="19828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53400" y="20210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7853040" y="2058840"/>
            <a:ext cx="111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7814880" y="2185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7790040" y="21985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738560" y="223668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7687800" y="226224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7598880" y="2287440"/>
            <a:ext cx="874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7561080" y="2313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484760" y="232416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232840" y="2287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232840" y="230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8221320" y="231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220240" y="2325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22024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8208720" y="2351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207280" y="236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8195760" y="2376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8183160" y="2389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8170560" y="2401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8158320" y="2414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156520" y="2427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814500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8132400" y="244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8119800" y="245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8106840" y="2463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8082000" y="2465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8069400" y="2476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8056080" y="24782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804348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8018640" y="249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8005320" y="2502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7992720" y="2503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7967160" y="2514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79545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7941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916760" y="251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90380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7878240" y="2527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785340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7840800" y="25272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781524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780228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777708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76412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7738560" y="25156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7725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701120" y="2514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768780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 flipV="1">
            <a:off x="7675200" y="2503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7649640" y="2502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7637040" y="2490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762444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7612200" y="2478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7586640" y="2476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7573680" y="246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7561440" y="2463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7548120" y="2452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7535520" y="2439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752292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7509960" y="242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7508880" y="2414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7497360" y="2401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 flipV="1">
            <a:off x="7484760" y="2388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7472520" y="237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 flipV="1">
            <a:off x="7459200" y="2363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7458120" y="23508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745812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7446600" y="2325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7445520" y="2312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7445520" y="2300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445520" y="228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445520" y="2274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7445520" y="2261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7446960" y="2249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458120" y="2236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458120" y="2223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7459560" y="2211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472520" y="21981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483320" y="2185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851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7497720" y="2172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7508880" y="2160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7510320" y="214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2328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535880" y="2134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48480" y="212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61440" y="2120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7574040" y="2109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86640" y="2108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7612200" y="2096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62480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7637400" y="2084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650000" y="208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675560" y="2071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68816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701120" y="2070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726320" y="205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3892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76448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77708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80264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81524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840800" y="2057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85340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87860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90416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91676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942320" y="2058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95492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967520" y="2070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993080" y="207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005680" y="208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018640" y="208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04384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056440" y="2097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069400" y="2108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082000" y="2109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107200" y="2120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120160" y="212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132760" y="213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14536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156520" y="2147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58320" y="216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170920" y="217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1835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194680" y="2185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196120" y="2198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207280" y="221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209080" y="222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220240" y="2236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220240" y="22496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22168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232840" y="22748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6392880" y="1042920"/>
            <a:ext cx="11793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392880" y="11048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6760800" y="1042920"/>
            <a:ext cx="8110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358040" y="1055520"/>
            <a:ext cx="1634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561440" y="1055520"/>
            <a:ext cx="13788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9320" y="186840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701120" y="1868400"/>
            <a:ext cx="3636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599240" y="1068480"/>
            <a:ext cx="557280" cy="10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8920" y="106668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550520" y="952560"/>
            <a:ext cx="83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933640" y="93996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HIST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819160" y="1193760"/>
            <a:ext cx="6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820960" y="1384200"/>
            <a:ext cx="82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08360" y="16257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435680" y="125748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STALAC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435320" y="1447920"/>
            <a:ext cx="101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QUIN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536840" y="158760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EHICU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511280" y="1790640"/>
            <a:ext cx="8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O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702080" y="1917720"/>
            <a:ext cx="535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O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8160" y="1320840"/>
            <a:ext cx="96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.  PR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6680" y="1498680"/>
            <a:ext cx="10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0" y="1638360"/>
            <a:ext cx="90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 CONJ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0720" y="18669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54160" y="2006640"/>
            <a:ext cx="70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ERM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54080" y="388620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33880" y="2629080"/>
            <a:ext cx="87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2440" y="2768760"/>
            <a:ext cx="6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2800" y="2921040"/>
            <a:ext cx="109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4960" y="307332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  PRODU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04760" y="4040280"/>
            <a:ext cx="0" cy="88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33640" y="4052880"/>
            <a:ext cx="0" cy="86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1000" y="4890960"/>
            <a:ext cx="493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31760" y="4954680"/>
            <a:ext cx="2271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60360" y="5018040"/>
            <a:ext cx="455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17560" y="4928760"/>
            <a:ext cx="2397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1058760" y="4916160"/>
            <a:ext cx="74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1135080" y="489060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158840" y="4890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135080" y="4916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4080" y="415296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90360" y="435600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-CONJU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6320" y="464832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9360" y="4788000"/>
            <a:ext cx="55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6120" y="5380200"/>
            <a:ext cx="1512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MINIST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46120" y="5583240"/>
            <a:ext cx="97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7200" y="5786280"/>
            <a:ext cx="147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895840" y="6121440"/>
            <a:ext cx="94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94040" y="6273720"/>
            <a:ext cx="73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95480" y="6413400"/>
            <a:ext cx="94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15080" y="601200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744960" y="5816520"/>
            <a:ext cx="117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ABILIDAD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718320" y="604512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  FINAN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045120" y="485136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STOS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10280" y="5041800"/>
            <a:ext cx="1006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921280" y="438156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86440" y="4459320"/>
            <a:ext cx="35388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645240" y="52722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153200" y="561348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32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0080" y="5297400"/>
            <a:ext cx="35388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709040" y="4648320"/>
            <a:ext cx="93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EJO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645320" y="481320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726320" y="5079960"/>
            <a:ext cx="10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671600" y="5029200"/>
            <a:ext cx="128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ICIAR, / VER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811640" y="515628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SLA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886880" y="5359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33520" y="2933640"/>
            <a:ext cx="109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959520" y="3089160"/>
            <a:ext cx="58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J.I.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329240" y="356868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467480" y="3726000"/>
            <a:ext cx="732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 . I . 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797200" y="3200400"/>
            <a:ext cx="141120" cy="9036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48"/>
                </a:moveTo>
                <a:lnTo>
                  <a:pt x="0" y="56"/>
                </a:lnTo>
                <a:lnTo>
                  <a:pt x="24" y="32"/>
                </a:lnTo>
                <a:lnTo>
                  <a:pt x="16" y="0"/>
                </a:lnTo>
                <a:lnTo>
                  <a:pt x="88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808280" y="2986200"/>
            <a:ext cx="1027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803240" y="3086280"/>
            <a:ext cx="66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54360" y="32511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855800" y="337824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108080" y="4406760"/>
            <a:ext cx="12852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40"/>
                </a:moveTo>
                <a:lnTo>
                  <a:pt x="72" y="0"/>
                </a:lnTo>
                <a:lnTo>
                  <a:pt x="64" y="32"/>
                </a:lnTo>
                <a:lnTo>
                  <a:pt x="80" y="48"/>
                </a:lnTo>
                <a:lnTo>
                  <a:pt x="0" y="4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606760" y="40766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8"/>
                </a:moveTo>
                <a:lnTo>
                  <a:pt x="8" y="56"/>
                </a:lnTo>
                <a:lnTo>
                  <a:pt x="16" y="24"/>
                </a:lnTo>
                <a:lnTo>
                  <a:pt x="0" y="0"/>
                </a:lnTo>
                <a:lnTo>
                  <a:pt x="80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211400" y="4115880"/>
            <a:ext cx="1420560" cy="34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746440" y="4559400"/>
            <a:ext cx="12852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80" y="0"/>
                </a:moveTo>
                <a:lnTo>
                  <a:pt x="32" y="72"/>
                </a:lnTo>
                <a:lnTo>
                  <a:pt x="32" y="40"/>
                </a:lnTo>
                <a:lnTo>
                  <a:pt x="0" y="24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692360" y="5295960"/>
            <a:ext cx="128520" cy="102960"/>
          </a:xfrm>
          <a:custGeom>
            <a:avLst/>
            <a:gdLst/>
            <a:ahLst/>
            <a:rect l="l" t="t" r="r" b="b"/>
            <a:pathLst>
              <a:path w="81" h="65">
                <a:moveTo>
                  <a:pt x="0" y="64"/>
                </a:moveTo>
                <a:lnTo>
                  <a:pt x="48" y="0"/>
                </a:lnTo>
                <a:lnTo>
                  <a:pt x="48" y="32"/>
                </a:lnTo>
                <a:lnTo>
                  <a:pt x="80" y="48"/>
                </a:lnTo>
                <a:lnTo>
                  <a:pt x="0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1769760" y="4624560"/>
            <a:ext cx="1027080" cy="722160"/>
          </a:xfrm>
          <a:prstGeom prst="line">
            <a:avLst/>
          </a:prstGeom>
          <a:ln w="381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828440" y="4686480"/>
            <a:ext cx="95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STADO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638720" y="4902120"/>
            <a:ext cx="133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LAS  ORDENES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096640" y="5118120"/>
            <a:ext cx="75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76440" y="2273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24" y="0"/>
                </a:moveTo>
                <a:lnTo>
                  <a:pt x="48" y="72"/>
                </a:lnTo>
                <a:lnTo>
                  <a:pt x="24" y="56"/>
                </a:lnTo>
                <a:lnTo>
                  <a:pt x="0" y="80"/>
                </a:lnTo>
                <a:lnTo>
                  <a:pt x="2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9040" y="2552760"/>
            <a:ext cx="77760" cy="115920"/>
          </a:xfrm>
          <a:custGeom>
            <a:avLst/>
            <a:gdLst/>
            <a:ahLst/>
            <a:rect l="l" t="t" r="r" b="b"/>
            <a:pathLst>
              <a:path w="49" h="73">
                <a:moveTo>
                  <a:pt x="24" y="72"/>
                </a:moveTo>
                <a:lnTo>
                  <a:pt x="0" y="0"/>
                </a:lnTo>
                <a:lnTo>
                  <a:pt x="24" y="16"/>
                </a:lnTo>
                <a:lnTo>
                  <a:pt x="48" y="0"/>
                </a:lnTo>
                <a:lnTo>
                  <a:pt x="24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16040" y="2363760"/>
            <a:ext cx="1116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46240" y="2197080"/>
            <a:ext cx="128520" cy="90360"/>
          </a:xfrm>
          <a:custGeom>
            <a:avLst/>
            <a:gdLst/>
            <a:ahLst/>
            <a:rect l="l" t="t" r="r" b="b"/>
            <a:pathLst>
              <a:path w="81" h="57">
                <a:moveTo>
                  <a:pt x="0" y="0"/>
                </a:moveTo>
                <a:lnTo>
                  <a:pt x="80" y="8"/>
                </a:lnTo>
                <a:lnTo>
                  <a:pt x="56" y="24"/>
                </a:lnTo>
                <a:lnTo>
                  <a:pt x="64" y="5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51000" y="2933640"/>
            <a:ext cx="141480" cy="907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56"/>
                </a:moveTo>
                <a:lnTo>
                  <a:pt x="0" y="48"/>
                </a:lnTo>
                <a:lnTo>
                  <a:pt x="32" y="32"/>
                </a:lnTo>
                <a:lnTo>
                  <a:pt x="24" y="0"/>
                </a:lnTo>
                <a:lnTo>
                  <a:pt x="88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236600" y="2236680"/>
            <a:ext cx="186552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03360" y="2070000"/>
            <a:ext cx="12888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0" y="0"/>
                </a:moveTo>
                <a:lnTo>
                  <a:pt x="80" y="24"/>
                </a:lnTo>
                <a:lnTo>
                  <a:pt x="48" y="40"/>
                </a:lnTo>
                <a:lnTo>
                  <a:pt x="48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267000" y="2717640"/>
            <a:ext cx="115920" cy="103320"/>
          </a:xfrm>
          <a:custGeom>
            <a:avLst/>
            <a:gdLst/>
            <a:ahLst/>
            <a:rect l="l" t="t" r="r" b="b"/>
            <a:pathLst>
              <a:path w="73" h="65">
                <a:moveTo>
                  <a:pt x="72" y="64"/>
                </a:moveTo>
                <a:lnTo>
                  <a:pt x="0" y="40"/>
                </a:lnTo>
                <a:lnTo>
                  <a:pt x="24" y="24"/>
                </a:lnTo>
                <a:lnTo>
                  <a:pt x="32" y="0"/>
                </a:lnTo>
                <a:lnTo>
                  <a:pt x="72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481120" y="2135160"/>
            <a:ext cx="82404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73440" y="1981080"/>
            <a:ext cx="90360" cy="12888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0"/>
                </a:moveTo>
                <a:lnTo>
                  <a:pt x="56" y="64"/>
                </a:lnTo>
                <a:lnTo>
                  <a:pt x="24" y="56"/>
                </a:lnTo>
                <a:lnTo>
                  <a:pt x="8" y="8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3040" y="2071800"/>
            <a:ext cx="20160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46360" y="5207040"/>
            <a:ext cx="9072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56" y="0"/>
                </a:moveTo>
                <a:lnTo>
                  <a:pt x="48" y="80"/>
                </a:lnTo>
                <a:lnTo>
                  <a:pt x="32" y="48"/>
                </a:lnTo>
                <a:lnTo>
                  <a:pt x="0" y="56"/>
                </a:lnTo>
                <a:lnTo>
                  <a:pt x="5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203640" y="5931000"/>
            <a:ext cx="9036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80"/>
                </a:moveTo>
                <a:lnTo>
                  <a:pt x="16" y="0"/>
                </a:lnTo>
                <a:lnTo>
                  <a:pt x="24" y="24"/>
                </a:lnTo>
                <a:lnTo>
                  <a:pt x="56" y="24"/>
                </a:lnTo>
                <a:lnTo>
                  <a:pt x="0" y="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242880" y="5284800"/>
            <a:ext cx="35388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968720" y="521964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425920" y="5740560"/>
            <a:ext cx="115920" cy="11556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24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033880" y="5297400"/>
            <a:ext cx="430200" cy="49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895480" y="3568680"/>
            <a:ext cx="24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PREPARAR  / DESPACHAR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893680" y="3720960"/>
            <a:ext cx="186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895480" y="3873600"/>
            <a:ext cx="21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DO MOVIM.  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896200" y="4013280"/>
            <a:ext cx="16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DATOS DE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898360" y="4165560"/>
            <a:ext cx="247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BLECER   PARAMETR. PRO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895840" y="4317840"/>
            <a:ext cx="2013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SEGUIMIENTO  A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896920" y="4457880"/>
            <a:ext cx="25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MONITOREO DE LA PRODUCCION 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895120" y="4610160"/>
            <a:ext cx="140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 INVENTA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41240" y="4788000"/>
            <a:ext cx="1065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ND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516000" y="698400"/>
            <a:ext cx="215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ITOREO   DE  LOS CENTR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10120" y="914400"/>
            <a:ext cx="954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32520" y="3514680"/>
            <a:ext cx="1046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CU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32160" y="3679920"/>
            <a:ext cx="7520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IAR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032160" y="3844800"/>
            <a:ext cx="910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ROGRA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32520" y="3997440"/>
            <a:ext cx="770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STAD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32520" y="4162320"/>
            <a:ext cx="1003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EL EQU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645240" y="2057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48" y="0"/>
                </a:moveTo>
                <a:lnTo>
                  <a:pt x="48" y="80"/>
                </a:lnTo>
                <a:lnTo>
                  <a:pt x="32" y="56"/>
                </a:lnTo>
                <a:lnTo>
                  <a:pt x="0" y="64"/>
                </a:lnTo>
                <a:lnTo>
                  <a:pt x="4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6342120" y="2147400"/>
            <a:ext cx="353880" cy="139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696000" y="34034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0"/>
                </a:moveTo>
                <a:lnTo>
                  <a:pt x="24" y="56"/>
                </a:lnTo>
                <a:lnTo>
                  <a:pt x="32" y="24"/>
                </a:lnTo>
                <a:lnTo>
                  <a:pt x="0" y="16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6570720" y="3443400"/>
            <a:ext cx="1760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72240" y="4648320"/>
            <a:ext cx="12888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80" y="48"/>
                </a:moveTo>
                <a:lnTo>
                  <a:pt x="0" y="48"/>
                </a:lnTo>
                <a:lnTo>
                  <a:pt x="24" y="32"/>
                </a:lnTo>
                <a:lnTo>
                  <a:pt x="16" y="0"/>
                </a:lnTo>
                <a:lnTo>
                  <a:pt x="80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786720" y="4408560"/>
            <a:ext cx="82368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96080" y="3860640"/>
            <a:ext cx="128520" cy="7812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32"/>
                </a:moveTo>
                <a:lnTo>
                  <a:pt x="80" y="0"/>
                </a:lnTo>
                <a:lnTo>
                  <a:pt x="64" y="24"/>
                </a:lnTo>
                <a:lnTo>
                  <a:pt x="80" y="48"/>
                </a:lnTo>
                <a:lnTo>
                  <a:pt x="0" y="3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999040" y="3887640"/>
            <a:ext cx="100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267040" y="6386400"/>
            <a:ext cx="78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G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1980000">
            <a:off x="5797080" y="1585440"/>
            <a:ext cx="21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RUPOS  DE  T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2673360" y="1682640"/>
            <a:ext cx="3263760" cy="311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758960" y="920880"/>
            <a:ext cx="5092560" cy="4635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066680" y="2057400"/>
            <a:ext cx="18162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79440" y="708120"/>
            <a:ext cx="1459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PO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035080" y="5973840"/>
            <a:ext cx="446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CEPTO   DE  SISTEMA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143000" y="21337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38800" y="3886200"/>
            <a:ext cx="107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896920" y="548640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RVICIO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248520" y="152388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OGRAF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85800" y="380988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095880" y="1446840"/>
            <a:ext cx="13716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143000" y="609120"/>
            <a:ext cx="1676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55960" y="283356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Times New Roman"/>
              </a:rPr>
              <a:t>MANTEN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24880" y="15238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ABASTE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829880" y="32767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71800" y="449568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715000" y="236232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INGENI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638680" y="3581280"/>
            <a:ext cx="21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TRAL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95480" y="5410080"/>
            <a:ext cx="28195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380880" y="304920"/>
            <a:ext cx="854244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cc99"/>
                </a:solidFill>
                <a:latin typeface="Times New Roman"/>
              </a:rPr>
              <a:t>Temas  de  Permanente  Actu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CION  =   OPERACIONES  +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Relación Cliente -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0800" y="2743200"/>
            <a:ext cx="6780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 DE  MANTENCIO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20  A  40 %    de  los  costos  dir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60" y="4495680"/>
            <a:ext cx="599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RTEZA    DE 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gro de la Continuidad de Mar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0" name=""/>
          <p:cNvGraphicFramePr/>
          <p:nvPr/>
        </p:nvGraphicFramePr>
        <p:xfrm>
          <a:off x="7467480" y="2971800"/>
          <a:ext cx="114624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971800"/>
                    <a:ext cx="11462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2" name=""/>
          <p:cNvGraphicFramePr/>
          <p:nvPr/>
        </p:nvGraphicFramePr>
        <p:xfrm>
          <a:off x="5791320" y="1828800"/>
          <a:ext cx="160632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828800"/>
                    <a:ext cx="16063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4" name=""/>
          <p:cNvGraphicFramePr/>
          <p:nvPr/>
        </p:nvGraphicFramePr>
        <p:xfrm rot="10800000">
          <a:off x="6553080" y="4572000"/>
          <a:ext cx="2210040" cy="16574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4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6553080" y="4572000"/>
                    <a:ext cx="22100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3:13:44Z</dcterms:created>
  <dc:creator>Ernesto Gramsch</dc:creator>
  <dc:description/>
  <dc:language>en-US</dc:language>
  <cp:lastModifiedBy>Ernesto Gramsch</cp:lastModifiedBy>
  <dcterms:modified xsi:type="dcterms:W3CDTF">2004-03-23T18:38:53Z</dcterms:modified>
  <cp:revision>10</cp:revision>
  <dc:subject/>
  <dc:title>Presentación de PowerPoint</dc:title>
</cp:coreProperties>
</file>