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96D3-C40B-4F68-BB01-7D6DA07977E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0FB-A680-4423-AA0C-1D29632C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F34-553B-491B-B540-0383E3F5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FC7-E018-4D77-8C16-20F83792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29B-CF60-4DAA-A19C-E4D170EF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C86-1CCF-452F-9B66-FA17B69B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DEE-C3E7-4AF2-B475-5EE1A760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4B0-F042-4355-898B-9C7600F3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79A-08CF-4269-B817-12BAEF90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CEC-B147-4BD5-916F-1D84980B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0DC-3619-42D1-95E0-7E43A40F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169-B65E-4A0E-B4C7-A0CAA05F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3E7-CF68-4A27-B403-CBFA5B4B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7FE6-117B-4C64-854E-93015CDA4220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.wmf"/><Relationship Id="rId3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8640" y="-212040"/>
            <a:ext cx="21906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6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a0ab3"/>
                </a:solidFill>
                <a:latin typeface="Times New Roman"/>
              </a:rPr>
              <a:t>MOD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118640" cy="536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SISTEMA DE ADMINISTRACION</a:t>
            </a:r>
            <a:br>
              <a:rPr sz="2800"/>
            </a:b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DEL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ALISIS  ESTRATE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VISION,  MISION,  OBJETVOS  Y  MET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TENCION  PREVEN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  MAE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NOSTICO  DE 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DEN  DE 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ON  DE 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ministrar y proteger eficientemente las personas, los activos y los recursos, poniendo énfasis en desarrollar relaciones de colaboración y compromiso mutuo entre todos los integrantes de la organización y su ento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rientar la gestión hacia una óptima atención a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ncorporar las más modernas herramientas tecnológicas y de gestión a la función de Mantención, con el objeto de asegurar su competividad, incluyendo alta calidad de servicio, alta productividad y bajos c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sarrollar la función de Mantención en un marco de respeto por el med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28600"/>
            <a:ext cx="8305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OBJETIV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STRATEGICOS DE MANTENCION Y SERVICIOS</a:t>
            </a: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4440" y="990720"/>
            <a:ext cx="88995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Mantención es un plan estratégico de mediano plazo que se orienta a posicionar a la Superintendecia de Mantención y Servicios en un nivel de excelencia, que le permita cumplir eficientemente con la responsabilidad que le compete en el mantenimiento de la disponibilidad, confiabilidad y continuidad operacional de las instalaciones de Hidrometalurg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Las metas del proyecto deben alcanzarse a través de la participación de toda la organización de Mantención, mediante un proceso de cambios continuos, orientados a lograr los más altos niveles de competitividad que proyecten la gestión de la Superintendencia hacia el próximo sigl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tiene como primera prioridad cumplir con la Misión, Objetivos Estratégicos y Visión Futura de Mantención y Servicios.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ROYECTO MAN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4440" y="1600200"/>
            <a:ext cx="8899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rol de pérd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pacitación y desarrollo del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l servicio de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Protección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lidad del servicio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Desarrollo del área de Ingeniería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Gestión de abastecimientos e inven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 los costos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Implantación del módulo de mantención SAP-P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86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PLANES DE ACCIÓN PERMANENTES DE MANTEN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4440" y="1600200"/>
            <a:ext cx="8899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n instructivos que dicta la gerencia acerca de un tema y que deben ser acatados por todos los componentes de la organiz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interesado e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n que todos colaboren y actuen coordinadamente para obtener los objetivos previs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228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OLI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240" y="-144360"/>
            <a:ext cx="8920080" cy="15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6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RQUE UN MODELO  DE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ADMINISTRACION DEL MANTENIMIE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040" y="1401840"/>
            <a:ext cx="85345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:   OBTENER     EFICACIA,    ECONOMIA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     ESTABILIDAD   DE FUNCIONAMIENTO DE L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PLICIT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Objetivos y poli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STEMATIZ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los  procedimientos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CORPO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procedimientos que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l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TEG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todos ellos en un todo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ocido y compartido por toda 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43480" y="1143000"/>
          <a:ext cx="145116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3480" y="1143000"/>
                    <a:ext cx="14511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365960" y="878040"/>
          <a:ext cx="1028880" cy="13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960" y="878040"/>
                    <a:ext cx="10288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657600" y="1068480"/>
          <a:ext cx="12240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068480"/>
                    <a:ext cx="1224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68320" y="3755880"/>
          <a:ext cx="2173320" cy="136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8320" y="3755880"/>
                    <a:ext cx="217332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93560" y="3733920"/>
          <a:ext cx="1195560" cy="12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560" y="3733920"/>
                    <a:ext cx="119556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473200" y="3673440"/>
          <a:ext cx="674640" cy="174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73200" y="3673440"/>
                    <a:ext cx="67464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139760" y="4716360"/>
          <a:ext cx="1198800" cy="85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9760" y="4716360"/>
                    <a:ext cx="11988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885000" y="2568600"/>
          <a:ext cx="1593720" cy="125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85000" y="2568600"/>
                    <a:ext cx="159372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580080" y="2873520"/>
          <a:ext cx="1594080" cy="1253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0080" y="2873520"/>
                    <a:ext cx="159408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914400" y="1247760"/>
          <a:ext cx="1460520" cy="13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4400" y="1247760"/>
                    <a:ext cx="1460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7596360" y="4408560"/>
          <a:ext cx="92844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96360" y="4408560"/>
                    <a:ext cx="9284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429000" y="2590920"/>
          <a:ext cx="1792440" cy="1266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2590920"/>
                    <a:ext cx="179244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422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632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286000"/>
            <a:ext cx="2425680" cy="212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15360" y="4060800"/>
            <a:ext cx="2245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ODEGA DE REPU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15000" y="4898880"/>
            <a:ext cx="221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PTO. ADQUISI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8383680" y="3735360"/>
            <a:ext cx="226800" cy="760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1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3880" y="1827360"/>
            <a:ext cx="121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prob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2960" y="1598760"/>
            <a:ext cx="104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greso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9120" y="2665440"/>
            <a:ext cx="206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olicitud  de 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47080" y="2208240"/>
            <a:ext cx="131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8800" y="20797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4760" y="20638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86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74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118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4640" y="2209680"/>
            <a:ext cx="121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8880" y="22096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7680" y="220968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30960" y="40449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478560" y="2363760"/>
            <a:ext cx="37944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02360" y="46544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73560" y="44258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8280" y="41212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325920" y="4344840"/>
            <a:ext cx="7452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573080" y="4573080"/>
            <a:ext cx="152244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277800" y="4344480"/>
            <a:ext cx="9889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960" y="204840"/>
            <a:ext cx="670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ISTEMA  DE  INFORMACION  PARA  MANTENCION (típì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3000" y="4624560"/>
            <a:ext cx="35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50880" y="439596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55600" y="40910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7040" y="27496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16360" y="27496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744280" y="3049200"/>
            <a:ext cx="30348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320" y="3710160"/>
            <a:ext cx="18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56120" y="5637240"/>
            <a:ext cx="1294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Ejecu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869080" y="2287440"/>
            <a:ext cx="83664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868720" y="3811680"/>
            <a:ext cx="455400" cy="303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640120" y="4040280"/>
            <a:ext cx="531720" cy="684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97320" y="2719440"/>
            <a:ext cx="41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17360" y="2719440"/>
            <a:ext cx="4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7280" y="2287440"/>
            <a:ext cx="1065240" cy="53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963600" y="2363760"/>
            <a:ext cx="74520" cy="379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2560" y="2363760"/>
            <a:ext cx="22716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047000" y="5205240"/>
          <a:ext cx="280800" cy="416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47000" y="5205240"/>
                    <a:ext cx="2808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923160" y="5643720"/>
          <a:ext cx="676080" cy="541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923160" y="5643720"/>
                    <a:ext cx="6760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651800" y="5410080"/>
          <a:ext cx="438120" cy="878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51800" y="5410080"/>
                    <a:ext cx="43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flipH="1" flipV="1">
            <a:off x="7164360" y="4344480"/>
            <a:ext cx="303120" cy="121788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29120" y="3300480"/>
          <a:ext cx="612720" cy="369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129120" y="3300480"/>
                    <a:ext cx="612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6320" y="5865840"/>
            <a:ext cx="142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05520" y="5035680"/>
          <a:ext cx="1155600" cy="880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105520" y="5035680"/>
                    <a:ext cx="11556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184560" y="5637240"/>
            <a:ext cx="1515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04640" y="3527280"/>
            <a:ext cx="86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is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524400" y="4740120"/>
          <a:ext cx="730080" cy="766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524400" y="4740120"/>
                    <a:ext cx="7300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953440" y="2689200"/>
            <a:ext cx="99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fo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 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362320" y="609480"/>
          <a:ext cx="1295280" cy="838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62320" y="609480"/>
                    <a:ext cx="1295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43720" y="685800"/>
            <a:ext cx="177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arque  de  ED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160" y="289548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895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3600" y="31100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391520" y="1676520"/>
            <a:ext cx="15541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2819520"/>
            <a:ext cx="990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 Matr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648320"/>
            <a:ext cx="1782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rden de Trabajo de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6267600"/>
            <a:ext cx="14479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 de 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562000" y="464796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723920" y="2742840"/>
            <a:ext cx="381240" cy="609480"/>
          </a:xfrm>
          <a:prstGeom prst="up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8001000" y="228564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6477120" y="342864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579132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2438280"/>
            <a:ext cx="117324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atálogo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0" y="1066680"/>
            <a:ext cx="4800600" cy="5181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1828800"/>
            <a:ext cx="35053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2590920"/>
            <a:ext cx="19047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609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505320" y="1447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64832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334120" y="1371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244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41148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1240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361960" y="3962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560" y="24379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48040" y="228600"/>
            <a:ext cx="49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ón  Operacional         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Gestión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560" y="104292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actuale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Los clientes actuales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5640" y="96696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y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Clientes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1240" y="548640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Nuevos clientes para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 actuale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0088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50640" y="112860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mejor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4880" y="190512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trabaj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0320" y="31240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7840" y="4343400"/>
            <a:ext cx="8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5960" y="182880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 de Ro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qu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ingenier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1800" y="3048120"/>
            <a:ext cx="143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ver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4572000"/>
            <a:ext cx="134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dquis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5400" y="5410080"/>
            <a:ext cx="15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Investigación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Desarrol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2280" y="327672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Planificació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17400">
            <a:off x="2788200" y="331128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18000">
            <a:off x="5330880" y="326268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l  Progre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048120"/>
            <a:ext cx="11430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17400">
            <a:off x="3501720" y="343476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nan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246400">
            <a:off x="4983840" y="3469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bajo de Grupo N°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álisis estratégico del 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el análisis estratégico del taller o empresa que están analiz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ULACION  DEL  PLAN  ESTRATEGICO  DE  LA FUNCION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95280" y="1173240"/>
          <a:ext cx="7620120" cy="5379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295280" y="1173240"/>
                    <a:ext cx="7620120" cy="53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ificación Estraté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 quiere  ser  la Organiza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va a conseguir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que una Organización 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qui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se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marca el rumbo  y  es previa 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 la naturaleza, el rumbo y el propós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básico de la Organ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LA  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s un marco de referenci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rientador de las decisiones que conforman la naturaleza y el rumbo de una Función  en el contexto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las decisiones se toman en el contexto de un marco de referencia estratégico,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a dirección estará  bajo el control de los directivos que establecen dicho marc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visualización del </a:t>
            </a:r>
            <a:r>
              <a:rPr b="0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estado futuro deseado”,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e da significado a las  acciones futuras del pres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rata de un gran objetiv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anzar en un plazo razonab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en el tiempo necesario para producir un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mpres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tan largo como para no alcan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ocer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ltados. Normalmente se traba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plazos de 10 a 20 añ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Un sueño diseñado en forma seria y realista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as acciones que hoy se emprendan deben ser </a:t>
            </a: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gruentes con ese sueño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4440" y="1523880"/>
            <a:ext cx="88995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fuerzos de Mantención y Servicios están enfocados a lograr en el mediano plazo lo siguiente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r con un equipo humano altamente motivado, desarrollando sus funciones en un marco de gestión participativa.</a:t>
            </a: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lcanzar niveles de competitividad tales que jnos permita ser considerados una de la mejores áreas de mantención de la industria minera nacional.</a:t>
            </a: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ar con un alto nivel de trabajos planificados con una fuerte utilización de la Mantención Predictiva y la Ingeniería de Manten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ograr los costos de mantención más bajos en relación a instalaciones similares de hidrometalurgia del cob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r una de las áreas más seguras de la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28600"/>
            <a:ext cx="7010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  ESTRATEG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sión es la identificación de los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ósito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institución, conformada por las personas que estarán a cargo de llevar adelante el Plan de Desarrollo del área. Es la declaración fundamental que plantea sus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tivos y su acción en cuanto organiza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a respuesta a la pregu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Cuál es nuestro propósito como organización y cuál debiera ser en el futuro?, considerando cuáles son las </a:t>
            </a:r>
            <a:r>
              <a:rPr b="1" i="1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cione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s necesario desarrollar para alcanzar el “estado deseado” o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.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4440" y="1905120"/>
            <a:ext cx="8899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r, desarrollar y ejecutar las actividades de mantención de los equipos, instalaciones y sistemas de la Subgerencia Hidrometalurgia, efocados a lograr una alta competitividad, y disponibilidad de las instalaciones, con una actitud de servicio y contribuyendo directamente al cumplimiento de los planes y programas de tratamiento de minerales y producción de cobre de la Divi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"/>
            <a:ext cx="7162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AS  QUE  QUIERO  OBTENER,  HACER,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BLES  con  metas  concre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 o intento, propósito  de una ope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s objetivos que se establezcan orientarán el resto del proceso al reflejar las aspiraciones en materia  de desarrollo de la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ción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Es importante que se determinen de forma coherente  con los puntos fuertes y débiles, problemas y oportunidades detectadas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rante el diagnóstico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n el plazo de un año lograr .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28600"/>
            <a:ext cx="4800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7:19:35Z</dcterms:created>
  <dc:creator>Ernesto Gramsch</dc:creator>
  <dc:description/>
  <dc:language>en-US</dc:language>
  <cp:lastModifiedBy>Ernesto Gramsch</cp:lastModifiedBy>
  <dcterms:modified xsi:type="dcterms:W3CDTF">2004-04-29T18:04:09Z</dcterms:modified>
  <cp:revision>22</cp:revision>
  <dc:subject/>
  <dc:title>Presentación de PowerPoint</dc:title>
</cp:coreProperties>
</file>