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F9AD66-1AEB-4B81-92B9-5ABE7A37A45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A0EAA4-B91D-4CEE-A726-540EB6F1851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3E8BD8-2D94-48C6-9616-2545E189664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836-8416-48CF-83EB-E1DB8BF7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030-F63C-406A-A991-438DBF0B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3B9-EDDE-4444-B3D7-DD6ADDDD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466-611B-42CF-97DC-03BC85B7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2B6-9B3A-4F63-B49A-E134EC4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551-7F60-43B0-A301-9A1F8000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2FD-FEA1-4B17-B92B-B78EEB7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34C-912B-4DF9-9764-A31DF652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5B0-A34F-43A3-AA5B-9533B4A9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23A-BFCC-451C-9B69-E05E5F8A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745-6337-4912-A5D9-13A2F8E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5DD-515D-4B34-9821-6307874D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73D1E0-F6DD-4B1D-888A-DAF3438352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9144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360" y="1249200"/>
            <a:ext cx="86630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  AQUELLA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UN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  MEJO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FLEJE  EL  PROCESO  D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 DESGAST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OMPAÑA  A  LA  UTILIZACION  DE  UN  EQUIP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AR  LA  “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ALIZAR  LA  “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REGAR  LA  INFORMACION  DE  UTILIZAC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 LOS  PROCEDIMIENTOS  QUE  LO  REQUIERA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stema  de  Mantenimiento  Preventivo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nálisis  de  Fallas,  Confiabilidad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ción  de  Resultados, (Indicadores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RACTE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080" y="1249200"/>
            <a:ext cx="8820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DEFINIRA   LA  </a:t>
            </a:r>
            <a:r>
              <a:rPr b="1" lang="es-ES_tradnl" sz="2500" spc="-1" strike="noStrike">
                <a:solidFill>
                  <a:srgbClr val="00ae00"/>
                </a:solidFill>
                <a:latin typeface="Arial"/>
              </a:rPr>
              <a:t>UNIDAD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EN  QUE  SE  MI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“UTILIZACION  EFECTIVA”  PARA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EQUIPOS  E 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DADES  MAS  FRECU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Hor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Metros  perfor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Toneladas Molid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Días, semanas,  me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Kilómetros,  millas 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Cantidad de Oper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CONSIDERAN LAS CONDICIONES  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TRABAJO  COMO  UN  “FACTOR”  QUE  AFECTA  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UTILIZACION  EFECTIV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USARAN   “MEDIDORES”,  (que  deben 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eidos   por  operaciones  o  automáticament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" y="2038320"/>
            <a:ext cx="885528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PLANIFICACION  A  5  AÑOS  DE  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IVIDADES  DE  MANTENCION  RELACIONA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PROGRESO  Y   EL 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INCORPORACION  DEL  FUT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ACTIVIDAD  COMPLEMENTARIA  A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RTICIPACION  DE  MANTENCION  EN  LO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ES  DE  INVER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INCIPALES  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9400" y="1581120"/>
            <a:ext cx="8827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CION  DE  PLANES  DE  MANTENCION  Y PA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LOS  NUEV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DE  LOS  OBSOL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OMPRAS  DE  HERRAMIENTAS  E  INSTRUMENTOS 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EN LA ORGANIZACIÓN (Personal, contratistas, nue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 EN  LA  ATENCION  DE  EMERGENCIAS  Y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STUDIOS  DE  REPUESTOS 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GRADUAL  DE   REPUESTOS  DE  EQUIPOS  QUE 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AN  DE  B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PACI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MANUALES  EN  CASTELLANO,  COMPLETOS  Y  ACTU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UEBAS  DE  PUESTA  EN 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ESPECIFICACIONES  DE  MANTE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066680"/>
          <a:ext cx="73152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3152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TERMINACION  DE  RECURSOS  PARA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 MANTENCION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4320" y="1905120"/>
            <a:ext cx="85197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EVISTOS    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RGA DE TRABAJO  (PENDIENTE  Y  FU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FUERZAS  DE  TRABAJO  DISPONI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ON  Y  TOMA  DE 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REEMPLAZO  DEL  STOCK   POR  PEDIDOS  SEGÚN 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UPUESTO 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5238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360" y="-379800"/>
            <a:ext cx="8686800" cy="187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900"/>
            </a:b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520" y="1581120"/>
            <a:ext cx="88459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MAS  RELACIONADOS CON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DOTACION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 DE  TRABAJO,   DETECCION  DE  NECESIDAD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SUPERVISION  ....DEN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 ADMINISTRATIVO:  PLANIFICADORES,  ADMINI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CIONES  DE  EMPLEO,  INCE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ADA,  POR  AREAS,  DEPARTAMENTAL,  COMB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CONTRA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 LOS  INGENIER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GRAM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40" y="1201680"/>
            <a:ext cx="89557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CION  TRABAJADORES / PLAN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LANIFICACION  /  PROGRAM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SEPARADA   1    COMB.    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ESPECIALIDADE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A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DOS   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   3    CUATRO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GRADO  DE  DETA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  LA  PLAN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MAS   DE   INDIC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,  HERRAMIENTAS  ESPECIALES, 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INSTRUCCIONES  GENER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  LAS  TAREAS  IMPORTAN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TALLADA  DE  LAS  T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L   METODO  DE  TRABAJ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RECISION  DE  LA  ESTI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OS   HISTORICOS        3       METODO   DE  LOS  RANGOS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IOS  DE  TIEMPO     7       ESTANDARES  PRE  DETERM.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595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597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47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8240" y="223524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768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21640" y="3911760"/>
            <a:ext cx="482400" cy="1244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4495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4800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07440" y="5664240"/>
            <a:ext cx="4046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360" y="5664240"/>
            <a:ext cx="4064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6019920"/>
            <a:ext cx="381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6019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201680"/>
            <a:ext cx="918432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CULO  DEL  PU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EGÚN  EL  TIPO  DE  TRABAJO  QUE  REALIZARAN   L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PLANIFICADORES,  SE SUMAN  LOS  PUNTOS  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CADA  RUB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AJE   TOTAL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. / PLANIFIC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 -  5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 -  4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 -  3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-  3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-  2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-  2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TIVIDADES   PRINCIPALES  DEL 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PERVISOR   DE  PRIMERA 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LA  DETENCION  DEL  EQUIPO  CON 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S  CONDICIONES  DE 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CIONES  TE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EL 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  CALIDAD  DE   CADA  UNA  DE 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AR  EL  USO  DE  LOS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FICAR  LA  EJECUCION  DE  LOS   TRABAJOS  DE 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CIONAR  TODOS  LOS  TRABAJOS 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TIPOS  DE  ORGANIZACIÓN</a:t>
            </a:r>
            <a:br>
              <a:rPr sz="3600"/>
            </a:b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de   Man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OR  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PARTAMENTAL  (funcion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0" y="-58680"/>
            <a:ext cx="628632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920" y="1201680"/>
            <a:ext cx="93290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P. - M. PLANIF.- OTROS  T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L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PRONOSTICO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NO PLANIF.  EMERG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QUERIMIENTO OPORTU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NIC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ESPECIFICACION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ALAJE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  PROTECC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CEPC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ALMACEN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ÑOLES  DE  M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14600" y="152352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19810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14479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22096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00400" y="3428640"/>
            <a:ext cx="7621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733920"/>
            <a:ext cx="68580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52680" y="5334120"/>
            <a:ext cx="7621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8672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c0128"/>
                </a:solidFill>
                <a:latin typeface="Arial"/>
              </a:rPr>
              <a:t>Factores  que  afectan  los  costos  del 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gu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ane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terés del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  Matriz  de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ción  de 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  MAESTRO   DE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32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525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LAN MAESTR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e la planificación anual de las actividades de mantención asegurando la confección del presupuesto sobre bases de lo que realmente se piensa hacer. Garantiza una adecuada coordinación con la Producción a lo largo del 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Tipos  de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1200240"/>
            <a:ext cx="80276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PLANIFICACION  GLOBAL de las actividades 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INCLUYE  TODOS  LOS  EQUIPOS,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BAJOS  INTEGRADOS  (mecánicos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éctricos,  civiles, de inversión,  etc.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 BALANCEA  CON  LOS  RECURSOS DISP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MANEJA  UNIDADES  DE UTILIZACION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ACTUALIZA PERMANENTE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Tác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EJA  LOS CAMBIOS  DE LARGO  PLAZ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960" y="1492200"/>
            <a:ext cx="7522920" cy="468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2480" y="463860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1480" y="1601640"/>
            <a:ext cx="47880" cy="4708800"/>
          </a:xfrm>
          <a:custGeom>
            <a:avLst/>
            <a:gdLst/>
            <a:ahLst/>
            <a:rect l="l" t="t" r="r" b="b"/>
            <a:pathLst>
              <a:path w="30" h="2966">
                <a:moveTo>
                  <a:pt x="0" y="0"/>
                </a:moveTo>
                <a:lnTo>
                  <a:pt x="7" y="2965"/>
                </a:lnTo>
                <a:lnTo>
                  <a:pt x="29" y="2965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7840" y="1646280"/>
            <a:ext cx="58680" cy="4676760"/>
          </a:xfrm>
          <a:custGeom>
            <a:avLst/>
            <a:gdLst/>
            <a:ahLst/>
            <a:rect l="l" t="t" r="r" b="b"/>
            <a:pathLst>
              <a:path w="37" h="2946">
                <a:moveTo>
                  <a:pt x="0" y="0"/>
                </a:moveTo>
                <a:lnTo>
                  <a:pt x="0" y="2945"/>
                </a:lnTo>
                <a:lnTo>
                  <a:pt x="36" y="2945"/>
                </a:lnTo>
                <a:lnTo>
                  <a:pt x="3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600" y="1612800"/>
            <a:ext cx="36720" cy="4775400"/>
          </a:xfrm>
          <a:custGeom>
            <a:avLst/>
            <a:gdLst/>
            <a:ahLst/>
            <a:rect l="l" t="t" r="r" b="b"/>
            <a:pathLst>
              <a:path w="23" h="3008">
                <a:moveTo>
                  <a:pt x="0" y="0"/>
                </a:moveTo>
                <a:lnTo>
                  <a:pt x="0" y="3007"/>
                </a:lnTo>
                <a:lnTo>
                  <a:pt x="22" y="3007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6200" y="1623960"/>
            <a:ext cx="36360" cy="4699080"/>
          </a:xfrm>
          <a:custGeom>
            <a:avLst/>
            <a:gdLst/>
            <a:ahLst/>
            <a:rect l="l" t="t" r="r" b="b"/>
            <a:pathLst>
              <a:path w="23" h="2960">
                <a:moveTo>
                  <a:pt x="0" y="0"/>
                </a:moveTo>
                <a:lnTo>
                  <a:pt x="0" y="2959"/>
                </a:lnTo>
                <a:lnTo>
                  <a:pt x="22" y="295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05440" y="1601640"/>
            <a:ext cx="47520" cy="4730760"/>
          </a:xfrm>
          <a:custGeom>
            <a:avLst/>
            <a:gdLst/>
            <a:ahLst/>
            <a:rect l="l" t="t" r="r" b="b"/>
            <a:pathLst>
              <a:path w="30" h="2980">
                <a:moveTo>
                  <a:pt x="0" y="0"/>
                </a:moveTo>
                <a:lnTo>
                  <a:pt x="7" y="2979"/>
                </a:lnTo>
                <a:lnTo>
                  <a:pt x="29" y="297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56120" y="1601640"/>
            <a:ext cx="36720" cy="4643640"/>
          </a:xfrm>
          <a:custGeom>
            <a:avLst/>
            <a:gdLst/>
            <a:ahLst/>
            <a:rect l="l" t="t" r="r" b="b"/>
            <a:pathLst>
              <a:path w="23" h="2925">
                <a:moveTo>
                  <a:pt x="0" y="0"/>
                </a:moveTo>
                <a:lnTo>
                  <a:pt x="0" y="2924"/>
                </a:lnTo>
                <a:lnTo>
                  <a:pt x="22" y="2924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601640"/>
            <a:ext cx="36360" cy="4741920"/>
          </a:xfrm>
          <a:custGeom>
            <a:avLst/>
            <a:gdLst/>
            <a:ahLst/>
            <a:rect l="l" t="t" r="r" b="b"/>
            <a:pathLst>
              <a:path w="23" h="2987">
                <a:moveTo>
                  <a:pt x="0" y="0"/>
                </a:moveTo>
                <a:lnTo>
                  <a:pt x="0" y="2986"/>
                </a:lnTo>
                <a:lnTo>
                  <a:pt x="22" y="2986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5240" y="1612800"/>
            <a:ext cx="36720" cy="4719600"/>
          </a:xfrm>
          <a:custGeom>
            <a:avLst/>
            <a:gdLst/>
            <a:ahLst/>
            <a:rect l="l" t="t" r="r" b="b"/>
            <a:pathLst>
              <a:path w="23" h="2973">
                <a:moveTo>
                  <a:pt x="0" y="0"/>
                </a:moveTo>
                <a:lnTo>
                  <a:pt x="0" y="2972"/>
                </a:lnTo>
                <a:lnTo>
                  <a:pt x="22" y="2972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2640" y="2178000"/>
            <a:ext cx="7575480" cy="34920"/>
          </a:xfrm>
          <a:custGeom>
            <a:avLst/>
            <a:gdLst/>
            <a:ahLst/>
            <a:rect l="l" t="t" r="r" b="b"/>
            <a:pathLst>
              <a:path w="4772" h="22">
                <a:moveTo>
                  <a:pt x="0" y="21"/>
                </a:moveTo>
                <a:lnTo>
                  <a:pt x="4771" y="21"/>
                </a:lnTo>
                <a:lnTo>
                  <a:pt x="477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3800" y="2736720"/>
            <a:ext cx="7575480" cy="47880"/>
          </a:xfrm>
          <a:custGeom>
            <a:avLst/>
            <a:gdLst/>
            <a:ahLst/>
            <a:rect l="l" t="t" r="r" b="b"/>
            <a:pathLst>
              <a:path w="4772" h="30">
                <a:moveTo>
                  <a:pt x="0" y="22"/>
                </a:moveTo>
                <a:lnTo>
                  <a:pt x="4771" y="29"/>
                </a:lnTo>
                <a:lnTo>
                  <a:pt x="4771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4960" y="3274920"/>
            <a:ext cx="7564320" cy="34920"/>
          </a:xfrm>
          <a:custGeom>
            <a:avLst/>
            <a:gdLst/>
            <a:ahLst/>
            <a:rect l="l" t="t" r="r" b="b"/>
            <a:pathLst>
              <a:path w="4765" h="22">
                <a:moveTo>
                  <a:pt x="0" y="21"/>
                </a:moveTo>
                <a:lnTo>
                  <a:pt x="4764" y="21"/>
                </a:lnTo>
                <a:lnTo>
                  <a:pt x="4764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480" y="3844800"/>
            <a:ext cx="7575480" cy="36720"/>
          </a:xfrm>
          <a:custGeom>
            <a:avLst/>
            <a:gdLst/>
            <a:ahLst/>
            <a:rect l="l" t="t" r="r" b="b"/>
            <a:pathLst>
              <a:path w="4772" h="23">
                <a:moveTo>
                  <a:pt x="0" y="22"/>
                </a:moveTo>
                <a:lnTo>
                  <a:pt x="4771" y="22"/>
                </a:lnTo>
                <a:lnTo>
                  <a:pt x="477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1480" y="4371840"/>
            <a:ext cx="7597800" cy="36720"/>
          </a:xfrm>
          <a:custGeom>
            <a:avLst/>
            <a:gdLst/>
            <a:ahLst/>
            <a:rect l="l" t="t" r="r" b="b"/>
            <a:pathLst>
              <a:path w="4786" h="23">
                <a:moveTo>
                  <a:pt x="0" y="22"/>
                </a:moveTo>
                <a:lnTo>
                  <a:pt x="4785" y="22"/>
                </a:lnTo>
                <a:lnTo>
                  <a:pt x="478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800" y="4943520"/>
            <a:ext cx="7564320" cy="46080"/>
          </a:xfrm>
          <a:custGeom>
            <a:avLst/>
            <a:gdLst/>
            <a:ahLst/>
            <a:rect l="l" t="t" r="r" b="b"/>
            <a:pathLst>
              <a:path w="4765" h="29">
                <a:moveTo>
                  <a:pt x="0" y="21"/>
                </a:moveTo>
                <a:lnTo>
                  <a:pt x="4764" y="28"/>
                </a:lnTo>
                <a:lnTo>
                  <a:pt x="4764" y="6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560" y="5545080"/>
            <a:ext cx="7586640" cy="47520"/>
          </a:xfrm>
          <a:custGeom>
            <a:avLst/>
            <a:gdLst/>
            <a:ahLst/>
            <a:rect l="l" t="t" r="r" b="b"/>
            <a:pathLst>
              <a:path w="4779" h="30">
                <a:moveTo>
                  <a:pt x="0" y="22"/>
                </a:moveTo>
                <a:lnTo>
                  <a:pt x="4778" y="29"/>
                </a:lnTo>
                <a:lnTo>
                  <a:pt x="4778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480" y="1704960"/>
            <a:ext cx="6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7480" y="16938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5240" y="170496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6800" y="1716120"/>
            <a:ext cx="83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169380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320" y="167148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2000" y="168264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93920" y="16826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2080" y="16826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8120" y="228600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9280" y="28576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9280" y="33591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9304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120" y="44895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20" y="5060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6120" y="2409840"/>
            <a:ext cx="1332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0600" y="2421000"/>
            <a:ext cx="122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9720" y="2454120"/>
            <a:ext cx="12240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4920" y="2454120"/>
            <a:ext cx="120600" cy="117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2376360"/>
            <a:ext cx="12060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7000" y="2387520"/>
            <a:ext cx="142920" cy="14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0040" y="2376360"/>
            <a:ext cx="190440" cy="185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322360"/>
            <a:ext cx="210960" cy="20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4880" y="2930400"/>
            <a:ext cx="236520" cy="209520"/>
          </a:xfrm>
          <a:custGeom>
            <a:avLst/>
            <a:gdLst/>
            <a:ahLst/>
            <a:rect l="l" t="t" r="r" b="b"/>
            <a:pathLst>
              <a:path w="149" h="132">
                <a:moveTo>
                  <a:pt x="42" y="27"/>
                </a:moveTo>
                <a:lnTo>
                  <a:pt x="0" y="90"/>
                </a:lnTo>
                <a:lnTo>
                  <a:pt x="105" y="131"/>
                </a:lnTo>
                <a:lnTo>
                  <a:pt x="148" y="83"/>
                </a:lnTo>
                <a:lnTo>
                  <a:pt x="112" y="48"/>
                </a:lnTo>
                <a:lnTo>
                  <a:pt x="84" y="0"/>
                </a:lnTo>
                <a:lnTo>
                  <a:pt x="91" y="20"/>
                </a:lnTo>
                <a:lnTo>
                  <a:pt x="84" y="14"/>
                </a:lnTo>
                <a:lnTo>
                  <a:pt x="70" y="55"/>
                </a:lnTo>
                <a:lnTo>
                  <a:pt x="77" y="27"/>
                </a:lnTo>
                <a:lnTo>
                  <a:pt x="42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3002040"/>
            <a:ext cx="1429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3760" y="3013200"/>
            <a:ext cx="1429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0" y="3517920"/>
            <a:ext cx="1555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4480" y="3540240"/>
            <a:ext cx="24480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3540240"/>
            <a:ext cx="2444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1640" y="3562200"/>
            <a:ext cx="266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0880" y="3551400"/>
            <a:ext cx="25704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3562200"/>
            <a:ext cx="24444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3760" y="3540240"/>
            <a:ext cx="24444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6400" y="3551400"/>
            <a:ext cx="3110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6800" y="4121280"/>
            <a:ext cx="32220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4121280"/>
            <a:ext cx="3110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10120"/>
            <a:ext cx="377640" cy="871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5240" y="4121280"/>
            <a:ext cx="30024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41480" y="4603680"/>
            <a:ext cx="200160" cy="14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3600" y="4637160"/>
            <a:ext cx="22248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7680" y="4626000"/>
            <a:ext cx="29052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0800" y="5180040"/>
            <a:ext cx="1238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00560"/>
            <a:ext cx="14436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5200560"/>
            <a:ext cx="13500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1680" y="5168880"/>
            <a:ext cx="1447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1280" y="5222880"/>
            <a:ext cx="13464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9640" y="5200560"/>
            <a:ext cx="13356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81840" y="5222880"/>
            <a:ext cx="133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920" y="5191200"/>
            <a:ext cx="1335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" y="573084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228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8880" y="592776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5040" y="5600880"/>
            <a:ext cx="49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66080" y="590544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610240"/>
            <a:ext cx="48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2560" y="559908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6000" y="561960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3560" y="561024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2800" y="563076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3880" y="58611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3200" y="58737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7592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720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536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7104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2760" y="1276200"/>
            <a:ext cx="793476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RONOSTICAR RECUR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os y extern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o de Obra, Repuestos, Tercero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RVIR DE BASE PARA NEGOCI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PROGRAMA DE PRODUCCION y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LOS PROGRAMAS MENSU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NOSTICAR Y CONTROLAR LOS CO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EL PRESUPUESTO AN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960" y="1581120"/>
            <a:ext cx="8856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PLAN GENERA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QUE ABARCA UNO  O  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ACTUALIZA  SEMESTRAL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PREPARAN  VERSIONES  MENSUALE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TODOS  LOS  “EDIM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DE  LA  PLAN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ACTUALIZA  CONTINUAMENTE  SEGÚN  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SE  EVALUA  PARA  OBTENER  LA  AUTOR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DE  SU  COSTO  POR  PARTE  DEL  “DUEÑ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roducción,  operaciones,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160" y="1581120"/>
            <a:ext cx="903672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LOS  TRABAJOS 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LANIFICAD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ROS  TRABAJOS  (Inversión,  modificaciones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 TRABAJOS  SE  IDENTIFICAN  POR  SIMBO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 SE  ESPECIFICA: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7:59:09Z</dcterms:modified>
  <cp:revision>21309</cp:revision>
  <dc:subject/>
  <dc:title>ADMINISTRACION  DEL  MANTENIMIENTO</dc:title>
</cp:coreProperties>
</file>