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B16FD9-7E45-47CD-8979-E8890107AE7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0ED25BE-244C-4895-A52A-1850174FDA0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4CB60E-66ED-4E60-877F-8319F11C510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2D7-3297-4CBA-B08A-06D90160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EC3-EAA8-4FCB-A52A-BBC2B49D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197-C454-4BAD-9379-48D97ACC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EFA-F91C-4EA9-9EE9-C29D3E2B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FD2F-DDA3-4585-81B5-1C860E4C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6C1-AA87-491F-97D6-283890D3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259-EEC7-492E-AEB9-01429699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9D1-4553-4CB9-85F8-26B9191F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22C-D76A-4F64-B8AB-63C0034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912-0C8A-426A-81FD-FF7E01F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68A-0C10-451F-940F-EB32687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FC4-CF11-4EDF-BCC9-6EADD1BA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2F9E97-1FE7-40B1-94A3-E01E1DB8164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38080" y="9144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" y="1249200"/>
            <a:ext cx="8663040" cy="51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EDIR   AQUELLA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UNIDA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  MEJOR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FLEJE  EL  PROCESO  D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 DESGASTE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Q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OMPAÑA  A  LA  UTILIZACION  DE  UN  EQUI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AR  LA  “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ALIZAR  LA  “UTILIZACION  EFECTIVA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TREGAR  LA  INFORMACION  DE  UTILIZAC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 LOS  PROCEDIMIENTOS  QUE  LO  REQUIERA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stema  de  Mantenimiento  Preventivo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Análisis  de  Fallas,  Confiabilidad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valuación  de  Resultados, (Indicadores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2360" y="38160"/>
            <a:ext cx="7373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TILIZACION  DE  EQUIPOS  E  INSTALACIONES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ARACTERI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080" y="1249200"/>
            <a:ext cx="8820000" cy="52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DEFINIRA   LA  </a:t>
            </a:r>
            <a:r>
              <a:rPr b="1" lang="es-ES_tradnl" sz="2500" spc="-1" strike="noStrike">
                <a:solidFill>
                  <a:srgbClr val="00ae00"/>
                </a:solidFill>
                <a:latin typeface="Arial"/>
              </a:rPr>
              <a:t>UNIDAD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EN  QUE  SE  MI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“UTILIZACION  EFECTIVA”  PARA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EQUIPOS  E 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UNIDADES  MAS  FRECUEN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Hor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Metros  perfor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Toneladas Molidas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Días, semanas,  me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Kilómetros,  millas 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6600"/>
                </a:solidFill>
                <a:latin typeface="Arial"/>
              </a:rPr>
              <a:t>Cantidad de Oper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CONSIDERAN LAS CONDICIONES  DE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TRABAJO  COMO  UN  “FACTOR”  QUE  AFECTA  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  UTILIZACION  EFECTIV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SE  USARAN   “MEDIDORES”,  (que  deben ser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eidos   por  operaciones  o  automáticament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1066680"/>
            <a:ext cx="7010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" y="2038320"/>
            <a:ext cx="885528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PLANIFICACION  A  5  AÑOS  DE  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CTIVIDADES  DE  MANTENCION  RELACIONADA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500" spc="-1" strike="noStrike">
                <a:solidFill>
                  <a:srgbClr val="990000"/>
                </a:solidFill>
                <a:latin typeface="Arial"/>
              </a:rPr>
              <a:t>PROGRESO  Y   EL  CAMB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INCORPORACION  DEL  FUTU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 LA  ACTIVIDAD  COMPLEMENTARIA  A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ARTICIPACION  DE  MANTENCION  EN  LO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ES  DE  INVER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5520" y="-295920"/>
            <a:ext cx="648648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TACTICO</a:t>
            </a:r>
            <a:br>
              <a:rPr sz="39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INCIPALES   T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400" y="1581120"/>
            <a:ext cx="882756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RPORACION  DE  PLANES  DE  MANTENCION  Y PA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LOS  NUEV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DE  LOS  OBSOL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OMPRAS  DE  HERRAMIENTAS  E  INSTRUMENTOS 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EN LA ORGANIZACIÓN (Personal, contratistas, nue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MBIOS  EN  LA  ATENCION  DE  EMERGENCIAS  Y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STUDIOS  DE  REPUESTOS 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ELIMINACION  GRADUAL  DE   REPUESTOS  DE  EQUIPOS  QUE 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AN  DE  B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PACI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MANUALES  EN  CASTELLANO,  COMPLETOS  Y  ACTU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UEBAS  DE  PUESTA  EN  MAR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ESPECIFICACIONES  DE  MANTE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066680"/>
          <a:ext cx="731520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3152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618ff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18ffd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ETERMINACION  DE  RECURSOS  PARA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CURSOS  MATERI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19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  MANTENCION</a:t>
            </a:r>
            <a:br>
              <a:rPr sz="32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-4320" y="1905120"/>
            <a:ext cx="85197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EVISTOS       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MPREVI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HUM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CARGA DE TRABAJO  (PENDIENTE  Y  FUT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FUERZAS  DE  TRABAJO  DISPONI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ON  Y  TOMA  DE 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REEMPLAZO  DEL  STOCK   POR  PEDIDOS  SEGÚN 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PRESUPUESTO 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15238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5360" y="-379800"/>
            <a:ext cx="8686800" cy="187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3900"/>
            </a:b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6520" y="1581120"/>
            <a:ext cx="88459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TEMAS  RELACIONADOS CON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DOTACION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ES,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GA  DE  TRABAJO,   DETECCION  DE  NECESIDAD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AC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SUPERVISION  ....DEN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OYO  ADMINISTRATIVO:  PLANIFICADORES,  ADMINISTR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CIONES  DE  EMPLEO, 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IZADA,  POR  AREAS,  DEPARTAMENTAL,  COMB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CONTRAT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O  DE  LOS  INGENIER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GRAM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1932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040" y="1201680"/>
            <a:ext cx="89557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CION  TRABAJADORES / PLANIF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LANIFICACION  /  PROGRAMAC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SEPARADA   1    COMB.     2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ESPECIALIDADES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A  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DOS  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   3    CUATRO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GRADO  DE  DETAL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  LA  PLAN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MAS   DE   INDICA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ECIALIDAD,  HERRAMIENTAS  ESPECIALES, 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INSTRUCCIONES  GENERAL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  LAS  TAREAS  IMPORTAN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TALLADA  DE  LAS  T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DESCRIPCION  DEL   METODO  DE  TRABAJ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1" lang="en-US" sz="2000" spc="-1" strike="noStrike">
                <a:solidFill>
                  <a:srgbClr val="0a0ab3"/>
                </a:solidFill>
                <a:latin typeface="Arial"/>
              </a:rPr>
              <a:t>PRECISION  DE  LA  ESTIM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OS   HISTORICOS        3       METODO   DE  LOS  RANGOS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UDIOS  DE  TIEMPO     7       ESTANDARES  PRE  DETERM.    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595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59720" y="16257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47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48240" y="223524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57680" y="2311560"/>
            <a:ext cx="406440" cy="482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721640" y="3911760"/>
            <a:ext cx="482400" cy="1244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72400" y="41911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449568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72400" y="480060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07440" y="5664240"/>
            <a:ext cx="4046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81360" y="5664240"/>
            <a:ext cx="40644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1880" y="6019920"/>
            <a:ext cx="381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6019920"/>
            <a:ext cx="38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3360" y="-200160"/>
            <a:ext cx="61308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26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NTIDAD  DE PLANIFICADORES</a:t>
            </a:r>
            <a:r>
              <a:rPr b="1" lang="en-US" sz="39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201680"/>
            <a:ext cx="9184320" cy="50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CALCULO  DEL  PUNT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EGÚN  EL  TIPO  DE  TRABAJO  QUE  REALIZARAN   L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PLANIFICADORES,  SE SUMAN  LOS  PUNTOS  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CADA  RUB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AJE   TOTAL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BAJAD. / PLANIFIC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 -  5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  -  4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 -  3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 -  3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  -  25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  -  20  /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ACTIVIDADES   PRINCIPALES  DEL  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UPERVISOR   DE  PRIMERA  LI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LA  DETENCION  DEL  EQUIPO  CON 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S  CONDICIONES  DE 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CION  FINAL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CIONES  TE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EL  A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GILAR  LA  CALIDAD  DE   CADA  UNA  DE 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AR  EL  USO  DE  LOS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FICAR  LA  EJECUCION  DE  LOS   TRABAJOS  DE 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CIONAR  TODOS  LOS  TRABAJOS 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TIPOS  DE  ORGANIZACIÓN</a:t>
            </a:r>
            <a:br>
              <a:rPr sz="3600"/>
            </a:b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de   Man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ENTRALIZ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OR   A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PARTAMENTAL  (funcion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0" y="-58680"/>
            <a:ext cx="628632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CION  DE  RECURSOS  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CURS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1920" y="1201680"/>
            <a:ext cx="932904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P. - M. PLANIF.- OTROS  T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L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PRONOSTICO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MAE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. NO PLANIF.  EMERG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QUERIMIENTO OPORTU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NIC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ESPECIFICACION   </a:t>
            </a: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ALAJE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  PROTECC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RECEPC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"/>
              </a:rPr>
              <a:t>ALMACENAMI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ÑOLES  DE  M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N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1066680"/>
            <a:ext cx="655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14600" y="152352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19810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144792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2209680"/>
            <a:ext cx="4572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00400" y="3428640"/>
            <a:ext cx="762120" cy="30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733920"/>
            <a:ext cx="685800" cy="75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098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352680" y="5334120"/>
            <a:ext cx="76212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8672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fc0128"/>
                </a:solidFill>
                <a:latin typeface="Arial"/>
              </a:rPr>
              <a:t>Factores  que  afectan  los  costos  del 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bsolesc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egu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ane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eteri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terés del capi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  Matriz  de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rminación  de  Recur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   MAESTRO   DE 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  MAESTRO  TA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2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32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4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525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LAN MAESTRO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e la planificación anual de las actividades de mantención asegurando la confección del presupuesto sobre bases de lo que realmente se piensa hacer. Garantiza una adecuada coordinación con la Producción a lo largo del añ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Tipos  de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560" y="1200240"/>
            <a:ext cx="80276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PLANIFICACION  GLOBAL de las actividades d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INCLUYE  TODOS  LOS  EQUIPOS,  TODOS 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RABAJOS  INTEGRADOS  (mecánicos,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éctricos,  civiles, de inversión,  etc.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 BALANCEA  CON  LOS  RECURSOS DISP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MANEJA  UNIDADES  DE UTILIZACION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 SE ACTUALIZA PERMANENTE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fc0128"/>
                </a:solidFill>
                <a:latin typeface="Arial"/>
              </a:rPr>
              <a:t>Plan  Matriz  Táctic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EJA  LOS CAMBIOS  DE LARGO  PLAZ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500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960" y="1492200"/>
            <a:ext cx="7522920" cy="468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2480" y="463860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1480" y="1601640"/>
            <a:ext cx="47880" cy="4708800"/>
          </a:xfrm>
          <a:custGeom>
            <a:avLst/>
            <a:gdLst/>
            <a:ahLst/>
            <a:rect l="l" t="t" r="r" b="b"/>
            <a:pathLst>
              <a:path w="30" h="2966">
                <a:moveTo>
                  <a:pt x="0" y="0"/>
                </a:moveTo>
                <a:lnTo>
                  <a:pt x="7" y="2965"/>
                </a:lnTo>
                <a:lnTo>
                  <a:pt x="29" y="2965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7840" y="1646280"/>
            <a:ext cx="58680" cy="4676760"/>
          </a:xfrm>
          <a:custGeom>
            <a:avLst/>
            <a:gdLst/>
            <a:ahLst/>
            <a:rect l="l" t="t" r="r" b="b"/>
            <a:pathLst>
              <a:path w="37" h="2946">
                <a:moveTo>
                  <a:pt x="0" y="0"/>
                </a:moveTo>
                <a:lnTo>
                  <a:pt x="0" y="2945"/>
                </a:lnTo>
                <a:lnTo>
                  <a:pt x="36" y="2945"/>
                </a:lnTo>
                <a:lnTo>
                  <a:pt x="36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60600" y="1612800"/>
            <a:ext cx="36720" cy="4775400"/>
          </a:xfrm>
          <a:custGeom>
            <a:avLst/>
            <a:gdLst/>
            <a:ahLst/>
            <a:rect l="l" t="t" r="r" b="b"/>
            <a:pathLst>
              <a:path w="23" h="3008">
                <a:moveTo>
                  <a:pt x="0" y="0"/>
                </a:moveTo>
                <a:lnTo>
                  <a:pt x="0" y="3007"/>
                </a:lnTo>
                <a:lnTo>
                  <a:pt x="22" y="3007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6200" y="1623960"/>
            <a:ext cx="36360" cy="4699080"/>
          </a:xfrm>
          <a:custGeom>
            <a:avLst/>
            <a:gdLst/>
            <a:ahLst/>
            <a:rect l="l" t="t" r="r" b="b"/>
            <a:pathLst>
              <a:path w="23" h="2960">
                <a:moveTo>
                  <a:pt x="0" y="0"/>
                </a:moveTo>
                <a:lnTo>
                  <a:pt x="0" y="2959"/>
                </a:lnTo>
                <a:lnTo>
                  <a:pt x="22" y="295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05440" y="1601640"/>
            <a:ext cx="47520" cy="4730760"/>
          </a:xfrm>
          <a:custGeom>
            <a:avLst/>
            <a:gdLst/>
            <a:ahLst/>
            <a:rect l="l" t="t" r="r" b="b"/>
            <a:pathLst>
              <a:path w="30" h="2980">
                <a:moveTo>
                  <a:pt x="0" y="0"/>
                </a:moveTo>
                <a:lnTo>
                  <a:pt x="7" y="2979"/>
                </a:lnTo>
                <a:lnTo>
                  <a:pt x="29" y="2979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56120" y="1601640"/>
            <a:ext cx="36720" cy="4643640"/>
          </a:xfrm>
          <a:custGeom>
            <a:avLst/>
            <a:gdLst/>
            <a:ahLst/>
            <a:rect l="l" t="t" r="r" b="b"/>
            <a:pathLst>
              <a:path w="23" h="2925">
                <a:moveTo>
                  <a:pt x="0" y="0"/>
                </a:moveTo>
                <a:lnTo>
                  <a:pt x="0" y="2924"/>
                </a:lnTo>
                <a:lnTo>
                  <a:pt x="22" y="2924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1601640"/>
            <a:ext cx="36360" cy="4741920"/>
          </a:xfrm>
          <a:custGeom>
            <a:avLst/>
            <a:gdLst/>
            <a:ahLst/>
            <a:rect l="l" t="t" r="r" b="b"/>
            <a:pathLst>
              <a:path w="23" h="2987">
                <a:moveTo>
                  <a:pt x="0" y="0"/>
                </a:moveTo>
                <a:lnTo>
                  <a:pt x="0" y="2986"/>
                </a:lnTo>
                <a:lnTo>
                  <a:pt x="22" y="2986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45240" y="1612800"/>
            <a:ext cx="36720" cy="4719600"/>
          </a:xfrm>
          <a:custGeom>
            <a:avLst/>
            <a:gdLst/>
            <a:ahLst/>
            <a:rect l="l" t="t" r="r" b="b"/>
            <a:pathLst>
              <a:path w="23" h="2973">
                <a:moveTo>
                  <a:pt x="0" y="0"/>
                </a:moveTo>
                <a:lnTo>
                  <a:pt x="0" y="2972"/>
                </a:lnTo>
                <a:lnTo>
                  <a:pt x="22" y="2972"/>
                </a:lnTo>
                <a:lnTo>
                  <a:pt x="2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2640" y="2178000"/>
            <a:ext cx="7575480" cy="34920"/>
          </a:xfrm>
          <a:custGeom>
            <a:avLst/>
            <a:gdLst/>
            <a:ahLst/>
            <a:rect l="l" t="t" r="r" b="b"/>
            <a:pathLst>
              <a:path w="4772" h="22">
                <a:moveTo>
                  <a:pt x="0" y="21"/>
                </a:moveTo>
                <a:lnTo>
                  <a:pt x="4771" y="21"/>
                </a:lnTo>
                <a:lnTo>
                  <a:pt x="4771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3800" y="2736720"/>
            <a:ext cx="7575480" cy="47880"/>
          </a:xfrm>
          <a:custGeom>
            <a:avLst/>
            <a:gdLst/>
            <a:ahLst/>
            <a:rect l="l" t="t" r="r" b="b"/>
            <a:pathLst>
              <a:path w="4772" h="30">
                <a:moveTo>
                  <a:pt x="0" y="22"/>
                </a:moveTo>
                <a:lnTo>
                  <a:pt x="4771" y="29"/>
                </a:lnTo>
                <a:lnTo>
                  <a:pt x="4771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4960" y="3274920"/>
            <a:ext cx="7564320" cy="34920"/>
          </a:xfrm>
          <a:custGeom>
            <a:avLst/>
            <a:gdLst/>
            <a:ahLst/>
            <a:rect l="l" t="t" r="r" b="b"/>
            <a:pathLst>
              <a:path w="4765" h="22">
                <a:moveTo>
                  <a:pt x="0" y="21"/>
                </a:moveTo>
                <a:lnTo>
                  <a:pt x="4764" y="21"/>
                </a:lnTo>
                <a:lnTo>
                  <a:pt x="4764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1480" y="3844800"/>
            <a:ext cx="7575480" cy="36720"/>
          </a:xfrm>
          <a:custGeom>
            <a:avLst/>
            <a:gdLst/>
            <a:ahLst/>
            <a:rect l="l" t="t" r="r" b="b"/>
            <a:pathLst>
              <a:path w="4772" h="23">
                <a:moveTo>
                  <a:pt x="0" y="22"/>
                </a:moveTo>
                <a:lnTo>
                  <a:pt x="4771" y="22"/>
                </a:lnTo>
                <a:lnTo>
                  <a:pt x="4771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1480" y="4371840"/>
            <a:ext cx="7597800" cy="36720"/>
          </a:xfrm>
          <a:custGeom>
            <a:avLst/>
            <a:gdLst/>
            <a:ahLst/>
            <a:rect l="l" t="t" r="r" b="b"/>
            <a:pathLst>
              <a:path w="4786" h="23">
                <a:moveTo>
                  <a:pt x="0" y="22"/>
                </a:moveTo>
                <a:lnTo>
                  <a:pt x="4785" y="22"/>
                </a:lnTo>
                <a:lnTo>
                  <a:pt x="4785" y="0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3800" y="4943520"/>
            <a:ext cx="7564320" cy="46080"/>
          </a:xfrm>
          <a:custGeom>
            <a:avLst/>
            <a:gdLst/>
            <a:ahLst/>
            <a:rect l="l" t="t" r="r" b="b"/>
            <a:pathLst>
              <a:path w="4765" h="29">
                <a:moveTo>
                  <a:pt x="0" y="21"/>
                </a:moveTo>
                <a:lnTo>
                  <a:pt x="4764" y="28"/>
                </a:lnTo>
                <a:lnTo>
                  <a:pt x="4764" y="6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560" y="5545080"/>
            <a:ext cx="7586640" cy="47520"/>
          </a:xfrm>
          <a:custGeom>
            <a:avLst/>
            <a:gdLst/>
            <a:ahLst/>
            <a:rect l="l" t="t" r="r" b="b"/>
            <a:pathLst>
              <a:path w="4779" h="30">
                <a:moveTo>
                  <a:pt x="0" y="22"/>
                </a:moveTo>
                <a:lnTo>
                  <a:pt x="4778" y="29"/>
                </a:lnTo>
                <a:lnTo>
                  <a:pt x="4778" y="7"/>
                </a:lnTo>
                <a:lnTo>
                  <a:pt x="0" y="0"/>
                </a:lnTo>
                <a:lnTo>
                  <a:pt x="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480" y="1704960"/>
            <a:ext cx="6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07480" y="16938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5240" y="170496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6800" y="1716120"/>
            <a:ext cx="83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1693800"/>
            <a:ext cx="72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89320" y="1671480"/>
            <a:ext cx="718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2000" y="168264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93920" y="1682640"/>
            <a:ext cx="70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2080" y="168264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8120" y="228600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9280" y="28576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9280" y="33591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9280" y="393048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8120" y="4489560"/>
            <a:ext cx="75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0520" y="5060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S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6120" y="2409840"/>
            <a:ext cx="13320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30600" y="2421000"/>
            <a:ext cx="122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19720" y="2454120"/>
            <a:ext cx="12240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54920" y="2454120"/>
            <a:ext cx="120600" cy="117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81360" y="2376360"/>
            <a:ext cx="120600" cy="119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7000" y="2387520"/>
            <a:ext cx="142920" cy="141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0040" y="2376360"/>
            <a:ext cx="190440" cy="185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59800" y="2322360"/>
            <a:ext cx="210960" cy="206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74880" y="2930400"/>
            <a:ext cx="236520" cy="209520"/>
          </a:xfrm>
          <a:custGeom>
            <a:avLst/>
            <a:gdLst/>
            <a:ahLst/>
            <a:rect l="l" t="t" r="r" b="b"/>
            <a:pathLst>
              <a:path w="149" h="132">
                <a:moveTo>
                  <a:pt x="42" y="27"/>
                </a:moveTo>
                <a:lnTo>
                  <a:pt x="0" y="90"/>
                </a:lnTo>
                <a:lnTo>
                  <a:pt x="105" y="131"/>
                </a:lnTo>
                <a:lnTo>
                  <a:pt x="148" y="83"/>
                </a:lnTo>
                <a:lnTo>
                  <a:pt x="112" y="48"/>
                </a:lnTo>
                <a:lnTo>
                  <a:pt x="84" y="0"/>
                </a:lnTo>
                <a:lnTo>
                  <a:pt x="91" y="20"/>
                </a:lnTo>
                <a:lnTo>
                  <a:pt x="84" y="14"/>
                </a:lnTo>
                <a:lnTo>
                  <a:pt x="70" y="55"/>
                </a:lnTo>
                <a:lnTo>
                  <a:pt x="77" y="27"/>
                </a:lnTo>
                <a:lnTo>
                  <a:pt x="42" y="2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48160" y="3002040"/>
            <a:ext cx="1429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3760" y="3013200"/>
            <a:ext cx="1429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30400" y="3517920"/>
            <a:ext cx="15552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4480" y="3540240"/>
            <a:ext cx="24480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9440" y="3540240"/>
            <a:ext cx="2444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1640" y="3562200"/>
            <a:ext cx="26640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0880" y="3551400"/>
            <a:ext cx="257040" cy="856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0760" y="3562200"/>
            <a:ext cx="24444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43760" y="3540240"/>
            <a:ext cx="24444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0" y="3551400"/>
            <a:ext cx="31104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36800" y="4121280"/>
            <a:ext cx="3222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0" y="4121280"/>
            <a:ext cx="311040" cy="9684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10120"/>
            <a:ext cx="377640" cy="871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15240" y="4121280"/>
            <a:ext cx="300240" cy="75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41480" y="4603680"/>
            <a:ext cx="200160" cy="1414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3600" y="4637160"/>
            <a:ext cx="222480" cy="12996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97680" y="4626000"/>
            <a:ext cx="290520" cy="1080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90800" y="5180040"/>
            <a:ext cx="123840" cy="12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200560"/>
            <a:ext cx="14436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46440" y="5200560"/>
            <a:ext cx="13500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1680" y="5168880"/>
            <a:ext cx="144720" cy="14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1280" y="5222880"/>
            <a:ext cx="13464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19640" y="5200560"/>
            <a:ext cx="133560" cy="13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81840" y="5222880"/>
            <a:ext cx="13320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920" y="5191200"/>
            <a:ext cx="133560" cy="12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5000" y="5730840"/>
            <a:ext cx="93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C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228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58880" y="5927760"/>
            <a:ext cx="916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5040" y="5600880"/>
            <a:ext cx="49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66080" y="590544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5610240"/>
            <a:ext cx="487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4560" y="558792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2560" y="559908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66000" y="5619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3560" y="561024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32800" y="563076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H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3880" y="58611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3200" y="587376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7592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47200" y="588312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8536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71040" y="5894280"/>
            <a:ext cx="848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REP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2760" y="1276200"/>
            <a:ext cx="793476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c0128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PRONOSTICAR RECURS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ernos y extern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o de Obra, Repuestos, Terceros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RVIR DE BASE PARA NEGOCIA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L PROGRAMA DE PRODUCCION y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LOS PROGRAMAS MENSU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NOSTICAR Y CONTROLAR LOS CO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PARAR EL PRESUPUESTO AN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6960" y="1581120"/>
            <a:ext cx="885672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PLAN GENERA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QUE ABARCA UNO  O  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ACTUALIZA  SEMESTRALMEN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PREPARAN  VERSIONES  MENSUALE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TODOS  LOS  “EDIM”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DE  LA  PLAN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  ACTUALIZA  CONTINUAMENTE  SEGÚN  L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SE  EVALUA  PARA  OBTENER  LA  AUTOR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DE  SU  COSTO  POR  PARTE  DEL  “DUEÑO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Producción,  operaciones, ..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7680" y="-295920"/>
            <a:ext cx="8466120" cy="170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LAN MAESTRO DE MANTENCION</a:t>
            </a:r>
            <a:br>
              <a:rPr sz="3900"/>
            </a:b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160" y="1581120"/>
            <a:ext cx="903672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UESTRA  LOS  TRABAJOS 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TENCION  PLANIFICAD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TROS  TRABAJOS  (Inversión,  modificaciones..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S  TRABAJOS  SE  IDENTIFICAN  POR  SIMBOL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Y  SE  ESPECIFICA: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ILIZACION  REAL DE LOS  EDIM  Y  LA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JECUCION  REAL  DE  LOS  TRABAJ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7:59:09Z</dcterms:modified>
  <cp:revision>21309</cp:revision>
  <dc:subject/>
  <dc:title>ADMINISTRACION  DEL  MANTENIMIENTO</dc:title>
</cp:coreProperties>
</file>